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692-C182-4BD9-A32E-82BF90F8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D6C-48B1-4534-AE81-7A66E5DA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7F3-F5A9-4B51-BCF5-9261D25C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CF8-7FF8-4419-BED6-F2CEC413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7D5-DD92-48A4-A006-CEEFA4C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916-6BF6-4F1E-ACFF-696F6DB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08D-78C2-464B-B29E-28989EA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068-C027-4CCA-8B32-782E6A42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5F2-E722-4D75-968C-21A1A1BB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529-6CB4-47AD-8287-740FA15B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E09-0962-4753-91EB-047E4125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069-9987-4ABE-A542-511EE4AA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B29F-431E-4DCF-B766-6B47FCAE9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tección de Datos Pers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at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3300"/>
                </a:solidFill>
                <a:latin typeface="Times New Roman"/>
              </a:rPr>
              <a:t>Es una garantía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90720">
              <a:spcBef>
                <a:spcPts val="550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993300"/>
                </a:solidFill>
                <a:latin typeface="Times New Roman"/>
              </a:rPr>
              <a:t>Inherente a todo ser huma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90720">
              <a:spcBef>
                <a:spcPts val="550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993300"/>
                </a:solidFill>
                <a:latin typeface="Times New Roman"/>
              </a:rPr>
              <a:t>con independencia de su e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3300"/>
                </a:solidFill>
                <a:latin typeface="Times New Roman"/>
              </a:rPr>
              <a:t>No es absol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90720">
              <a:spcBef>
                <a:spcPts val="4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Times New Roman"/>
              </a:rPr>
              <a:t>Reconoce lim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7080" indent="-182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Libertad de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7080" indent="-182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Legítimo derecho a “sab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7080" indent="-182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untad de la 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3300"/>
                </a:solidFill>
                <a:latin typeface="Times New Roman"/>
              </a:rPr>
              <a:t>Consagrada a nivel supraco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90720">
              <a:spcBef>
                <a:spcPts val="4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Times New Roman"/>
              </a:rPr>
              <a:t>Tratados Internacionales: Derechos Humanos, Derechos del ni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aturaleza jurí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588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338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04920"/>
            <a:ext cx="3124080" cy="2057400"/>
          </a:xfrm>
          <a:prstGeom prst="cloudCallout">
            <a:avLst>
              <a:gd name="adj1" fmla="val -119967"/>
              <a:gd name="adj2" fmla="val 193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066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iteri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276720"/>
            <a:ext cx="3353040" cy="1981080"/>
          </a:xfrm>
          <a:prstGeom prst="cloudCallout">
            <a:avLst>
              <a:gd name="adj1" fmla="val -124666"/>
              <a:gd name="adj2" fmla="val 5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riteri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u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6480" y="1066680"/>
            <a:ext cx="3505320" cy="2590920"/>
          </a:xfrm>
          <a:prstGeom prst="cloudCallout">
            <a:avLst>
              <a:gd name="adj1" fmla="val -10055"/>
              <a:gd name="adj2" fmla="val 1093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981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riteri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pacial o 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486400"/>
            <a:ext cx="6629400" cy="1371600"/>
          </a:xfrm>
          <a:custGeom>
            <a:avLst/>
            <a:gdLst>
              <a:gd name="textAreaLeft" fmla="*/ 1657440 w 6629400"/>
              <a:gd name="textAreaRight" fmla="*/ 4972320 w 6629400"/>
              <a:gd name="textAreaTop" fmla="*/ 17136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7913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b2c1b"/>
                </a:solidFill>
                <a:latin typeface="Times New Roman"/>
              </a:rPr>
              <a:t>Límites al Derec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72200" y="6019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6338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001000" cy="1828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fcfc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92160" indent="-92160">
              <a:spcBef>
                <a:spcPts val="7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3300"/>
                </a:solidFill>
                <a:latin typeface="Times New Roman"/>
              </a:rPr>
              <a:t>Subje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7080" indent="-182520">
              <a:spcBef>
                <a:spcPts val="55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993300"/>
                </a:solidFill>
                <a:latin typeface="Times New Roman"/>
              </a:rPr>
              <a:t>Cualidades personales: Persona Pública- Persona Priv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ublic off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ublic Figure</a:t>
            </a:r>
            <a:r>
              <a:rPr b="0" lang="es-ES_tradnl" sz="2000" spc="-1" strike="noStrike">
                <a:solidFill>
                  <a:srgbClr val="339966"/>
                </a:solidFill>
                <a:latin typeface="BernhardMod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09880"/>
            <a:ext cx="5181480" cy="3048120"/>
          </a:xfrm>
          <a:prstGeom prst="cloudCallout">
            <a:avLst>
              <a:gd name="adj1" fmla="val -35722"/>
              <a:gd name="adj2" fmla="val -110416"/>
            </a:avLst>
          </a:prstGeom>
          <a:gradFill rotWithShape="0">
            <a:gsLst>
              <a:gs pos="0">
                <a:srgbClr val="cc99ff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4956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persona pública” o “persona privada”: conceptos  indeterminados o indeterminables a pri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066680"/>
            <a:ext cx="4038480" cy="4191120"/>
          </a:xfrm>
          <a:prstGeom prst="flowChartPunchedTape">
            <a:avLst/>
          </a:prstGeom>
          <a:gradFill rotWithShape="0">
            <a:gsLst>
              <a:gs pos="0">
                <a:srgbClr val="ffcc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36232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úblico: todo aquello que realizo en espacios de uso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990720"/>
            <a:ext cx="4114800" cy="4267080"/>
          </a:xfrm>
          <a:prstGeom prst="flowChartPunchedTape">
            <a:avLst/>
          </a:prstGeom>
          <a:gradFill rotWithShape="0">
            <a:gsLst>
              <a:gs pos="0">
                <a:srgbClr val="ffff00"/>
              </a:gs>
              <a:gs pos="100000">
                <a:srgbClr val="ff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1752480"/>
            <a:ext cx="3581640" cy="2653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ivado: todo aquello que realizo en espacios de uso exclusivo (permanente o transitori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25780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blema: hay acciones netamente íntimas que pudieran realizarse fuera de l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189000"/>
            <a:ext cx="398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iterio espa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189000"/>
            <a:ext cx="5105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iterio obje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066680"/>
            <a:ext cx="4191120" cy="54864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52480"/>
            <a:ext cx="3124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ernhardMod BT"/>
              </a:rPr>
              <a:t>En sentido posi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ernhardMod BT"/>
              </a:rPr>
              <a:t>Qué conductas quedan bajo la esfera de prot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ernhardMod BT"/>
              </a:rPr>
              <a:t>Qué esferas de la persona son las proteg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ernhardMod BT"/>
              </a:rPr>
              <a:t>Qué tipo de persona es el que puede ser sujeto d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838080"/>
            <a:ext cx="4572000" cy="54864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600200"/>
            <a:ext cx="39625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para determinar lo íntimo, deberemos 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Quien es el sujeto activo de la protección constitu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Cuál es la esfera de prot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Qué conductas son las protegidas y cuales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Cuáles son los espacios proteg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228600"/>
            <a:ext cx="50338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rmas Supranacionales que protegen la Intim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296280" cy="441972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3623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BernhardMod BT"/>
              </a:rPr>
              <a:t>Declaración universal de derechos humanos, naciones unidad, 194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Book Antiqua"/>
              </a:rPr>
              <a:t>Art. 12. " Nadie será objeto de injerencias arbitrarias en su vida privada, su familia, su domicilio o su correspondencia no de ataques a su honra o su reputación. Toda persona tiene derecho a la protección de la ley contra tales injerencias o ataques.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71640" y="228600"/>
            <a:ext cx="6143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cto Internacional de Derechos Civiles y Políticos. Asamblea General de las Naciones Unidas, 196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209680"/>
            <a:ext cx="7848360" cy="35816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895480"/>
            <a:ext cx="70866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Book Antiqua"/>
              </a:rPr>
              <a:t>Art. 17. " Nadie será objeto de injerencias arbitrarias en su vida privada, su familia, su domicilio, su correspondencia, ni de ataques ilegales a su honra y reputación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1143000"/>
            <a:ext cx="8229600" cy="579132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209680"/>
            <a:ext cx="70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71680" indent="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Book Antiqua"/>
              </a:rPr>
              <a:t>Art. 11. "Protección de la honra y de la dignidad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Book Antiqua"/>
              </a:rPr>
              <a:t>1. toda persona tiene derecho al respeto de su honor y al reconocimiento de su dign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Book Antiqua"/>
              </a:rPr>
              <a:t>2. Nadie puede ser objeto de injerencias arbitrarias o abusiva en su vida privada, en la de su familia, en su domicilio o en su correspondencia, ni de ataques ilegales a su honra o reputación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0"/>
            <a:ext cx="53737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ción Americana sobre Derechos Humanos, 196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28600"/>
            <a:ext cx="67197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io Para La Protección De Las Personas Con Respecto Al Tratamiento Automatizado De Datos De Carácter Personal. Consejo De Europa, 28.01.1981 Y Presentado Para Su Ratificación En 198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905120"/>
            <a:ext cx="7924680" cy="46479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274320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Book Antiqua"/>
              </a:rPr>
              <a:t>Art. 1. "Objeto y Fin: El fin del presente convenio es garantizar, en el territorio de cada parte, a cualquier persona física sean cuales fueren su nacionalidad o su residencia, el respeto de sus derechos y libertades fundamentales, concretamente su derecho a la vida privada, con respecto al tratamiento automatizado de los datos de carácter personal correspondientes a dicha persona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94360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Curso</a:t>
            </a:r>
            <a:r>
              <a:rPr b="0" lang="en-US" sz="2800" spc="-1" strike="noStrike">
                <a:solidFill>
                  <a:srgbClr val="cc3300"/>
                </a:solidFill>
                <a:latin typeface="Stenci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Beesknees ITC"/>
              </a:rPr>
              <a:t>Op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4680" y="6338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8300"/>
                </a:solidFill>
                <a:latin typeface="Beesknees ITC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267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fcfc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90000" indent="-900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cc"/>
                </a:solidFill>
                <a:latin typeface="Book Antiqua"/>
              </a:rPr>
              <a:t>Art. 16. "1. Ningún niño será objeto de injerencias arbitrarias o ilegales en su vida privada, su familia, su domicilio o su correspondencia, ni de ataques ilegales a su honra y a su reputación. 2. El niño tiene derecho a la protección de la ley contra esas injerencias o ata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000" indent="-900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cc"/>
                </a:solidFill>
                <a:latin typeface="Book Antiqua"/>
              </a:rPr>
              <a:t>Art. 17. "Los estados partes reconocen la importante función que desempeñan los medios de comunicación y velarán porque el niño tenga acceso a información y material procedente de diversas fuentes nacionales o internacionale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000" indent="-900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cc"/>
                </a:solidFill>
                <a:latin typeface="Book Antiqua"/>
              </a:rPr>
              <a:t>e) Promoverán la elaboración de directrices apropiadas para proteger al niño contra toda información y material perjudicial para su bienestar..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0"/>
            <a:ext cx="7543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vención Sobre Los Derechos Del Niño. Nueva York, 198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404280"/>
            <a:ext cx="59720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enes jurídicos protegidos en la normativa de tratamiento de datos pers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5660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atamiento Automat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Verdana"/>
              </a:rPr>
              <a:t>Reconociendo la necesidad de conciliar los valores fundamentales del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respeto a la vida privada</a:t>
            </a:r>
            <a:r>
              <a:rPr b="0" lang="es-ES" sz="2400" spc="-1" strike="noStrike">
                <a:solidFill>
                  <a:srgbClr val="cc3300"/>
                </a:solidFill>
                <a:latin typeface="Verdana"/>
              </a:rPr>
              <a:t> y de la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ibre circulación de la información</a:t>
            </a:r>
            <a:r>
              <a:rPr b="0" lang="es-ES" sz="2400" spc="-1" strike="noStrike">
                <a:solidFill>
                  <a:srgbClr val="cc3300"/>
                </a:solidFill>
                <a:latin typeface="Verdana"/>
              </a:rPr>
              <a:t> entre los pueblos 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io 108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epto de Tratamiento de Datos Pers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Verdana"/>
              </a:rPr>
              <a:t>Art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Verdana"/>
              </a:rPr>
              <a:t>c) por "tratamiento automatizado" se entiende las operaciones que a continuación se indican efectuadas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en su totalidad</a:t>
            </a:r>
            <a:r>
              <a:rPr b="0" lang="es-ES" sz="2000" spc="-1" strike="noStrike">
                <a:solidFill>
                  <a:srgbClr val="cc3300"/>
                </a:solidFill>
                <a:latin typeface="Verdana"/>
              </a:rPr>
              <a:t> o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en parte</a:t>
            </a:r>
            <a:r>
              <a:rPr b="0" lang="es-ES" sz="2000" spc="-1" strike="noStrike">
                <a:solidFill>
                  <a:srgbClr val="cc3300"/>
                </a:solidFill>
                <a:latin typeface="Verdana"/>
              </a:rPr>
              <a:t> con ayuda de procedimientos automatiz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Registro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aplicación a estos datos de operaciones lógicas aritmé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modificación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borrado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extracción de datos del fich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>
              <a:lnSpc>
                <a:spcPct val="90000"/>
              </a:lnSpc>
              <a:spcBef>
                <a:spcPts val="1125"/>
              </a:spcBef>
              <a:buClr>
                <a:srgbClr val="33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00"/>
                </a:solidFill>
                <a:latin typeface="Verdana"/>
              </a:rPr>
              <a:t>Difusión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Verdana"/>
              </a:rPr>
              <a:t>S/e Art. 3 c) opción de los estados para extender su aplicación a tratamiento 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epto en la ley 196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67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txBody>
          <a:bodyPr anchor="t">
            <a:normAutofit/>
          </a:bodyPr>
          <a:p>
            <a:pPr marL="18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Arial Narrow"/>
              </a:rPr>
              <a:t>Art. 2.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Arial Narrow"/>
              </a:rPr>
              <a:t>b) "tratamiento de datos personales”: cualquier operación o conjunto de operaciones, </a:t>
            </a:r>
            <a:r>
              <a:rPr b="1" lang="es-ES" sz="2200" spc="-1" strike="noStrike">
                <a:solidFill>
                  <a:srgbClr val="3333cc"/>
                </a:solidFill>
                <a:latin typeface="Arial Narrow"/>
              </a:rPr>
              <a:t>efectuadas o no, mediante procedimientos automatizados</a:t>
            </a:r>
            <a:r>
              <a:rPr b="1" lang="es-ES" sz="2200" spc="-1" strike="noStrike">
                <a:solidFill>
                  <a:srgbClr val="cc3300"/>
                </a:solidFill>
                <a:latin typeface="Arial Narrow"/>
              </a:rPr>
              <a:t>, y aplicadas a datos personales </a:t>
            </a:r>
            <a:r>
              <a:rPr b="1" lang="es-ES" sz="2200" spc="-1" strike="noStrike">
                <a:solidFill>
                  <a:srgbClr val="3333cc"/>
                </a:solidFill>
                <a:latin typeface="Arial Narrow"/>
              </a:rPr>
              <a:t>co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3352680"/>
            <a:ext cx="31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Recogi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Regis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Organiz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Conserv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Elaboración o modific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Extrac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Consult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Utiliz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342900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comunicación por transmis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Difus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Cualquier otra forma que facilite el acceso a los m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Cotejo o interconexión, Bloque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663300"/>
                </a:solidFill>
                <a:latin typeface="Arial Narrow"/>
              </a:rPr>
              <a:t>Supresión o destrucción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276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txBody>
          <a:bodyPr anchor="t">
            <a:normAutofit/>
          </a:bodyPr>
          <a:p>
            <a:pPr marL="187200" indent="-1872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Arial Narrow"/>
              </a:rPr>
              <a:t>Todo conjunto estructurado de datos personales, accesibles con arreglo a criterios determinados, ya sea centralizado, descentralizado o repartido de forma funcional o geográfic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 Narrow"/>
              </a:rPr>
              <a:t>Fases manuales quedan bajo la directiva en la medida que respondan  al concepto de fich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347640" y="304560"/>
            <a:ext cx="55674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epto de Fichero de Datos Personales en Europ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ncipios relativos al tra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648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  <a:effectLst>
            <a:outerShdw dist="17819" dir="2700000" blurRad="0" rotWithShape="0">
              <a:srgbClr val="791e00"/>
            </a:outerShdw>
          </a:effectLst>
        </p:spPr>
        <p:txBody>
          <a:bodyPr lIns="90000" rIns="90000" tIns="46800" bIns="468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Narrow"/>
              </a:rPr>
              <a:t>Calidad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)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 obtendrán y tratarán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leal y legítimamente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b) Se registrarán para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nalidades determinada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legítima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, y no se utilizarán de una forma incompatible con dichas finalidad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) Serán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adecuados, pertinentes y no excesivo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en relación con las finalidades para las cuales se hayan registrad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) Serán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exacto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y si fuera necesario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puestos al dí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) Se conservarán bajo una forma que permita la identificación de las personas concernidas durante un </a:t>
            </a: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período de tiempo que no exceda del necesario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para las finalidades para las cuales se hayan registrado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Narrow"/>
              </a:rPr>
              <a:t>Seguridad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didas apropiadas para evitar: destrucción o pérdida, accesos o difusión no autor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136000" cy="4032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  <a:effectLst>
            <a:outerShdw dist="17819" dir="2700000" blurRad="0" rotWithShape="0">
              <a:srgbClr val="791e00"/>
            </a:outerShdw>
          </a:effectLst>
        </p:spPr>
        <p:txBody>
          <a:bodyPr anchor="t">
            <a:normAutofit/>
          </a:bodyPr>
          <a:p>
            <a:pPr marL="18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Narrow"/>
              </a:rPr>
              <a:t>Libre circulación de los dato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Para eliminar los obstáculos a la circulación de datos personales, el nivel de protección de los derechos y libertades de las personas, por lo que se refiere al tratamiento de dichos datos, debe ser equivalente en todos los Estados miembros</a:t>
            </a:r>
            <a:r>
              <a:rPr b="0" lang="es-ES" sz="2000" spc="-1" strike="noStrike">
                <a:solidFill>
                  <a:srgbClr val="cc3300"/>
                </a:solidFill>
                <a:latin typeface="Arial Narrow"/>
              </a:rPr>
              <a:t> (</a:t>
            </a:r>
            <a:r>
              <a:rPr b="0" lang="es-ES_tradnl" sz="2000" spc="-1" strike="noStrike">
                <a:solidFill>
                  <a:srgbClr val="cc3300"/>
                </a:solidFill>
                <a:latin typeface="Arial Narrow"/>
              </a:rPr>
              <a:t>Directiva 46/95, Eur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Narrow"/>
              </a:rPr>
              <a:t>Respeto a los Derechos Fundamentales de las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onsiderando que las legislaciones nacionales relativas al tratamiento de datos personales tienen por objeto garantizar el respeto de los derechos y libertades fundamentales, particularmente del derecho al respeto de la vida privada reconocido en el artículo 8 del Convenio Europeo para la Protección de los Derechos Humanos y de las Libertades Fundamentales, así como en los principios generales del Derecho comunita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3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) El interesado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ha dado su consentimiento de forma inequívoca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,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b) Es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necesario para la ejecución de un contrato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en el que el interesado sea parte o para la aplicación de medidas precontractuales adoptadas a petición del interesado,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) Es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necesario para el cumplimiento de una obligación jurídica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a la que esté sujeto el responsable del tratamiento,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d) Es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necesario para proteger el interés vital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del interesado,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e) Es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necesario para el cumplimiento de una misión de interés público o inherente al ejercicio del poder público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conferido al responsable del tratamiento o a un tercero a quien se comuniquen los datos,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f) Es necesario para la 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satisfacción del interés legítimo perseguido por el responsable del tratamiento o por el tercero o terceros a los que se comuniquen los datos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, siempre que no prevalezca el interés o los derechos y libertades fundamentales del interesado que requieran protección con arreglo al apartado 1 del artículo 1 de la presente Direc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22560" y="260280"/>
            <a:ext cx="612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Principios Relativos a la legitimación del Tratamiento de Da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tegorías Especial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7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atos Sen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venio 108, 19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Artículo 6. Categorías particulares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Los datos de carácter personal que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revelen el origen racial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opiniones política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convicciones religiosa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 u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otras conviccione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así como los datos de carácter personal relativos a la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salud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 o a la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vida sexual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no podrán tratarse automáticamente a menos que el derecho interno prevea garantía apropiadas. La misma norma regirá en el caso de datos de carácter personal referentes a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condenas penale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rectiva 46/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1. Los Estados miembros prohibirán el tratamiento de datos personales que revelen el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origen racial o étnico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opiniones política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convicciones religiosas o filosófica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la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pertenencia a sindicato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, así como el tratamiento de lo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datos relativos a la salud o a la sexualidad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a)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Consentimiento explícito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 del interesado salvo en casos que por ley del Estado sea irrenunc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b)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Tratamiento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Para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respetar las obligaciones y derechos específicos del responsable del tratamiento en materia de Derecho laboral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 en la medida en que esté autorizado por la legislación y ésta prevea garantías adecuadas,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Para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salvaguardar el interés vital del interesado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 o de otra persona, en el supuesto de que el interesado esté física o jurídicamente incapacitado para dar su consentimiento,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Para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el reconocimiento, ejercicio o defensa de un derecho en un procedimiento judicial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Para la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prevención o para el diagnóstico médicos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,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la prestación de asistencia sanitaria o tratamientos médicos o la gestión de servicios sanitarios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, siempr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cc3300"/>
                </a:solidFill>
                <a:latin typeface="Arial Narrow"/>
              </a:rPr>
              <a:t>Tratamiento de datos sea realizado por un profesional sanitario sujeto al secreto profesional sea en virtud de la legislación nacional, o de las normas establecidas por las autoridades nacionales competentes, o por otra persona sujeta asimismo a una obligación equivalente de secret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timidad y Otros 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657600"/>
            <a:ext cx="5486400" cy="2133720"/>
          </a:xfrm>
          <a:prstGeom prst="cloudCallout">
            <a:avLst>
              <a:gd name="adj1" fmla="val 20861"/>
              <a:gd name="adj2" fmla="val -161902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962520"/>
            <a:ext cx="4800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cc99ff"/>
                </a:solidFill>
                <a:latin typeface="Times New Roman"/>
              </a:rPr>
              <a:t>Confidencial?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Privad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99"/>
                </a:solidFill>
                <a:latin typeface="Times New Roman"/>
              </a:rPr>
              <a:t>Interior?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9966"/>
                </a:solidFill>
                <a:latin typeface="Times New Roman"/>
              </a:rPr>
              <a:t>Secret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137160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Que se ejecuta a vista de pocos, familiar y domésticamente. Particular y personal de cada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581280" y="3962160"/>
            <a:ext cx="2286000" cy="10666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3657600"/>
            <a:ext cx="3200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culto, ignorado separado de la vista de los dem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eser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105520"/>
            <a:ext cx="990360" cy="76176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91120" y="1752480"/>
            <a:ext cx="1143000" cy="228600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imes New Roman"/>
              </a:rPr>
              <a:t>Que está en la parte de aden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447920" y="2819520"/>
            <a:ext cx="380880" cy="129528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3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 que se hace o dice con la confianza y seguridad recíp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c) Tratamiento efectuado por una fundación, una asociación o cualquier otro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organismo sin fin de lucro,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cuya finalidad sea política, filosófica, religiosa o sindical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en el curso de sus actividades legítimas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y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con las debidas garantía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, siempre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Se refiera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exclusivamente a sus miembros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o a las personas que mantengan contactos regulares con la fundación, la asociación o el organ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Por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razón de su finalidad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Con tal de que los datos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no se comuniquen a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cc3300"/>
                </a:solidFill>
                <a:latin typeface="Arial Narrow"/>
              </a:rPr>
              <a:t>terceros sin el consentimiento de los intere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d) Tratamiento sea necesario para la satisfacción de un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interés públi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os sobre Sanciones Civiles o Pe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Tratamiento de datos relativos a infracciones, condenas penales o medidas de 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98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Sólo podrá efectuarse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bajo el control de la autoridad pública</a:t>
            </a: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 o si hay previstas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garantías específicas en el Derecho nacional</a:t>
            </a: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, sin perjuicio de las excepciones que podrá establecer el Estado miembro basándose en disposiciones nacionales que prevean garantías apropiadas y específ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98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Sólo podrá llevarse un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registro completo</a:t>
            </a: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de condenas penales bajo el control de los poderes públicos</a:t>
            </a: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Tratamiento de datos relativos a sanciones administrativas o procesos civ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998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Los Estados </a:t>
            </a:r>
            <a:r>
              <a:rPr b="1" lang="es-ES" sz="1800" spc="-1" strike="noStrike">
                <a:solidFill>
                  <a:srgbClr val="3333cc"/>
                </a:solidFill>
                <a:latin typeface="Arial Narrow"/>
              </a:rPr>
              <a:t>podrán disponer</a:t>
            </a:r>
            <a:r>
              <a:rPr b="1" lang="es-ES" sz="1800" spc="-1" strike="noStrike">
                <a:solidFill>
                  <a:srgbClr val="663300"/>
                </a:solidFill>
                <a:latin typeface="Arial Narrow"/>
              </a:rPr>
              <a:t> que se realicen asimismo bajo el control de los poderes públic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os sensibles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2 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Datos sensibles: aquellos datos personales que se refieren a la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aracterísticas física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o morale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de las personas o a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hech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o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ircunstancias de su vida privada o intimidad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ales como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l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hábitos personale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el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origen racial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ideologías y opinione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olítica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la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reencias o convicciones religiosa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l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estados de salud físic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o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síquic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y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la vida sexual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ículo 10.- No pueden ser objeto de tratamiento los datos sensibles, salvo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uando la ley lo autorice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exista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onsentimiento del titular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o sean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datos necesarios para la determinación u otorgamiento de beneficios de salud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que correspondan a sus titul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os relativos a San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ículo 21.- L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organismos públic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que sometan a tratamiento datos personales relativos a condenas por delitos, infracciones administrativas o faltas disciplinarias,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no podrán comunicarl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una vez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rescrita la acción penal o administrativa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o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umplida o prescrita la sanción o la pena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Exceptúase los casos en que esa información les sea solicitada por l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tribunales de Justicia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u otr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organismos público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dentro del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ámbito de su competencia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quienes deberán guardar respecto de ella la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debida reserva o secreto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y, en todo caso, les será aplicable lo dispuesto en los artículos 5º, 7°, 11 y 1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atos Estadís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rectiva 46/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Considerando (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Considerando que el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tratamiento ulterior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 de datos personales, con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fines 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históricos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, estadístico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 o científicos no debe por lo general considerarse incompatible con los objetivos para los que se recogieron los datos, siempre y cuando los Estados miembros establezcan las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garantías adecuadas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; que dichas garantías deberán </a:t>
            </a:r>
            <a:r>
              <a:rPr b="0" lang="es-ES" sz="2400" spc="-1" strike="noStrike">
                <a:solidFill>
                  <a:srgbClr val="3333cc"/>
                </a:solidFill>
                <a:latin typeface="Arial Narrow"/>
              </a:rPr>
              <a:t>impedir que dichos datos sean utilizados para tomar medidas o decisiones contra cualquier persona;</a:t>
            </a: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Considerando (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Considerando que también se deberá autorizar a los Estados miembros, cuando esté justificado por razones de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interés público importante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, a hacer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excepciones a la prohibición de tratar categorías sensibles de dato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 en sectores como la salud pública y la protección social, particularmente en lo relativo a la garantía de la calidad y la rentabilidad, así como los procedimientos utilizados para resolver las reclamaciones de prestaciones y de servicios en el régimen del seguro enfermedad, la investigación científica y las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estadísticas pública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; que a ellos corresponde, no obstante, prever las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garantías apropiadas y específicas a los fines de proteger los derechos fundamentales y la vida privada de las 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Narrow"/>
              </a:rPr>
              <a:t>Considerando (40) (excepción al derecho de inform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Considerando, no obstante, que no es necesario imponer esta obligación si el interesado ya está informado, si el registro o la comunicación están expresamente previstos por la ley o si resulta imposible informarle, o ello implica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esfuerzos desproporcionado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,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como puede ser el caso para tratamientos con fines históricos, estadístico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 o científicos; que a este respecto pueden tomarse en consideración el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número de interesados,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 la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antigüedad de los dato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, y las </a:t>
            </a: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posibles medidas compensatorias</a:t>
            </a:r>
            <a:r>
              <a:rPr b="1" lang="es-ES" sz="2000" spc="-1" strike="noStrike">
                <a:solidFill>
                  <a:srgbClr val="cc33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Arial Narrow"/>
              </a:rPr>
              <a:t>Art. 11, siempre que se dispongan las garantías para proteger los derechos de los afec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quisitos de Legitim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6 b) Exceptuados del principio de fi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6 e) Exceptuados del principio de tempor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11 Exceptuados del Deber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572000"/>
            <a:ext cx="7010280" cy="9471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Narrow"/>
              </a:rPr>
              <a:t>siempre y cuando se establezcan las garantías oportu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28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timidad en Relación a Otras Garantías Co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20040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a94365"/>
              </a:gs>
              <a:gs pos="50000">
                <a:srgbClr val="ff6699"/>
              </a:gs>
              <a:gs pos="100000">
                <a:srgbClr val="a943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743200"/>
            <a:ext cx="3733920" cy="2362320"/>
          </a:xfrm>
          <a:custGeom>
            <a:avLst/>
            <a:gdLst>
              <a:gd name="textAreaLeft" fmla="*/ 852480 w 3733920"/>
              <a:gd name="textAreaRight" fmla="*/ 2881440 w 37339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505320"/>
            <a:ext cx="28195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9966"/>
                </a:solidFill>
                <a:latin typeface="BernhardMod BT"/>
              </a:rPr>
              <a:t>derecho al nomb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9966"/>
                </a:solidFill>
                <a:latin typeface="BernhardMod BT"/>
              </a:rPr>
              <a:t>Signo identificato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708280"/>
            <a:ext cx="3048120" cy="1828800"/>
          </a:xfrm>
          <a:custGeom>
            <a:avLst/>
            <a:gdLst>
              <a:gd name="textAreaLeft" fmla="*/ 695880 w 3048120"/>
              <a:gd name="textAreaRight" fmla="*/ 2352240 w 304812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32004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ernhardMod BT"/>
              </a:rPr>
              <a:t>inviolabilidad de domicil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1676520"/>
            <a:ext cx="2862360" cy="1447560"/>
          </a:xfrm>
          <a:custGeom>
            <a:avLst/>
            <a:gdLst>
              <a:gd name="textAreaLeft" fmla="*/ 653400 w 2862360"/>
              <a:gd name="textAreaRight" fmla="*/ 2208960 w 286236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2133720"/>
            <a:ext cx="187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BernhardMod BT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BernhardMod BT"/>
              </a:rPr>
              <a:t>D° a Propia Im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4508640"/>
            <a:ext cx="3733560" cy="2133360"/>
          </a:xfrm>
          <a:custGeom>
            <a:avLst/>
            <a:gdLst>
              <a:gd name="textAreaLeft" fmla="*/ 852120 w 3733560"/>
              <a:gd name="textAreaRight" fmla="*/ 2881440 w 3733560"/>
              <a:gd name="textAreaTop" fmla="*/ 487080 h 2133360"/>
              <a:gd name="textAreaBottom" fmla="*/ 164628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5105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BernhardMod BT"/>
              </a:rPr>
              <a:t>Secreto de las</a:t>
            </a:r>
            <a:r>
              <a:rPr b="1" lang="en-US" sz="2400" spc="-1" strike="noStrike">
                <a:solidFill>
                  <a:srgbClr val="33cc33"/>
                </a:solidFill>
                <a:latin typeface="BernhardMod BT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BernhardMod BT"/>
              </a:rPr>
              <a:t>comunicaciones</a:t>
            </a:r>
            <a:r>
              <a:rPr b="0" lang="en-US" sz="2400" spc="-1" strike="noStrike">
                <a:solidFill>
                  <a:srgbClr val="000000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170028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8000"/>
                </a:solidFill>
                <a:latin typeface="BernhardMod BT"/>
              </a:rPr>
              <a:t>Protección a la externalidad física de la perso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34340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ccecf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5257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ernhardMod BT"/>
              </a:rPr>
              <a:t>Protegen la libert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os Estadísticos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2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Dato estadístico: el dato que, en su origen, o como consecuencia de su tratamiento,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no puede ser asociado a un titular identificado o identificable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3962520"/>
            <a:ext cx="7696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. 2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Procedimiento de disociación de datos: todo tratamiento de datos personales de manera que la información que se obtenga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no pueda asociarse a persona determinada o determinable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Artículo 3°.- En toda recolección de datos personales que se realice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a través de encuesta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estudios de mercado o sondeos de opinión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ública u otros instrumentos semejante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, sin perjuicio de los demás derechos y obligaciones que esta ley regula, se deberá informar a las personas del carácter obligatorio o facultativo de las respuestas y el propósito para el cual se está solicitando la inform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La comunicación de sus resultado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debe omitir las señas que puedan permitir la identificación de las personas consultadas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diciones de legitimidad del Tra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Arial Narrow"/>
              </a:rPr>
              <a:t>Art. 4 inc.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Tampoco requerirá de esta autorización el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tratamiento de datos personales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 que realicen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personas jurídicas privadas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 para el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uso exclusivo suyo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,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de sus asociados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 y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de las entidades a que están afiliadas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, con </a:t>
            </a:r>
            <a:r>
              <a:rPr b="1" lang="es-ES_tradnl" sz="2000" spc="-1" strike="noStrike">
                <a:solidFill>
                  <a:srgbClr val="3333cc"/>
                </a:solidFill>
                <a:latin typeface="Arial Narrow"/>
              </a:rPr>
              <a:t>fines estadísticos</a:t>
            </a:r>
            <a:r>
              <a:rPr b="1" lang="es-ES_tradnl" sz="2000" spc="-1" strike="noStrike">
                <a:solidFill>
                  <a:srgbClr val="cc3300"/>
                </a:solidFill>
                <a:latin typeface="Arial Narrow"/>
              </a:rPr>
              <a:t>, de tarificación u otros de beneficio general de aquéllos</a:t>
            </a:r>
            <a:r>
              <a:rPr b="0" lang="es-ES_tradnl" sz="2000" spc="-1" strike="noStrike">
                <a:solidFill>
                  <a:srgbClr val="cc3300"/>
                </a:solidFill>
                <a:latin typeface="Arial Narro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igen de la Prot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809880"/>
            <a:ext cx="8153280" cy="221004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411480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cc3300"/>
                </a:solidFill>
                <a:latin typeface="Times New Roman"/>
              </a:rPr>
              <a:t>Right to be al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3300"/>
                </a:solidFill>
                <a:latin typeface="Times New Roman"/>
              </a:rPr>
              <a:t>Concepción priv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3300"/>
                </a:solidFill>
                <a:latin typeface="Times New Roman"/>
              </a:rPr>
              <a:t>Se construye la argumentación a partir del derecho de propiedad (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95280"/>
            <a:ext cx="7451640" cy="2210040"/>
          </a:xfrm>
          <a:prstGeom prst="cloudCallout">
            <a:avLst>
              <a:gd name="adj1" fmla="val -26907"/>
              <a:gd name="adj2" fmla="val 73851"/>
            </a:avLst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892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82880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</a:rPr>
              <a:t>1890-1891</a:t>
            </a:r>
            <a:r>
              <a:rPr b="1" i="1" lang="es-ES_tradnl" sz="2800" spc="-1" strike="noStrike">
                <a:solidFill>
                  <a:srgbClr val="cc3300"/>
                </a:solidFill>
                <a:latin typeface="Times New Roman"/>
              </a:rPr>
              <a:t> : Brandeis and War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</a:rPr>
              <a:t>The right of privacy” Harvard Law Review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3657600" cy="3200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57200"/>
            <a:ext cx="297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Times New Roman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Times New Roman"/>
              </a:rPr>
              <a:t>Derecho a ser dejado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Times New Roman"/>
              </a:rPr>
              <a:t>Frente a los mass media (medios de comunicación de mas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209680"/>
            <a:ext cx="3657600" cy="3200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2666880"/>
            <a:ext cx="3200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Times New Roman"/>
              </a:rPr>
              <a:t>Vulneraciones al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Times New Roman"/>
              </a:rPr>
              <a:t>Violaciones a la confianza (Breach of confid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Times New Roman"/>
              </a:rPr>
              <a:t>Violaciones al derecho de autor (copyrigh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Times New Roman"/>
              </a:rPr>
              <a:t>Difamación (defa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581280"/>
            <a:ext cx="3505320" cy="266724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962520"/>
            <a:ext cx="304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Reparación:</a:t>
            </a: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66"/>
                </a:solidFill>
                <a:latin typeface="Times New Roman"/>
              </a:rPr>
              <a:t>El mal causado debe ser objeto de una avaluación pecuniaria a efectos de su indem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endCxn id="80" idx="0"/>
          </p:cNvCxnSpPr>
          <p:nvPr/>
        </p:nvCxnSpPr>
        <p:spPr>
          <a:xfrm>
            <a:off x="5791320" y="2666880"/>
            <a:ext cx="1219680" cy="915120"/>
          </a:xfrm>
          <a:prstGeom prst="bentConnector2">
            <a:avLst/>
          </a:prstGeom>
          <a:ln w="7632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endCxn id="79" idx="1"/>
          </p:cNvCxnSpPr>
          <p:nvPr/>
        </p:nvCxnSpPr>
        <p:spPr>
          <a:xfrm flipH="1" rot="16200000">
            <a:off x="1196280" y="3070800"/>
            <a:ext cx="884880" cy="838800"/>
          </a:xfrm>
          <a:prstGeom prst="bentConnector2">
            <a:avLst/>
          </a:prstGeom>
          <a:ln w="7632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962520" y="152280"/>
            <a:ext cx="5181480" cy="1313640"/>
          </a:xfrm>
          <a:prstGeom prst="rect">
            <a:avLst/>
          </a:prstGeom>
          <a:solidFill>
            <a:srgbClr val="ffffcc"/>
          </a:solidFill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Intimidad es algo más que ser dejado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Medios tecnológicos generan nuevas formas de agresión (algo más que los medios de comunicaciones de mas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igen de la Protecció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562720"/>
            <a:ext cx="4952880" cy="106668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b2c1b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ab2c1b"/>
                </a:solidFill>
                <a:latin typeface="Times New Roman"/>
              </a:rPr>
              <a:t>Ensayo de William Pros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Publicado en California Law Review. 19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1371600"/>
            <a:ext cx="7740720" cy="4114800"/>
          </a:xfrm>
          <a:prstGeom prst="cloudCallout">
            <a:avLst>
              <a:gd name="adj1" fmla="val -46962"/>
              <a:gd name="adj2" fmla="val 50541"/>
            </a:avLst>
          </a:prstGeom>
          <a:solidFill>
            <a:srgbClr val="fceef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182880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dentifica cuatro situaciones violato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Intrusión en la soledad de la vida de una persona o en sus asuntos priv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Divulgación de hechos embarazosos que afectan a la pers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Publicidad que podría desprestigiar a la persona frente a la opin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Apropiación (con ventaja para la otra parte) del nombre o aspecto físico del querel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igen de la Protecció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143000"/>
            <a:ext cx="3733920" cy="1371600"/>
          </a:xfrm>
          <a:custGeom>
            <a:avLst/>
            <a:gdLst>
              <a:gd name="textAreaLeft" fmla="*/ 852480 w 3733920"/>
              <a:gd name="textAreaRight" fmla="*/ 2881440 w 37339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5238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00"/>
                </a:solidFill>
                <a:latin typeface="Times New Roman"/>
              </a:rPr>
              <a:t>Parker: "A Definition of Privacy" (19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219320"/>
            <a:ext cx="3352680" cy="1523880"/>
          </a:xfrm>
          <a:custGeom>
            <a:avLst/>
            <a:gdLst>
              <a:gd name="textAreaLeft" fmla="*/ 765360 w 3352680"/>
              <a:gd name="textAreaRight" fmla="*/ 2587320 w 335268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1600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00"/>
                </a:solidFill>
                <a:latin typeface="Times New Roman"/>
              </a:rPr>
              <a:t>Fried:“An Anatomi of Values” (197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971800"/>
            <a:ext cx="32004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Control sobre cuando y quien puede percibir distintos aspectos de nuestra persona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Control en general de la información que nos conci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362320"/>
            <a:ext cx="1066680" cy="304776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533160 h 3047760"/>
              <a:gd name="textAreaBottom" fmla="*/ 220968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50000">
                <a:srgbClr val="ffff00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743200"/>
            <a:ext cx="4114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Control sobre la información que nos concierne”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a Protección se restringe a la percepción u observación que ejercen los terceros sobre nuestra persona (se ejercita directamente sobre nuestra persona y no sobre papeles u otros objetos relativos a é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77320" y="2209680"/>
            <a:ext cx="1066680" cy="35053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613440 h 3505320"/>
              <a:gd name="textAreaBottom" fmla="*/ 2541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8120" y="0"/>
            <a:ext cx="5029200" cy="4419720"/>
          </a:xfrm>
          <a:custGeom>
            <a:avLst/>
            <a:gdLst>
              <a:gd name="textAreaLeft" fmla="*/ 1211040 w 5029200"/>
              <a:gd name="textAreaRight" fmla="*/ 3818160 w 5029200"/>
              <a:gd name="textAreaTop" fmla="*/ 1064160 h 4419720"/>
              <a:gd name="textAreaBottom" fmla="*/ 335556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28" y="12311"/>
                </a:lnTo>
                <a:lnTo>
                  <a:pt x="786" y="14846"/>
                </a:lnTo>
                <a:lnTo>
                  <a:pt x="4160" y="15112"/>
                </a:lnTo>
                <a:lnTo>
                  <a:pt x="3163" y="18437"/>
                </a:lnTo>
                <a:lnTo>
                  <a:pt x="6373" y="17363"/>
                </a:lnTo>
                <a:lnTo>
                  <a:pt x="6580" y="20741"/>
                </a:lnTo>
                <a:lnTo>
                  <a:pt x="9154" y="18544"/>
                </a:lnTo>
                <a:lnTo>
                  <a:pt x="10800" y="21600"/>
                </a:lnTo>
                <a:lnTo>
                  <a:pt x="12311" y="18572"/>
                </a:lnTo>
                <a:lnTo>
                  <a:pt x="14846" y="20814"/>
                </a:lnTo>
                <a:lnTo>
                  <a:pt x="15112" y="17440"/>
                </a:lnTo>
                <a:lnTo>
                  <a:pt x="18437" y="18437"/>
                </a:lnTo>
                <a:lnTo>
                  <a:pt x="17363" y="15227"/>
                </a:lnTo>
                <a:lnTo>
                  <a:pt x="20741" y="15020"/>
                </a:lnTo>
                <a:lnTo>
                  <a:pt x="18544" y="12446"/>
                </a:lnTo>
                <a:lnTo>
                  <a:pt x="21600" y="10800"/>
                </a:lnTo>
                <a:lnTo>
                  <a:pt x="18572" y="9289"/>
                </a:lnTo>
                <a:lnTo>
                  <a:pt x="20814" y="6754"/>
                </a:lnTo>
                <a:lnTo>
                  <a:pt x="17440" y="6488"/>
                </a:lnTo>
                <a:lnTo>
                  <a:pt x="18437" y="3163"/>
                </a:lnTo>
                <a:lnTo>
                  <a:pt x="15227" y="4237"/>
                </a:lnTo>
                <a:lnTo>
                  <a:pt x="15020" y="859"/>
                </a:lnTo>
                <a:lnTo>
                  <a:pt x="12446" y="3056"/>
                </a:lnTo>
                <a:lnTo>
                  <a:pt x="10800" y="0"/>
                </a:lnTo>
                <a:lnTo>
                  <a:pt x="9289" y="3028"/>
                </a:lnTo>
                <a:lnTo>
                  <a:pt x="6754" y="786"/>
                </a:lnTo>
                <a:lnTo>
                  <a:pt x="6488" y="4160"/>
                </a:lnTo>
                <a:lnTo>
                  <a:pt x="3163" y="3163"/>
                </a:lnTo>
                <a:lnTo>
                  <a:pt x="4237" y="6373"/>
                </a:lnTo>
                <a:lnTo>
                  <a:pt x="859" y="6580"/>
                </a:lnTo>
                <a:lnTo>
                  <a:pt x="3056" y="9154"/>
                </a:lnTo>
                <a:lnTo>
                  <a:pt x="0" y="1080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29528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BernhardMod BT"/>
              </a:rPr>
              <a:t>el control que el sujeto puede ejercer respecto del conocimiento que de su persona tengan los terceros</a:t>
            </a:r>
            <a:r>
              <a:rPr b="1" lang="en-US" sz="2400" spc="-1" strike="noStrike">
                <a:solidFill>
                  <a:srgbClr val="000000"/>
                </a:solidFill>
                <a:latin typeface="BernhardMod B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2819520" cy="2210040"/>
          </a:xfrm>
          <a:prstGeom prst="wedgeEllipseCallout">
            <a:avLst>
              <a:gd name="adj1" fmla="val 9120"/>
              <a:gd name="adj2" fmla="val 185921"/>
            </a:avLst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7621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bertad inform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97520" y="4114800"/>
            <a:ext cx="2346480" cy="1981080"/>
          </a:xfrm>
          <a:prstGeom prst="wedgeEllipseCallout">
            <a:avLst>
              <a:gd name="adj1" fmla="val -115356"/>
              <a:gd name="adj2" fmla="val 12902"/>
            </a:avLst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83560" y="4419720"/>
            <a:ext cx="226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bertad Infor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410080"/>
            <a:ext cx="487692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Stout"/>
              </a:rPr>
              <a:t>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9:22:14Z</dcterms:created>
  <dc:creator>Facultad de Derecho</dc:creator>
  <dc:description/>
  <dc:language>en-US</dc:language>
  <cp:lastModifiedBy>ldonoso</cp:lastModifiedBy>
  <cp:lastPrinted>2003-09-10T22:16:51Z</cp:lastPrinted>
  <dcterms:modified xsi:type="dcterms:W3CDTF">2005-05-11T16:18:46Z</dcterms:modified>
  <cp:revision>12</cp:revision>
  <dc:subject/>
  <dc:title>Protección de Datos Personales</dc:title>
</cp:coreProperties>
</file>