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E298-22A3-4E47-A670-6A3ECA57E1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D5480-1211-419F-BA12-D27958760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92F9-9EF1-4298-A6D5-A6D43978C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07B57-5540-46CC-B220-8E857A27E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45FD6-CA6D-48C9-9B7B-C9EB6A34B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5937-3906-45A1-A4F4-71C14A0AE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0B66-4F38-4EB8-879F-B44C0F35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AA9E-055E-479F-A432-06BF7B47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E4C1-C307-4573-A0A5-2E924152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13E70-580B-47C9-B136-30819399C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5BAA6-A24C-4409-99E0-E96BDFCC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9C48-7159-4806-9914-2828A91DA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D183-D0E5-4B16-9949-B6ACF98F5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79DE-FFD1-4CB0-83C5-F254CC4DD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Informática e Intimidad</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Autodeterminación Informátic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Basado en el derecho de propiedad (Brandeis y Warren, U.S.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negativa: impone límites a la injerencia de terceros respecto de su titular.</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Faz positiva: derechos del titular para controlar la información que respecto del titular se almacenan o procesan informáticamente.</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Garamond"/>
              </a:rPr>
              <a:t>Intimidad.</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atos públicos y datos reservados (inf. sensible).</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geográfica (espacios determinados)</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subjetiva (personaje o funcionario público y persona privada)</a:t>
            </a:r>
            <a:endParaRPr b="0" lang="en-US" sz="2400" spc="-1" strike="noStrike">
              <a:solidFill>
                <a:srgbClr val="000000"/>
              </a:solidFill>
              <a:latin typeface="Times New Roman"/>
            </a:endParaRPr>
          </a:p>
          <a:p>
            <a:pPr marL="325800" indent="-325800">
              <a:lnSpc>
                <a:spcPct val="9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cepción objetiva (conductas públicas y privadas)</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Habeas Data.</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Derecho a tomar conocimientode lo que consta en los registros informáticos acerca de uno mismo y la finalidad a que se destina la informaciónpara poder exigir su rectificación y actualizació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Además se prohíbe el tratamiento de datos sobre convicciones políticas, fe religiosa, salvo tratamiento de datos no identificables y meramente estadísticos, así también en las empresas de tendenecia.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a:t>
            </a:r>
            <a:r>
              <a:rPr b="0" lang="es-CL" sz="2800" spc="-1" strike="noStrike">
                <a:solidFill>
                  <a:srgbClr val="000066"/>
                </a:solidFill>
                <a:latin typeface="Garamond"/>
                <a:ea typeface="Times New Roman"/>
              </a:rPr>
              <a:t>Teoría del Mosaico</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5257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restringido: actividad dolosa del que copia o reproduce el software sin autorización de su autor o sus derechohabientes,</a:t>
            </a:r>
            <a:r>
              <a:rPr b="0" lang="es-CL" sz="3600" spc="-1" strike="noStrike">
                <a:solidFill>
                  <a:srgbClr val="000066"/>
                </a:solidFill>
                <a:latin typeface="Garamond"/>
              </a:rPr>
              <a:t> </a:t>
            </a:r>
            <a:r>
              <a:rPr b="0" lang="es-CL" sz="2800" spc="-1" strike="noStrike">
                <a:solidFill>
                  <a:srgbClr val="000066"/>
                </a:solidFill>
                <a:latin typeface="Garamond"/>
              </a:rPr>
              <a:t>con un </a:t>
            </a:r>
            <a:r>
              <a:rPr b="1" lang="es-CL" sz="2800" spc="-1" strike="noStrike">
                <a:solidFill>
                  <a:srgbClr val="000066"/>
                </a:solidFill>
                <a:latin typeface="Garamond"/>
              </a:rPr>
              <a:t>fin lucrativo</a:t>
            </a:r>
            <a:r>
              <a:rPr b="0" lang="es-CL" sz="2800" spc="-1" strike="noStrike">
                <a:solidFill>
                  <a:srgbClr val="000066"/>
                </a:solidFill>
                <a:latin typeface="Garamond"/>
              </a:rPr>
              <a:t> y en cantidad destinada al uso indiscriminado de terceros.</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10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ncepto amplio: Toda ación destinada a usufructuar de los beneficios que un programa de computación pueda brindar sin pagar a su productor lo que él considera justo por su trabajo y cualquiera fuera la finalidad de los sujetos reproductores.</a:t>
            </a: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480"/>
            <a:ext cx="80010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66"/>
              </a:solidFill>
              <a:latin typeface="Garamond"/>
            </a:endParaRPr>
          </a:p>
        </p:txBody>
      </p:sp>
      <p:sp>
        <p:nvSpPr>
          <p:cNvPr id="55" name="PlaceHolder 2"/>
          <p:cNvSpPr>
            <a:spLocks noGrp="1"/>
          </p:cNvSpPr>
          <p:nvPr>
            <p:ph/>
          </p:nvPr>
        </p:nvSpPr>
        <p:spPr>
          <a:xfrm>
            <a:off x="456840" y="304560"/>
            <a:ext cx="8077320" cy="60958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copias.</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Back up: fin de resguardo. La legalidad de esta copia no está en discusión.</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pia privada: realizada entre distintos usuarios individuales para su uso particular y sin recurrir a ningún tipo de circuito comercial para lucrar con ella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     </a:t>
            </a:r>
            <a:r>
              <a:rPr b="0" lang="es-CL" sz="2800" spc="-1" strike="noStrike">
                <a:solidFill>
                  <a:srgbClr val="000066"/>
                </a:solidFill>
                <a:latin typeface="Garamond"/>
              </a:rPr>
              <a:t>Doctrina dividida: fin de lucro.</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piamente tal: aquella realizada de manera indiscriminada y con fines comerciales.</a:t>
            </a:r>
            <a:endParaRPr b="0" lang="en-US" sz="28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66"/>
                </a:solidFill>
                <a:latin typeface="Garamond"/>
              </a:rPr>
              <a:t>Tipos de Piratería.</a:t>
            </a:r>
            <a:endParaRPr b="0" lang="en-US" sz="32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orporativa (Microsoft con Gobierno de Mendoza).</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iratería profesional.</a:t>
            </a:r>
            <a:endParaRPr b="0" lang="en-US" sz="2800" spc="-1" strike="noStrike">
              <a:solidFill>
                <a:srgbClr val="000000"/>
              </a:solidFill>
              <a:latin typeface="Times New Roman"/>
            </a:endParaRPr>
          </a:p>
          <a:p>
            <a:pPr marL="312120" indent="-312120">
              <a:lnSpc>
                <a:spcPct val="90000"/>
              </a:lnSpc>
              <a:spcBef>
                <a:spcPts val="700"/>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Domé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Canales de comercialización de Software.</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Licencias: Relación contractual entre el productor del software y el adquirente, en el cual áquel licencia a éste para la utilización de la o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ea typeface="Times New Roman"/>
              </a:rPr>
              <a:t>•</a:t>
            </a:r>
            <a:r>
              <a:rPr b="0" lang="es-CL" sz="2400" spc="-1" strike="noStrike">
                <a:solidFill>
                  <a:srgbClr val="000066"/>
                </a:solidFill>
                <a:latin typeface="Garamond"/>
              </a:rPr>
              <a:t> </a:t>
            </a:r>
            <a:r>
              <a:rPr b="0" lang="es-CL" sz="2400" spc="-1" strike="noStrike">
                <a:solidFill>
                  <a:srgbClr val="000066"/>
                </a:solidFill>
                <a:latin typeface="Garamond"/>
              </a:rPr>
              <a:t>de uso: autorización del productor para el uso del derecho de propiedad intelectual, generalmente, se encuentra en el exterior del envase y la apertura de este implica aceptación, por lo que se trata de contratos de adhe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	</a:t>
            </a:r>
            <a:r>
              <a:rPr b="0" lang="es-CL" sz="2400" spc="-1" strike="noStrike">
                <a:solidFill>
                  <a:srgbClr val="000066"/>
                </a:solidFill>
                <a:latin typeface="Garamond"/>
              </a:rPr>
              <a:t> </a:t>
            </a:r>
            <a:r>
              <a:rPr b="0" lang="es-CL" sz="2400" spc="-1" strike="noStrike">
                <a:solidFill>
                  <a:srgbClr val="000066"/>
                </a:solidFill>
                <a:latin typeface="Garamond"/>
                <a:ea typeface="Times New Roman"/>
              </a:rPr>
              <a:t>• </a:t>
            </a:r>
            <a:r>
              <a:rPr b="0" lang="es-CL" sz="2400" spc="-1" strike="noStrike">
                <a:solidFill>
                  <a:srgbClr val="000066"/>
                </a:solidFill>
                <a:latin typeface="Garamond"/>
                <a:ea typeface="Times New Roman"/>
              </a:rPr>
              <a:t>lic. en red: según el nº de computadores integrados a la red será el nº de licencias requerid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ea typeface="Times New Roman"/>
              </a:rPr>
              <a:t>- Shareware y Freewa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66"/>
              </a:solidFill>
              <a:latin typeface="Garamond"/>
            </a:endParaRPr>
          </a:p>
        </p:txBody>
      </p:sp>
      <p:sp>
        <p:nvSpPr>
          <p:cNvPr id="59" name="PlaceHolder 2"/>
          <p:cNvSpPr>
            <a:spLocks noGrp="1"/>
          </p:cNvSpPr>
          <p:nvPr>
            <p:ph/>
          </p:nvPr>
        </p:nvSpPr>
        <p:spPr>
          <a:xfrm>
            <a:off x="457200" y="609480"/>
            <a:ext cx="830592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Garamond"/>
              </a:rPr>
              <a:t>Protección Jurídica.</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patentes y Derecho Comercial( know how, secreto comercial, etc.).</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Derecho de autor, se conceptualiza como obra del ingenio human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Garamond"/>
              </a:rPr>
              <a:t>Proyecto de reforma Ley 17366</a:t>
            </a:r>
            <a:endParaRPr b="0" lang="en-US" sz="2800" spc="-1" strike="noStrike">
              <a:solidFill>
                <a:srgbClr val="000000"/>
              </a:solidFill>
              <a:latin typeface="Times New Roman"/>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Garamond"/>
              </a:rPr>
              <a:t>Consagra un concepto amplio de piratería.</a:t>
            </a:r>
            <a:endParaRPr b="0" lang="en-US" sz="24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Sanciona la copia, aun aquella hecha sin fines de lucro.</a:t>
            </a:r>
            <a:endParaRPr b="0" lang="en-US" sz="2000" spc="-1" strike="noStrike">
              <a:solidFill>
                <a:srgbClr val="000000"/>
              </a:solidFill>
              <a:latin typeface="Times New Roman"/>
            </a:endParaRPr>
          </a:p>
          <a:p>
            <a:pPr lvl="1" marL="743040" indent="-28584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Garamond"/>
              </a:rPr>
              <a:t>Impuesto especial a la venta de sopo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b185b"/>
                </a:solidFill>
                <a:latin typeface="Garamond"/>
              </a:rPr>
              <a:t>Estafa y robo informático.</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295280"/>
            <a:ext cx="7772400" cy="5181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ncuadre legal: avance tecnológic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Muchas de las figuras legales tradicionales pueden convertirse en delitos informáticos, en cuanto al medio utilizado para su comisión, ya que el delito no deja de ser tal en razón de su instrumen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parecen nuevos aspect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Pugna con los principios de tipicidad previa y prohibión analógic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3"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b185b"/>
                </a:solidFill>
                <a:latin typeface="Garamond"/>
              </a:rPr>
              <a:t> </a:t>
            </a:r>
            <a:r>
              <a:rPr b="1" lang="es-CL" sz="3200" spc="-1" strike="noStrike">
                <a:solidFill>
                  <a:srgbClr val="0b185b"/>
                </a:solidFill>
                <a:latin typeface="Garamond"/>
              </a:rPr>
              <a:t>Hurto, Robo y Estafa.</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urto: “...se apoderare ilegitimamente de una cosa ajena...”</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 posible el apoderamiento mater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Hay desapoderami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Robo: supone violencia física en las cosas o en las </a:t>
            </a:r>
            <a:r>
              <a:rPr b="1" lang="es-CL" sz="2800" spc="-1" strike="noStrike">
                <a:solidFill>
                  <a:srgbClr val="0b185b"/>
                </a:solidFill>
                <a:latin typeface="Garamond"/>
              </a:rPr>
              <a:t>	</a:t>
            </a:r>
            <a:r>
              <a:rPr b="1" lang="es-CL" sz="2800" spc="-1" strike="noStrike">
                <a:solidFill>
                  <a:srgbClr val="0b185b"/>
                </a:solidFill>
                <a:latin typeface="Garamond"/>
              </a:rPr>
              <a:t>person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Estafa: “...el que defraudare a otr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lazamiento patrimonial.</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Ardid </a:t>
            </a:r>
            <a:r>
              <a:rPr b="1" lang="es-CL" sz="2800" spc="-1" strike="noStrike">
                <a:solidFill>
                  <a:srgbClr val="0b185b"/>
                </a:solidFill>
                <a:latin typeface="Symbol"/>
                <a:ea typeface="Symbol"/>
              </a:rPr>
              <a:t></a:t>
            </a:r>
            <a:r>
              <a:rPr b="1" lang="es-CL" sz="2800" spc="-1" strike="noStrike">
                <a:solidFill>
                  <a:srgbClr val="0b185b"/>
                </a:solidFill>
                <a:latin typeface="Garamond"/>
              </a:rPr>
              <a:t> “estirar” el concepto para hacerlo subsumi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5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0b185b"/>
              </a:solidFill>
              <a:latin typeface="Garamond"/>
            </a:endParaRPr>
          </a:p>
        </p:txBody>
      </p:sp>
      <p:sp>
        <p:nvSpPr>
          <p:cNvPr id="65" name="PlaceHolder 2"/>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Violación del secreto de las telecomunicaciones digitales </a:t>
            </a:r>
            <a:r>
              <a:rPr b="1" lang="es-CL" sz="2800" spc="-1" strike="noStrike">
                <a:solidFill>
                  <a:srgbClr val="0b185b"/>
                </a:solidFill>
                <a:latin typeface="Symbol"/>
                <a:ea typeface="Symbol"/>
              </a:rPr>
              <a:t></a:t>
            </a:r>
            <a:r>
              <a:rPr b="1" lang="es-CL" sz="2800" spc="-1" strike="noStrike">
                <a:solidFill>
                  <a:srgbClr val="0b185b"/>
                </a:solidFill>
                <a:latin typeface="Garamond"/>
              </a:rPr>
              <a:t> ingresar sin autorización a un computador o a una red de estos no constituye en sí un delito.</a:t>
            </a:r>
            <a:endParaRPr b="0" lang="en-US" sz="2800" spc="-1" strike="noStrike">
              <a:solidFill>
                <a:srgbClr val="000000"/>
              </a:solidFill>
              <a:latin typeface="Times New Roman"/>
            </a:endParaRPr>
          </a:p>
          <a:p>
            <a:pPr marL="343080" indent="-343080">
              <a:lnSpc>
                <a:spcPct val="100000"/>
              </a:lnSpc>
              <a:spcBef>
                <a:spcPts val="700"/>
              </a:spcBef>
              <a:buClr>
                <a:srgbClr val="0b185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despachos telefónicos y telegráfico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Caso S.J.G. c/ Servicio Secre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añ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b185b"/>
                </a:solidFill>
                <a:latin typeface="Garamond"/>
              </a:rPr>
              <a:t>	</a:t>
            </a:r>
            <a:r>
              <a:rPr b="1" lang="es-CL" sz="2800" spc="-1" strike="noStrike">
                <a:solidFill>
                  <a:srgbClr val="0b185b"/>
                </a:solidFill>
                <a:latin typeface="Garamond"/>
              </a:rPr>
              <a:t>Destrucción de información sin daño en el soporte. ¿Es posibl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16:46:38Z</dcterms:created>
  <dc:creator>Rodrigo Castillo</dc:creator>
  <dc:description/>
  <dc:language>en-US</dc:language>
  <cp:lastModifiedBy>Rodrigo Castillo</cp:lastModifiedBy>
  <dcterms:modified xsi:type="dcterms:W3CDTF">2005-04-18T03:02:36Z</dcterms:modified>
  <cp:revision>4</cp:revision>
  <dc:subject/>
  <dc:title>Informática e Intimidad</dc:title>
</cp:coreProperties>
</file>