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518C-3751-4B8A-9544-E1BDEA38C78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B78F9-64A4-4B1F-B1C5-754A5B60E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FABC-7D10-4D26-AAE8-167856842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DE5A3-E053-4B38-8112-0E1D32738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62C1C-66C4-445E-9692-4ADD7B3E8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704A4-6CB7-4961-B545-99032E497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091EE-0F44-4117-BFE0-74E7AE41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B211A-B717-4617-B9A2-058402EF4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6F216-A484-467A-A63D-88885A7EA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96B67-30BB-4F84-9F6E-460EA5C71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C250-8EC8-49D9-85D5-F79C9F2F1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9D80-FA45-41A7-BB45-E0249B3F1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286B0-066E-489E-BFE9-46C5F3936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016E-FE6E-483C-98D1-206A532FF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Informática e Intimidad</a:t>
            </a:r>
            <a:endParaRPr b="0" lang="en-US" sz="2800" spc="-1" strike="noStrike">
              <a:solidFill>
                <a:srgbClr val="000000"/>
              </a:solidFill>
              <a:latin typeface="Times New Roman"/>
            </a:endParaRPr>
          </a:p>
        </p:txBody>
      </p:sp>
      <p:sp>
        <p:nvSpPr>
          <p:cNvPr id="4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Garamond"/>
              </a:rPr>
              <a:t>Autodeterminación Informática.</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Basado en el derecho de propiedad (Brandeis y Warren, U.S.A.)</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Faz negativa: impone límites a la injerencia de terceros respecto de su titular.</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Faz positiva: derechos del titular para controlar la información que respecto del titular se almacenan o procesan informáticamente.</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Garamond"/>
              </a:rPr>
              <a:t>Intimidad.</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Datos públicos y datos reservados (inf. sensible).</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cepción geográfica (espacios determinados)</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cepción subjetiva (personaje o funcionario público y persona privada)</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cepción objetiva (conductas públicas y privadas)</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66"/>
              </a:solidFill>
              <a:latin typeface="Garamond"/>
            </a:endParaRPr>
          </a:p>
        </p:txBody>
      </p:sp>
      <p:sp>
        <p:nvSpPr>
          <p:cNvPr id="5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Habeas Data.</a:t>
            </a:r>
            <a:endParaRPr b="0" lang="en-US" sz="28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rPr>
              <a:t>Derecho a tomar conocimientode lo que consta en los registros informáticos acerca de uno mismo y la finalidad a que se destina la informaciónpara poder exigir su rectificación y actualización.</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rPr>
              <a:t>Además se prohíbe el tratamiento de datos sobre convicciones políticas, fe religiosa, salvo tratamiento de datos no identificables y meramente estadísticos, así también en las empresas de tendenecia.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ea typeface="Times New Roman"/>
              </a:rPr>
              <a:t>• </a:t>
            </a:r>
            <a:r>
              <a:rPr b="0" lang="es-CL" sz="2800" spc="-1" strike="noStrike">
                <a:solidFill>
                  <a:srgbClr val="000066"/>
                </a:solidFill>
                <a:latin typeface="Garamond"/>
                <a:ea typeface="Times New Roman"/>
              </a:rPr>
              <a:t>Teoría del Mosaico</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480"/>
            <a:ext cx="5257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iratería</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ncepto restringido: actividad dolosa del que copia o reproduce el software sin autorización de su autor o sus derechohabientes,</a:t>
            </a:r>
            <a:r>
              <a:rPr b="0" lang="es-CL" sz="3600" spc="-1" strike="noStrike">
                <a:solidFill>
                  <a:srgbClr val="000066"/>
                </a:solidFill>
                <a:latin typeface="Garamond"/>
              </a:rPr>
              <a:t> </a:t>
            </a:r>
            <a:r>
              <a:rPr b="0" lang="es-CL" sz="2800" spc="-1" strike="noStrike">
                <a:solidFill>
                  <a:srgbClr val="000066"/>
                </a:solidFill>
                <a:latin typeface="Garamond"/>
              </a:rPr>
              <a:t>con un </a:t>
            </a:r>
            <a:r>
              <a:rPr b="1" lang="es-CL" sz="2800" spc="-1" strike="noStrike">
                <a:solidFill>
                  <a:srgbClr val="000066"/>
                </a:solidFill>
                <a:latin typeface="Garamond"/>
              </a:rPr>
              <a:t>fin lucrativo</a:t>
            </a:r>
            <a:r>
              <a:rPr b="0" lang="es-CL" sz="2800" spc="-1" strike="noStrike">
                <a:solidFill>
                  <a:srgbClr val="000066"/>
                </a:solidFill>
                <a:latin typeface="Garamond"/>
              </a:rPr>
              <a:t> y en cantidad destinada al uso indiscriminado de terceros.</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288000">
              <a:lnSpc>
                <a:spcPct val="10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ncepto amplio: Toda ación destinada a usufructuar de los beneficios que un programa de computación pueda brindar sin pagar a su productor lo que él considera justo por su trabajo y cualquiera fuera la finalidad de los sujetos reproductores.</a:t>
            </a: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480"/>
            <a:ext cx="80010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66"/>
              </a:solidFill>
              <a:latin typeface="Garamond"/>
            </a:endParaRPr>
          </a:p>
        </p:txBody>
      </p:sp>
      <p:sp>
        <p:nvSpPr>
          <p:cNvPr id="55" name="PlaceHolder 2"/>
          <p:cNvSpPr>
            <a:spLocks noGrp="1"/>
          </p:cNvSpPr>
          <p:nvPr>
            <p:ph/>
          </p:nvPr>
        </p:nvSpPr>
        <p:spPr>
          <a:xfrm>
            <a:off x="456840" y="304560"/>
            <a:ext cx="8077320" cy="60958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66"/>
                </a:solidFill>
                <a:latin typeface="Garamond"/>
              </a:rPr>
              <a:t>Tipos de copias.</a:t>
            </a:r>
            <a:endParaRPr b="0" lang="en-US" sz="32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Back up: fin de resguardo. La legalidad de esta copia no está en discusión.</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pia privada: realizada entre distintos usuarios individuales para su uso particular y sin recurrir a ningún tipo de circuito comercial para lucrar con ellas.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     </a:t>
            </a:r>
            <a:r>
              <a:rPr b="0" lang="es-CL" sz="2800" spc="-1" strike="noStrike">
                <a:solidFill>
                  <a:srgbClr val="000066"/>
                </a:solidFill>
                <a:latin typeface="Garamond"/>
              </a:rPr>
              <a:t>Doctrina dividida: fin de lucro.</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iratería ppiamente tal: aquella realizada de manera indiscriminada y con fines comerciales.</a:t>
            </a:r>
            <a:endParaRPr b="0" lang="en-US" sz="28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66"/>
                </a:solidFill>
                <a:latin typeface="Garamond"/>
              </a:rPr>
              <a:t>Tipos de Piratería.</a:t>
            </a:r>
            <a:endParaRPr b="0" lang="en-US" sz="32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rporativa (Microsoft con Gobierno de Mendoza).</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iratería profesional.</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Domé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66"/>
              </a:solidFill>
              <a:latin typeface="Garamond"/>
            </a:endParaRPr>
          </a:p>
        </p:txBody>
      </p:sp>
      <p:sp>
        <p:nvSpPr>
          <p:cNvPr id="5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anales de comercialización de Software.</a:t>
            </a:r>
            <a:endParaRPr b="0" lang="en-US" sz="28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Licencias: Relación contractual entre el productor del software y el adquirente, en el cual áquel licencia a éste para la utilización de la ob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ea typeface="Times New Roman"/>
              </a:rPr>
              <a:t>•</a:t>
            </a:r>
            <a:r>
              <a:rPr b="0" lang="es-CL" sz="2400" spc="-1" strike="noStrike">
                <a:solidFill>
                  <a:srgbClr val="000066"/>
                </a:solidFill>
                <a:latin typeface="Garamond"/>
              </a:rPr>
              <a:t> </a:t>
            </a:r>
            <a:r>
              <a:rPr b="0" lang="es-CL" sz="2400" spc="-1" strike="noStrike">
                <a:solidFill>
                  <a:srgbClr val="000066"/>
                </a:solidFill>
                <a:latin typeface="Garamond"/>
              </a:rPr>
              <a:t>de uso: autorización del productor para el uso del derecho de propiedad intelectual, generalmente, se encuentra en el exterior del envase y la apertura de este implica aceptación, por lo que se trata de contratos de adhe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rPr>
              <a:t> </a:t>
            </a:r>
            <a:r>
              <a:rPr b="0" lang="es-CL" sz="2400" spc="-1" strike="noStrike">
                <a:solidFill>
                  <a:srgbClr val="000066"/>
                </a:solidFill>
                <a:latin typeface="Garamond"/>
                <a:ea typeface="Times New Roman"/>
              </a:rPr>
              <a:t>• </a:t>
            </a:r>
            <a:r>
              <a:rPr b="0" lang="es-CL" sz="2400" spc="-1" strike="noStrike">
                <a:solidFill>
                  <a:srgbClr val="000066"/>
                </a:solidFill>
                <a:latin typeface="Garamond"/>
                <a:ea typeface="Times New Roman"/>
              </a:rPr>
              <a:t>lic. en red: según el nº de computadores integrados a la red será el nº de licencias requerid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ea typeface="Times New Roman"/>
              </a:rPr>
              <a:t>- Shareware y Freewa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66"/>
              </a:solidFill>
              <a:latin typeface="Garamond"/>
            </a:endParaRPr>
          </a:p>
        </p:txBody>
      </p:sp>
      <p:sp>
        <p:nvSpPr>
          <p:cNvPr id="59" name="PlaceHolder 2"/>
          <p:cNvSpPr>
            <a:spLocks noGrp="1"/>
          </p:cNvSpPr>
          <p:nvPr>
            <p:ph/>
          </p:nvPr>
        </p:nvSpPr>
        <p:spPr>
          <a:xfrm>
            <a:off x="457200" y="609480"/>
            <a:ext cx="8305920" cy="5486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rotección Jurídica.</a:t>
            </a:r>
            <a:endParaRPr b="0" lang="en-US" sz="28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Derecho de patentes y Derecho Comercial( know how, secreto comercial, etc.).</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Derecho de autor, se conceptualiza como obra del ingenio human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Garamond"/>
              </a:rPr>
              <a:t>Proyecto de reforma Ley 17366</a:t>
            </a:r>
            <a:endParaRPr b="0" lang="en-US" sz="28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sagra un concepto amplio de piratería.</a:t>
            </a:r>
            <a:endParaRPr b="0" lang="en-US" sz="2400" spc="-1" strike="noStrike">
              <a:solidFill>
                <a:srgbClr val="000000"/>
              </a:solidFill>
              <a:latin typeface="Times New Roman"/>
            </a:endParaRPr>
          </a:p>
          <a:p>
            <a:pPr lvl="1" marL="743040" indent="-28584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Garamond"/>
              </a:rPr>
              <a:t>Sanciona la copia, aun aquella hecha sin fines de lucro.</a:t>
            </a:r>
            <a:endParaRPr b="0" lang="en-US" sz="2000" spc="-1" strike="noStrike">
              <a:solidFill>
                <a:srgbClr val="000000"/>
              </a:solidFill>
              <a:latin typeface="Times New Roman"/>
            </a:endParaRPr>
          </a:p>
          <a:p>
            <a:pPr lvl="1" marL="743040" indent="-28584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Garamond"/>
              </a:rPr>
              <a:t>Impuesto especial a la venta de sopo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b185b"/>
                </a:solidFill>
                <a:latin typeface="Garamond"/>
              </a:rPr>
              <a:t>Estafa y robo informático.</a:t>
            </a:r>
            <a:endParaRPr b="0" lang="en-US" sz="3200" spc="-1" strike="noStrike">
              <a:solidFill>
                <a:srgbClr val="000000"/>
              </a:solidFill>
              <a:latin typeface="Times New Roman"/>
            </a:endParaRPr>
          </a:p>
        </p:txBody>
      </p:sp>
      <p:sp>
        <p:nvSpPr>
          <p:cNvPr id="61" name="PlaceHolder 2"/>
          <p:cNvSpPr>
            <a:spLocks noGrp="1"/>
          </p:cNvSpPr>
          <p:nvPr>
            <p:ph/>
          </p:nvPr>
        </p:nvSpPr>
        <p:spPr>
          <a:xfrm>
            <a:off x="609480" y="1295280"/>
            <a:ext cx="7772400" cy="5181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Encuadre legal: avance tecnológic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Muchas de las figuras legales tradicionales pueden convertirse en delitos informáticos, en cuanto al medio utilizado para su comisión, ya que el delito no deja de ser tal en razón de su instrumento.</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Aparecen nuevos aspect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Pugna con los principios de tipicidad previa y prohibión analógic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5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0b185b"/>
              </a:solidFill>
              <a:latin typeface="Garamond"/>
            </a:endParaRPr>
          </a:p>
        </p:txBody>
      </p:sp>
      <p:sp>
        <p:nvSpPr>
          <p:cNvPr id="63"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b185b"/>
                </a:solidFill>
                <a:latin typeface="Garamond"/>
              </a:rPr>
              <a:t> </a:t>
            </a:r>
            <a:r>
              <a:rPr b="1" lang="es-CL" sz="3200" spc="-1" strike="noStrike">
                <a:solidFill>
                  <a:srgbClr val="0b185b"/>
                </a:solidFill>
                <a:latin typeface="Garamond"/>
              </a:rPr>
              <a:t>Hurto, Robo y Estafa.</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Hurto: “...se apoderare ilegitimamente de una cosa ajena...”</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Es posible el apoderamiento material?</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Hay desapoderamien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Robo: supone violencia física en las cosas o en las </a:t>
            </a:r>
            <a:r>
              <a:rPr b="1" lang="es-CL" sz="2800" spc="-1" strike="noStrike">
                <a:solidFill>
                  <a:srgbClr val="0b185b"/>
                </a:solidFill>
                <a:latin typeface="Garamond"/>
              </a:rPr>
              <a:t>	</a:t>
            </a:r>
            <a:r>
              <a:rPr b="1" lang="es-CL" sz="2800" spc="-1" strike="noStrike">
                <a:solidFill>
                  <a:srgbClr val="0b185b"/>
                </a:solidFill>
                <a:latin typeface="Garamond"/>
              </a:rPr>
              <a:t>persona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Estafa: “...el que defraudare a otro...”</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Desplazamiento patrimonial.</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Ardid </a:t>
            </a:r>
            <a:r>
              <a:rPr b="1" lang="es-CL" sz="2800" spc="-1" strike="noStrike">
                <a:solidFill>
                  <a:srgbClr val="0b185b"/>
                </a:solidFill>
                <a:latin typeface="Symbol"/>
                <a:ea typeface="Symbol"/>
              </a:rPr>
              <a:t></a:t>
            </a:r>
            <a:r>
              <a:rPr b="1" lang="es-CL" sz="2800" spc="-1" strike="noStrike">
                <a:solidFill>
                  <a:srgbClr val="0b185b"/>
                </a:solidFill>
                <a:latin typeface="Garamond"/>
              </a:rPr>
              <a:t> “estirar” el concepto para hacerlo subsumibl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5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0b185b"/>
              </a:solidFill>
              <a:latin typeface="Garamond"/>
            </a:endParaRPr>
          </a:p>
        </p:txBody>
      </p:sp>
      <p:sp>
        <p:nvSpPr>
          <p:cNvPr id="65" name="PlaceHolder 2"/>
          <p:cNvSpPr>
            <a:spLocks noGrp="1"/>
          </p:cNvSpPr>
          <p:nvPr>
            <p:ph/>
          </p:nvPr>
        </p:nvSpPr>
        <p:spPr>
          <a:xfrm>
            <a:off x="685800" y="609480"/>
            <a:ext cx="7772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Violación del secreto de las telecomunicaciones digitales </a:t>
            </a:r>
            <a:r>
              <a:rPr b="1" lang="es-CL" sz="2800" spc="-1" strike="noStrike">
                <a:solidFill>
                  <a:srgbClr val="0b185b"/>
                </a:solidFill>
                <a:latin typeface="Symbol"/>
                <a:ea typeface="Symbol"/>
              </a:rPr>
              <a:t></a:t>
            </a:r>
            <a:r>
              <a:rPr b="1" lang="es-CL" sz="2800" spc="-1" strike="noStrike">
                <a:solidFill>
                  <a:srgbClr val="0b185b"/>
                </a:solidFill>
                <a:latin typeface="Garamond"/>
              </a:rPr>
              <a:t> ingresar sin autorización a un computador o a una red de estos no constituye en sí un delito.</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despachos telefónicos y telegráfico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Caso S.J.G. c/ Servicio Secre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Dañ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Destrucción de información sin daño en el soporte. ¿Es posibl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16:46:38Z</dcterms:created>
  <dc:creator>Rodrigo Castillo</dc:creator>
  <dc:description/>
  <dc:language>en-US</dc:language>
  <cp:lastModifiedBy>Rodrigo Castillo</cp:lastModifiedBy>
  <dcterms:modified xsi:type="dcterms:W3CDTF">2005-04-18T03:02:36Z</dcterms:modified>
  <cp:revision>4</cp:revision>
  <dc:subject/>
  <dc:title>Informática e Intimidad</dc:title>
</cp:coreProperties>
</file>