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EBA0-0AED-4F43-8B1B-B6156E5479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Dualidad computador –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cá me p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ibro encargado por Telefónica España (ses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Digitalización, telefonía móvil, XXXXXXXXXXXXXXXXXXXXXXXXXX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El episodio de las empresas punto com (Amazon, Patag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Sobreoferta de 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Quiebra de Worldcom es la mayor quiebra empresarial en la historia de EEUU: activos por USD 100.000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(OJO QUE ESTO ES PARA EL FINAL) Acceso como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odity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, servicios como principal ingreso de la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· · Converg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PSM = poder significativo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Paso de monopolios estatales a multi prestadores de servicios: multi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· · Mercado telefónico = red fija + telefonía mó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Espectro radioeléctrico como recurso esc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Importancia estratégica de las telecomun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Función social de las telecomun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Agregación obligatoria de redes: protección a entrantes y no a consumi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Mercados emergentes tendrán siempre PSM, pero futur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3E0-C045-4BD3-8CCC-8E8E20F9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267-BC7A-4CF7-B32E-49645A17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3C5-F23A-4C64-96F0-6E9CCADE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2A8-D59F-4D01-857C-C9262F48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EDC5-16F4-40C3-BCFB-9201FD88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F6D2-CDDD-4E1C-9426-67CDA120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43C0-D411-4AD8-A4CB-A7585ADD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C7B0-BBD3-4A04-8DDE-078CEADB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227B-EF83-421A-9C72-014730A8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1CB0-EB3D-4597-8ECF-8E45EB19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4E75-25B6-48F1-BC15-AD676642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D41-FAFF-4BE0-927C-D173C49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6A8D-34C3-469B-9D82-8C653C4A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2CF1-6E24-4C2B-9DA7-2059E763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FD05-C892-46E8-BFF6-6D9B5E0F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3FF2-1D03-4A71-97F1-8C976F48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4262-E6B3-45CD-8F00-450A9C4B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17C-55F6-4BFD-AA5C-A1414F97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B45-83CD-4A7A-851B-8F62514E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580-057F-4E64-B689-D8B4A8D7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3B5-2177-4EF0-B77A-626C97CA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C0D-2C4D-4031-9BB5-72169EFF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CAA-C48E-4783-AE2D-14D22E6A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0DA-E2A8-4E68-9002-87300D9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3968-FA53-450A-B91D-060AA0E032A8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633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4E44-72F9-4207-8C0C-1A89B7EAAAC4}" type="slidenum">
              <a:rPr b="0" lang="es-ES" sz="1400" spc="-1" strike="noStrike">
                <a:solidFill>
                  <a:srgbClr val="66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1280" y="378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d7c5b5"/>
                </a:solidFill>
                <a:latin typeface="Verdana"/>
              </a:rPr>
              <a:t>_telecomunicaciones y audiovisual</a:t>
            </a:r>
            <a:endParaRPr b="0" lang="en-US" sz="25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71280" y="494136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cuestiones disputadas</a:t>
            </a:r>
            <a:endParaRPr b="0" lang="en-US" sz="20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_desafíos de la industr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Banda ancha: acceso a redes como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odi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sarrollo de servicios atractivos y rent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onvergencia en telefonía móvil: 3G es el futu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1120" y="4157280"/>
            <a:ext cx="279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d7c5b5"/>
                </a:solidFill>
                <a:latin typeface="Verdana"/>
              </a:rPr>
              <a:t>_fin</a:t>
            </a:r>
            <a:endParaRPr b="0" lang="en-US" sz="7200" spc="-1" strike="noStrike">
              <a:solidFill>
                <a:srgbClr val="d7c5b5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Verdana"/>
              </a:rPr>
              <a:t>_complementos</a:t>
            </a: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onvergencia (tecnológica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onfluyen 2 o más servicios en una misma plataforma o apara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47640" y="3284640"/>
            <a:ext cx="6696360" cy="3095640"/>
            <a:chOff x="1547640" y="3284640"/>
            <a:chExt cx="6696360" cy="3095640"/>
          </a:xfrm>
        </p:grpSpPr>
        <p:sp>
          <p:nvSpPr>
            <p:cNvPr id="122" name=""/>
            <p:cNvSpPr/>
            <p:nvPr/>
          </p:nvSpPr>
          <p:spPr>
            <a:xfrm>
              <a:off x="1547640" y="3284640"/>
              <a:ext cx="6624720" cy="3095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835280" y="3573360"/>
              <a:ext cx="197460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979640" y="5300640"/>
              <a:ext cx="287280" cy="287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572000" y="3500280"/>
              <a:ext cx="3672000" cy="2620440"/>
              <a:chOff x="4572000" y="3500280"/>
              <a:chExt cx="3672000" cy="2620440"/>
            </a:xfrm>
          </p:grpSpPr>
          <p:sp>
            <p:nvSpPr>
              <p:cNvPr id="126" name=""/>
              <p:cNvSpPr/>
              <p:nvPr/>
            </p:nvSpPr>
            <p:spPr>
              <a:xfrm>
                <a:off x="4572000" y="3500280"/>
                <a:ext cx="251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VOZ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88000" y="5084640"/>
                <a:ext cx="302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E-MAI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88000" y="4005360"/>
                <a:ext cx="23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FA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30920" y="4508640"/>
                <a:ext cx="24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NAVEGACIÓ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72000" y="5661000"/>
                <a:ext cx="36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VIDEO EN LÍNEA (TV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274920" y="3716280"/>
              <a:ext cx="1512720" cy="2160720"/>
              <a:chOff x="3274920" y="3716280"/>
              <a:chExt cx="1512720" cy="216072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3274920" y="3716280"/>
                <a:ext cx="1296720" cy="72072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3274920" y="4220640"/>
                <a:ext cx="1439640" cy="21780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74920" y="4437000"/>
                <a:ext cx="1512720" cy="28728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74920" y="4437000"/>
                <a:ext cx="1439640" cy="86364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74920" y="4437000"/>
                <a:ext cx="1223640" cy="144000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8317080" y="5734080"/>
            <a:ext cx="645840" cy="646200"/>
            <a:chOff x="8317080" y="5734080"/>
            <a:chExt cx="645840" cy="646200"/>
          </a:xfrm>
        </p:grpSpPr>
        <p:sp>
          <p:nvSpPr>
            <p:cNvPr id="138" name=""/>
            <p:cNvSpPr/>
            <p:nvPr/>
          </p:nvSpPr>
          <p:spPr>
            <a:xfrm>
              <a:off x="8317080" y="5734080"/>
              <a:ext cx="645840" cy="646200"/>
            </a:xfrm>
            <a:custGeom>
              <a:avLst/>
              <a:gdLst>
                <a:gd name="textAreaLeft" fmla="*/ 41760 w 645840"/>
                <a:gd name="textAreaRight" fmla="*/ 604080 w 645840"/>
                <a:gd name="textAreaTop" fmla="*/ 41760 h 646200"/>
                <a:gd name="textAreaBottom" fmla="*/ 604440 h 646200"/>
              </a:gdLst>
              <a:ahLst/>
              <a:rect l="textAreaLeft" t="textAreaTop" r="textAreaRight" b="textAreaBottom"/>
              <a:pathLst>
                <a:path w="21600" h="21612">
                  <a:moveTo>
                    <a:pt x="0" y="0"/>
                  </a:moveTo>
                  <a:lnTo>
                    <a:pt x="21600" y="0"/>
                  </a:lnTo>
                  <a:lnTo>
                    <a:pt x="21600" y="21612"/>
                  </a:lnTo>
                  <a:lnTo>
                    <a:pt x="0" y="21612"/>
                  </a:lnTo>
                  <a:close/>
                </a:path>
                <a:path fill="lightenLess" w="21600" h="2161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2">
                  <a:moveTo>
                    <a:pt x="21600" y="0"/>
                  </a:moveTo>
                  <a:lnTo>
                    <a:pt x="21600" y="21612"/>
                  </a:lnTo>
                  <a:lnTo>
                    <a:pt x="20200" y="20212"/>
                  </a:lnTo>
                  <a:lnTo>
                    <a:pt x="20200" y="1400"/>
                  </a:lnTo>
                  <a:close/>
                </a:path>
                <a:path fill="darkenLess" w="21600" h="21612">
                  <a:moveTo>
                    <a:pt x="21600" y="21612"/>
                  </a:moveTo>
                  <a:lnTo>
                    <a:pt x="0" y="21612"/>
                  </a:lnTo>
                  <a:lnTo>
                    <a:pt x="1400" y="20212"/>
                  </a:lnTo>
                  <a:lnTo>
                    <a:pt x="20200" y="20212"/>
                  </a:lnTo>
                  <a:close/>
                </a:path>
                <a:path fill="lighten" w="21600" h="21612">
                  <a:moveTo>
                    <a:pt x="0" y="2161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59640" y="5925960"/>
              <a:ext cx="358560" cy="238320"/>
            </a:xfrm>
            <a:prstGeom prst="leftArrow">
              <a:avLst>
                <a:gd name="adj1" fmla="val 50000"/>
                <a:gd name="adj2" fmla="val 37613"/>
              </a:avLst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Verdana"/>
              </a:rPr>
              <a:t>_complementos</a:t>
            </a: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5360" y="1447560"/>
            <a:ext cx="7209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rcado de la telefoní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Hasta hoy se ha considerado que la telefonía fija no compite con la telefonía móvi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Craso error: se ha demostrado la sustituibilidad entre estos servic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79640" y="3357720"/>
          <a:ext cx="6218280" cy="336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3357720"/>
                    <a:ext cx="6218280" cy="33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8317080" y="5734080"/>
            <a:ext cx="645840" cy="646200"/>
            <a:chOff x="8317080" y="5734080"/>
            <a:chExt cx="645840" cy="646200"/>
          </a:xfrm>
        </p:grpSpPr>
        <p:sp>
          <p:nvSpPr>
            <p:cNvPr id="145" name=""/>
            <p:cNvSpPr/>
            <p:nvPr/>
          </p:nvSpPr>
          <p:spPr>
            <a:xfrm>
              <a:off x="8317080" y="5734080"/>
              <a:ext cx="645840" cy="646200"/>
            </a:xfrm>
            <a:custGeom>
              <a:avLst/>
              <a:gdLst>
                <a:gd name="textAreaLeft" fmla="*/ 41760 w 645840"/>
                <a:gd name="textAreaRight" fmla="*/ 604080 w 645840"/>
                <a:gd name="textAreaTop" fmla="*/ 41760 h 646200"/>
                <a:gd name="textAreaBottom" fmla="*/ 604440 h 646200"/>
              </a:gdLst>
              <a:ahLst/>
              <a:rect l="textAreaLeft" t="textAreaTop" r="textAreaRight" b="textAreaBottom"/>
              <a:pathLst>
                <a:path w="21600" h="21612">
                  <a:moveTo>
                    <a:pt x="0" y="0"/>
                  </a:moveTo>
                  <a:lnTo>
                    <a:pt x="21600" y="0"/>
                  </a:lnTo>
                  <a:lnTo>
                    <a:pt x="21600" y="21612"/>
                  </a:lnTo>
                  <a:lnTo>
                    <a:pt x="0" y="21612"/>
                  </a:lnTo>
                  <a:close/>
                </a:path>
                <a:path fill="lightenLess" w="21600" h="2161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2">
                  <a:moveTo>
                    <a:pt x="21600" y="0"/>
                  </a:moveTo>
                  <a:lnTo>
                    <a:pt x="21600" y="21612"/>
                  </a:lnTo>
                  <a:lnTo>
                    <a:pt x="20200" y="20212"/>
                  </a:lnTo>
                  <a:lnTo>
                    <a:pt x="20200" y="1400"/>
                  </a:lnTo>
                  <a:close/>
                </a:path>
                <a:path fill="darkenLess" w="21600" h="21612">
                  <a:moveTo>
                    <a:pt x="21600" y="21612"/>
                  </a:moveTo>
                  <a:lnTo>
                    <a:pt x="0" y="21612"/>
                  </a:lnTo>
                  <a:lnTo>
                    <a:pt x="1400" y="20212"/>
                  </a:lnTo>
                  <a:lnTo>
                    <a:pt x="20200" y="20212"/>
                  </a:lnTo>
                  <a:close/>
                </a:path>
                <a:path fill="lighten" w="21600" h="21612">
                  <a:moveTo>
                    <a:pt x="0" y="2161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59640" y="5925960"/>
              <a:ext cx="358920" cy="238320"/>
            </a:xfrm>
            <a:prstGeom prst="leftArrow">
              <a:avLst>
                <a:gd name="adj1" fmla="val 50000"/>
                <a:gd name="adj2" fmla="val 37651"/>
              </a:avLst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_el libro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los artículo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Telecomunicaciones y audiovisual: cuestiones disputadas” (2004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iagnóstico y desafíos pendientes en las telecomunicaciones contemporáneas” (Gaspar Ariño Ortiz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s telecomunicaciones en encrucijada: reformas necesarias” (GA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Telecomunicaciones: viejas restricciones y nuevas libertades en los mercados emergentes” (GAO y Juan Manuel de la Cuétara Martínez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_introducció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Situación del mercado de las telecomunicaciones hasta la década de los ’9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sarrollo de nuevas tecnologías: hacia la banda anch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plosivo desarrollo de Intern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Fuerte crecimiento de la telefonía móv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pertura en la regulación para provocar competen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Bonanza económica glob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int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Resultado: errónea proyección del futuro del se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recimiento de la dema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Gasto per cápita y asimilación de nuevos servic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cesiva confianza en el poder regulatorio del merc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 sociedad de la información llegará más lento de lo esperado (y desead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int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onsecuencias: crisis en el sector de las telecomunicaci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Quiebras estrepitosas o pérdidas gigantesc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aída del valor de las empres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sconfianza en el futuro de los negoc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l desafí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mendar el camino hacia la explotación de las telecomunicaciones en tanto prestación de servicios y ofrecimiento de conteni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_marco lega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5720" y="1447920"/>
            <a:ext cx="7236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Actual modelo regulatori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statutos jurídicos según servicios (telefonía fija / telefonía móvi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Últimamente, regulación según tecnologías aplica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s un mercado en el que pueden interactuar una infinidad de actores (interconexión obligatori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Protección del más débil frente a los actores incumbentes (figura del PS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bjetivo: rápido desarrollo de las telecomunicaciones para lograr la sociedad de la informa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19280" y="2276640"/>
            <a:ext cx="1081080" cy="647640"/>
            <a:chOff x="1619280" y="2276640"/>
            <a:chExt cx="1081080" cy="647640"/>
          </a:xfrm>
        </p:grpSpPr>
        <p:sp>
          <p:nvSpPr>
            <p:cNvPr id="102" name=""/>
            <p:cNvSpPr/>
            <p:nvPr/>
          </p:nvSpPr>
          <p:spPr>
            <a:xfrm>
              <a:off x="1619280" y="2276640"/>
              <a:ext cx="574560" cy="574560"/>
            </a:xfrm>
            <a:custGeom>
              <a:avLst/>
              <a:gdLst>
                <a:gd name="textAreaLeft" fmla="*/ 37080 w 574560"/>
                <a:gd name="textAreaRight" fmla="*/ 537480 w 574560"/>
                <a:gd name="textAreaTop" fmla="*/ 37080 h 574560"/>
                <a:gd name="textAreaBottom" fmla="*/ 5374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050920" y="2276640"/>
              <a:ext cx="649440" cy="2887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0920" y="2565360"/>
              <a:ext cx="649440" cy="3589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92360" y="2276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ff"/>
                  </a:solidFill>
                  <a:latin typeface="Verdana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marco leg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5720" y="1447920"/>
            <a:ext cx="7236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ríticas a este model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Fuerte desincentivo a la inversión en nuevas re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Proliferación de operadores virtu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Temor; inseguridad (jurídica) ante el llamado riesgo regulator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obreregulación a operadores de redes v/s bajísima regulación específica de prestadores de servic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marco leg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ropuestas de solu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Banda ancha como norte de la indust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Necesaria reestructuración del sector: fortalecimiento de la competencia desde el consumid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definir (correctamente) los merc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 regulación debe ser, en principio, ex post, y sólo como excepción ex a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4005360"/>
            <a:ext cx="1008000" cy="574560"/>
            <a:chOff x="1619280" y="4005360"/>
            <a:chExt cx="1008000" cy="574560"/>
          </a:xfrm>
        </p:grpSpPr>
        <p:sp>
          <p:nvSpPr>
            <p:cNvPr id="111" name=""/>
            <p:cNvSpPr/>
            <p:nvPr/>
          </p:nvSpPr>
          <p:spPr>
            <a:xfrm>
              <a:off x="1619280" y="4005360"/>
              <a:ext cx="574560" cy="574560"/>
            </a:xfrm>
            <a:custGeom>
              <a:avLst/>
              <a:gdLst>
                <a:gd name="textAreaLeft" fmla="*/ 37080 w 574560"/>
                <a:gd name="textAreaRight" fmla="*/ 537480 w 574560"/>
                <a:gd name="textAreaTop" fmla="*/ 37080 h 574560"/>
                <a:gd name="textAreaBottom" fmla="*/ 5374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050920" y="4292640"/>
              <a:ext cx="57636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2360" y="4005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ff"/>
                  </a:solidFill>
                  <a:latin typeface="Verdana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_rol del regulado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uestiones prev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lcance de la regulación (normativo-jurídica) en el desarrollo de la indust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ntiguos monopolios ya fueron super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safíos regulatori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ompetencia entre pocos: ideal de la indust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gulación ex post y reglas generales de la competencia en mercados emergen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21:06:45Z</dcterms:created>
  <dc:creator>Martín Gerlach</dc:creator>
  <dc:description/>
  <cp:keywords/>
  <dc:language>en-US</dc:language>
  <cp:lastModifiedBy>Martín Gerlach</cp:lastModifiedBy>
  <dcterms:modified xsi:type="dcterms:W3CDTF">2005-04-25T05:29:16Z</dcterms:modified>
  <cp:revision>27</cp:revision>
  <dc:subject/>
  <dc:title>_TELECOMUNICACIONES Y                    AUDIOVISUAL</dc:title>
</cp:coreProperties>
</file>