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3CA-7FC9-40C6-854E-FA5779D92E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ualidad computador –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me p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ibro encargado por Telefónica España (ses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Digitalización, telefonía móvil, XXXXXXXXXXXXXXXXXXXXXXXXXX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l episodio de las empresas punto com (Amazon, Patagon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Sobreoferta de re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Quiebra de Worldcom es la mayor quiebra empresarial en la historia de EEUU: activos por USD 100.000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(OJO QUE ESTO ES PARA EL FINAL) Acceso como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odity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, servicios como principal ingreso de las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Converg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SM = poder significativo de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Paso de monopolios estatales a multi prestadores de servicios: multi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· · Mercado telefónico = red fija + telefonía mó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Espectro radioeléctrico como recurso esca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Importancia estratégica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Función social de las telecomun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Agregación obligatoria de redes: protección a entrantes y no a consum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· Mercados emergentes tendrán siempre PSM, pero futur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8BD-CAE5-4926-90B7-A11EFD4A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73A-6EA9-4946-91AA-C3E66AA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C37-11EE-4C12-8AB1-4AFCB630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32E-257D-4410-A0E8-05D4A307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4FC3-682C-4BA1-A0F6-066FFBB9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3D90-90A2-46EA-8CA2-9025A809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8647-52A8-4776-8159-8517F34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594B-AFFD-47CD-9C5E-52031F7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3E07-C8F4-4433-99FC-4AADF2B5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4C45-8A65-4287-ABC1-6B2F4143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69F-E13F-4625-9E95-EDEB7D27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663-13DD-4FD6-8B6A-A257E1E2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748-ABA9-45CF-927D-070D0C8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4F7-8920-4558-AA33-2D61E89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0254-82A1-4FE4-A7AA-3D283634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82FB-C8F3-464A-8857-14491497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8881-E0C1-41DF-806B-E16EE87B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65D-62BF-4B41-8DB7-4B79D1A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367-EEC0-4CED-AF3C-625D887E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F88-B9F1-44C1-97A0-240EAA5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40C0-A9D1-4D0F-BC79-63D5FF19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1AE-1FDC-48DF-950E-47BE4E2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50F9-02EF-4808-B661-258C277F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EB4-E94A-4A4C-90E8-DF93ABC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A900-9D0E-451A-9390-F8070BAFFDCF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6633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CC67-338C-4E71-B401-B94FEDC8E00E}" type="slidenum">
              <a:rPr b="0" lang="es-ES" sz="1400" spc="-1" strike="noStrike">
                <a:solidFill>
                  <a:srgbClr val="6633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280" y="378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d7c5b5"/>
                </a:solidFill>
                <a:latin typeface="Verdana"/>
              </a:rPr>
              <a:t>_telecomunicaciones y audiovisual</a:t>
            </a:r>
            <a:endParaRPr b="0" lang="en-US" sz="25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71280" y="494136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b2b2b2"/>
                </a:solidFill>
                <a:latin typeface="Verdana"/>
              </a:rPr>
              <a:t>cuestiones disputadas</a:t>
            </a:r>
            <a:endParaRPr b="0" lang="en-US" sz="20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desafíos de la industr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Banda ancha: acceso a redes como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di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rrollo de servicios atractivos y renta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en telefonía móvil: 3G es el fut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1120" y="4157280"/>
            <a:ext cx="279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d7c5b5"/>
                </a:solidFill>
                <a:latin typeface="Verdana"/>
              </a:rPr>
              <a:t>_fin</a:t>
            </a:r>
            <a:endParaRPr b="0" lang="en-US" sz="7200" spc="-1" strike="noStrike">
              <a:solidFill>
                <a:srgbClr val="d7c5b5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vergencia (tecnológica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nfluyen 2 o más servicios en una misma plataforma o apar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47640" y="3284640"/>
            <a:ext cx="6696360" cy="3095640"/>
            <a:chOff x="1547640" y="3284640"/>
            <a:chExt cx="6696360" cy="3095640"/>
          </a:xfrm>
        </p:grpSpPr>
        <p:sp>
          <p:nvSpPr>
            <p:cNvPr id="122" name=""/>
            <p:cNvSpPr/>
            <p:nvPr/>
          </p:nvSpPr>
          <p:spPr>
            <a:xfrm>
              <a:off x="1547640" y="3284640"/>
              <a:ext cx="6624720" cy="3095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835280" y="3573360"/>
              <a:ext cx="1974600" cy="25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979640" y="5300640"/>
              <a:ext cx="287280" cy="2872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572000" y="3500280"/>
              <a:ext cx="3672000" cy="2620440"/>
              <a:chOff x="4572000" y="3500280"/>
              <a:chExt cx="3672000" cy="2620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572000" y="3500280"/>
                <a:ext cx="251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OZ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88000" y="5084640"/>
                <a:ext cx="302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E-M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88000" y="400536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FA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930920" y="4508640"/>
                <a:ext cx="244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NAVEGACIÓ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2000" y="5661000"/>
                <a:ext cx="36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292929"/>
                    </a:solidFill>
                    <a:latin typeface="Verdana"/>
                  </a:rPr>
                  <a:t>VIDEO EN LÍNEA (TV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274920" y="3716280"/>
              <a:ext cx="1512720" cy="2160720"/>
              <a:chOff x="3274920" y="3716280"/>
              <a:chExt cx="1512720" cy="2160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3274920" y="3716280"/>
                <a:ext cx="1296720" cy="72072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3274920" y="4220640"/>
                <a:ext cx="1439640" cy="2178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74920" y="4437000"/>
                <a:ext cx="1512720" cy="28728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74920" y="4437000"/>
                <a:ext cx="1439640" cy="86364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74920" y="4437000"/>
                <a:ext cx="1223640" cy="1440000"/>
              </a:xfrm>
              <a:prstGeom prst="line">
                <a:avLst/>
              </a:prstGeom>
              <a:ln cap="sq" w="1260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38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59640" y="5925960"/>
              <a:ext cx="358560" cy="238320"/>
            </a:xfrm>
            <a:prstGeom prst="leftArrow">
              <a:avLst>
                <a:gd name="adj1" fmla="val 50000"/>
                <a:gd name="adj2" fmla="val 37613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Verdana"/>
              </a:rPr>
              <a:t>_complementos</a:t>
            </a: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5360" y="1447560"/>
            <a:ext cx="7209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rcado de la telefo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Hasta hoy se ha considerado que la telefonía fija no compite con la telefonía móvi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Craso error: se ha demostrado la sustituibilidad entre est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79640" y="3357720"/>
          <a:ext cx="6218280" cy="336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9640" y="3357720"/>
                    <a:ext cx="6218280" cy="33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8317080" y="5734080"/>
            <a:ext cx="645840" cy="646200"/>
            <a:chOff x="8317080" y="5734080"/>
            <a:chExt cx="645840" cy="646200"/>
          </a:xfrm>
        </p:grpSpPr>
        <p:sp>
          <p:nvSpPr>
            <p:cNvPr id="145" name=""/>
            <p:cNvSpPr/>
            <p:nvPr/>
          </p:nvSpPr>
          <p:spPr>
            <a:xfrm>
              <a:off x="8317080" y="5734080"/>
              <a:ext cx="645840" cy="646200"/>
            </a:xfrm>
            <a:custGeom>
              <a:avLst/>
              <a:gdLst>
                <a:gd name="textAreaLeft" fmla="*/ 41760 w 645840"/>
                <a:gd name="textAreaRight" fmla="*/ 604080 w 645840"/>
                <a:gd name="textAreaTop" fmla="*/ 41760 h 646200"/>
                <a:gd name="textAreaBottom" fmla="*/ 604440 h 646200"/>
              </a:gdLst>
              <a:ahLst/>
              <a:rect l="textAreaLeft" t="textAreaTop" r="textAreaRight" b="textAreaBottom"/>
              <a:pathLst>
                <a:path w="21600" h="21612">
                  <a:moveTo>
                    <a:pt x="0" y="0"/>
                  </a:moveTo>
                  <a:lnTo>
                    <a:pt x="21600" y="0"/>
                  </a:lnTo>
                  <a:lnTo>
                    <a:pt x="21600" y="21612"/>
                  </a:lnTo>
                  <a:lnTo>
                    <a:pt x="0" y="21612"/>
                  </a:lnTo>
                  <a:close/>
                </a:path>
                <a:path fill="lightenLess" w="21600" h="2161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2">
                  <a:moveTo>
                    <a:pt x="21600" y="0"/>
                  </a:moveTo>
                  <a:lnTo>
                    <a:pt x="21600" y="21612"/>
                  </a:lnTo>
                  <a:lnTo>
                    <a:pt x="20200" y="20212"/>
                  </a:lnTo>
                  <a:lnTo>
                    <a:pt x="20200" y="1400"/>
                  </a:lnTo>
                  <a:close/>
                </a:path>
                <a:path fill="darkenLess" w="21600" h="21612">
                  <a:moveTo>
                    <a:pt x="21600" y="21612"/>
                  </a:moveTo>
                  <a:lnTo>
                    <a:pt x="0" y="21612"/>
                  </a:lnTo>
                  <a:lnTo>
                    <a:pt x="1400" y="20212"/>
                  </a:lnTo>
                  <a:lnTo>
                    <a:pt x="20200" y="20212"/>
                  </a:lnTo>
                  <a:close/>
                </a:path>
                <a:path fill="lighten" w="21600" h="21612">
                  <a:moveTo>
                    <a:pt x="0" y="2161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59640" y="5925960"/>
              <a:ext cx="358920" cy="238320"/>
            </a:xfrm>
            <a:prstGeom prst="leftArrow">
              <a:avLst>
                <a:gd name="adj1" fmla="val 50000"/>
                <a:gd name="adj2" fmla="val 37651"/>
              </a:avLst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el libro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los artículo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Telecomunicaciones y audiovisual: cuestiones disputadas” (2004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agnóstico y desafíos pendientes en las telecomunicaciones contemporáneas” (Gaspar Ariño Ortiz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s telecomunicaciones en encrucijada: reformas necesarias” (GA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lecomunicaciones: viejas restricciones y nuevas libertades en los mercados emergentes” (GAO y Juan Manuel de la Cuétara Martínez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Situación del mercado de las telecomunicaciones hasta la década de los ’9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arrollo de nuevas tecnologías: hacia la banda anch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osivo desarrollo de Inter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crecimiento de la telefonía móv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pertura en la regulación para provocar compe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Bonanza económica glob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Resultado: errónea proyección del futuro del sect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recimiento de la dema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Gasto per cápita y asimilación de nuevos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cesiva confianza en el poder regulatorio del merc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sociedad de la información llegará más lento de lo esperado (y desead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onsecuencias: crisis en el sector de las telecomunicac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Quiebras estrepitosas o pérdidas gigantes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aída del valor de las empres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sconfianza en el futuro de los nego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l desafí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nmendar el camino hacia la explotación de las telecomunicaciones en tanto prestación de servicios y ofrecimiento de conten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Actual modelo regulatori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tatutos jurídicos según servicios (telefonía fija / telefonía móvi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Últimamente, regulación según tecnologías aplica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s un mercado en el que pueden interactuar una infinidad de actores (interconexión obligatori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tección del más débil frente a los actores incumbentes (figura del PS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bjetivo: rápido desarrollo de las telecomunicaciones para lograr la sociedad de la inform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19280" y="2276640"/>
            <a:ext cx="1081080" cy="647640"/>
            <a:chOff x="1619280" y="2276640"/>
            <a:chExt cx="1081080" cy="647640"/>
          </a:xfrm>
        </p:grpSpPr>
        <p:sp>
          <p:nvSpPr>
            <p:cNvPr id="102" name=""/>
            <p:cNvSpPr/>
            <p:nvPr/>
          </p:nvSpPr>
          <p:spPr>
            <a:xfrm>
              <a:off x="1619280" y="227664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050920" y="2276640"/>
              <a:ext cx="649440" cy="2887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0920" y="2565360"/>
              <a:ext cx="649440" cy="3589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92360" y="2276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5720" y="1447920"/>
            <a:ext cx="72360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ríticas a este model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Fuerte desincentivo a la inversión en nuevas re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Proliferación de operadores virtu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emor; inseguridad (jurídica) ante el llamado riesgo regulato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obreregulación a operadores de redes v/s bajísima regulación específica de prestadores de servici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(…)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_marco leg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ropuestas de solu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Banda ancha como norte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Necesaria reestructuración del sector: fortalecimiento de la competencia desde el consumid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definir (correctamente) los merc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 regulación debe ser, en principio, ex post, y sólo como excepción ex an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4005360"/>
            <a:ext cx="1008000" cy="574560"/>
            <a:chOff x="1619280" y="4005360"/>
            <a:chExt cx="1008000" cy="574560"/>
          </a:xfrm>
        </p:grpSpPr>
        <p:sp>
          <p:nvSpPr>
            <p:cNvPr id="111" name=""/>
            <p:cNvSpPr/>
            <p:nvPr/>
          </p:nvSpPr>
          <p:spPr>
            <a:xfrm>
              <a:off x="1619280" y="4005360"/>
              <a:ext cx="574560" cy="574560"/>
            </a:xfrm>
            <a:custGeom>
              <a:avLst/>
              <a:gdLst>
                <a:gd name="textAreaLeft" fmla="*/ 37080 w 574560"/>
                <a:gd name="textAreaRight" fmla="*/ 537480 w 574560"/>
                <a:gd name="textAreaTop" fmla="*/ 37080 h 574560"/>
                <a:gd name="textAreaBottom" fmla="*/ 53748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050920" y="4292640"/>
              <a:ext cx="57636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2360" y="4005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ffffff"/>
                  </a:solidFill>
                  <a:latin typeface="Verdana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Verdana"/>
              </a:rPr>
              <a:t>_rol del regulado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Cuestiones previ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lcance de la regulación (normativo-jurídica) en el desarrollo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ntiguos monopolios ya fueron super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esafíos regulatori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ompetencia entre pocos: ideal de la indust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gulación ex post y reglas generales de la competencia en mercados emergen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21:06:45Z</dcterms:created>
  <dc:creator>Martín Gerlach</dc:creator>
  <dc:description/>
  <cp:keywords/>
  <dc:language>en-US</dc:language>
  <cp:lastModifiedBy>Martín Gerlach</cp:lastModifiedBy>
  <dcterms:modified xsi:type="dcterms:W3CDTF">2005-04-25T05:29:16Z</dcterms:modified>
  <cp:revision>27</cp:revision>
  <dc:subject/>
  <dc:title>_TELECOMUNICACIONES Y                    AUDIOVISUAL</dc:title>
</cp:coreProperties>
</file>