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2DAF-BE85-4172-B802-8884148A6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7A14-6845-49ED-B5D8-67B6F018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7CD9-6AC5-471E-AF67-A52BCF935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3551-15F0-49F5-8F7D-D8BB92DD7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34FA-0057-443D-9CAB-5CD12539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AB7A-7D25-4592-AEC2-C27F285E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928B-4CB2-4B06-9C38-165FC733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0896-F4D3-4BBB-A74D-CEABA9D1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C783-CC72-4214-9808-B8D2F98E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4133-26C4-4913-8D85-DEC3535A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2647-5DD1-4CD1-8215-5F3F7F87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6170-7F0E-4D75-A7F8-78474486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5C17-B8AB-4E49-9545-00FEE5CCB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CLUSIONES FIN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volución hacia un espacio acústico, era digital de un desarrollo adonde el software no posee lím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información como el tesoro único a futuro…necesidad de análisis por el modelo tetraédr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digma del avance tecnológico, mito de Narci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51280" y="1341360"/>
            <a:ext cx="79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200" spc="-1" strike="noStrike">
                <a:solidFill>
                  <a:srgbClr val="000000"/>
                </a:solidFill>
                <a:latin typeface="Lucida Blackletter"/>
              </a:rPr>
              <a:t>FI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바탕"/>
              </a:rPr>
              <a:t>Marshall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5400" spc="-1" strike="noStrike">
                <a:solidFill>
                  <a:srgbClr val="000000"/>
                </a:solidFill>
                <a:latin typeface="바탕"/>
              </a:rPr>
              <a:t>McLuh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Georgia"/>
              </a:rPr>
              <a:t>LA ALDEA GLOB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Georgia"/>
              </a:rPr>
              <a:t>Transformaciones en la vida y los medios de comunicación mundiales en el siglo XXI. La globalización del entorno. Libro del hemisferio derech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Georgia"/>
              </a:rPr>
              <a:t>Ultimo trabajo de Marshall McLuh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771640" y="260280"/>
            <a:ext cx="39830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¿Es un hecho…que por medio de la electricidad, el mundo de la materia se ha convertido en un gran nervio, vibrando a miles de kilometros en un milésima de segundo?¡Mas bien, el globo redondo es una vasta cabeza, un cerebro, instinto con inteligencia! O debemos decir que es en sí un pensamiento, nada más que un pensamiento, y ya no la sustancia que creíamos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haniel Hawthorn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The House of Seven Gab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l cerebro como dos Hemisferios Interconectad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11280" y="2708280"/>
            <a:ext cx="3379680" cy="3456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148360" y="2492280"/>
            <a:ext cx="3663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059280" y="189000"/>
            <a:ext cx="2730240" cy="3240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00000" y="3573360"/>
            <a:ext cx="724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ndo Euclidiano es el mundo del hemisferio izquierdo, visual. limitado y contenible de manera tal que el hombre lo pueda contener con sus propias manos. EL DESEQUILIBRIO DE LOS SENT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 mundo Eisteniano por el contrario es el mundo auditivo, oral, primitivo que es eterno e infinito, como un eco que resuena en el profundo vací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763640" y="333360"/>
            <a:ext cx="597528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a globalización nos une, de tal manera que estamos tan cerca físicamente. que inevitablemente nos terminará uniendo electrónic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a gran proyección de los sentidos en el medio electrónic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necesitamos la computadora para poder entrar a percibir en el nuevo medio virtua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e pierde la individualidad y el pensamiento se funde en una gran conciencia integral desprovista de centr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l nuevo mundo adonde la robotización es el ultimo fin del hombre para entrar a formar parte de la nueva representación de la naturalez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98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98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98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98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98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3T22:29:43Z</dcterms:created>
  <dc:creator>Dark Wave</dc:creator>
  <dc:description/>
  <dc:language>en-US</dc:language>
  <cp:lastModifiedBy>Alfredo</cp:lastModifiedBy>
  <dcterms:modified xsi:type="dcterms:W3CDTF">2005-04-25T00:53:24Z</dcterms:modified>
  <cp:revision>7</cp:revision>
  <dc:subject/>
  <dc:title>Diapositiva 1</dc:title>
</cp:coreProperties>
</file>