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BA3-00A0-4AED-B2F8-C4DB5B86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432-AD2B-47A5-88B7-009EC76F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1FE-0736-4911-982E-17C7387D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689-F912-42F3-9ADF-3B9508C8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96A-78AF-43FB-A50D-0D24AF8B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CCE-8834-4D8A-AEA1-59187025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F5E-B985-4FC3-9A65-BD0E34BE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34D-4182-4FD4-B75A-FB670402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93B-1FFF-401C-81CB-A2DBA566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534-F795-4EBE-95F0-2ABD74BE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C8B-81C4-4350-A140-23ED23C0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704-06F0-435C-AFE9-F4D732E1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D9E3-35BF-40D3-AD74-9079D1DDE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olución hacia un espacio acústico, era digital de un desarrollo adonde el software no posee lí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información como el tesoro único a futuro…necesidad de análisis por el modelo tetraéd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digma del avance tecnológico, mito de Narc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51280" y="1341360"/>
            <a:ext cx="79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Lucida Blackletter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바탕"/>
              </a:rPr>
              <a:t>Marshall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바탕"/>
              </a:rPr>
              <a:t>McLuh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Georgia"/>
              </a:rPr>
              <a:t>LA ALDEA GLOB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Georgia"/>
              </a:rPr>
              <a:t>Transformaciones en la vida y los medios de comunicación mundiales en el siglo XXI. La globalización del entorno. Libro del hemisferio derech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Georgia"/>
              </a:rPr>
              <a:t>Ultimo trabajo de Marshall McLu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3983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Es un hecho…que por medio de la electricidad, el mundo de la materia se ha convertido en un gran nervio, vibrando a miles de kilometros en un milésima de segundo?¡Mas bien, el globo redondo es una vasta cabeza, un cerebro, instinto con inteligencia! O debemos decir que es en sí un pensamiento, nada más que un pensamiento, y ya no la sustancia que creíamo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haniel Hawthorn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House of Seven G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 cerebro como dos Hemisferios Interconecta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3796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366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273024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3573360"/>
            <a:ext cx="72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ndo Euclidiano es el mundo del hemisferio izquierdo, visual. limitado y contenible de manera tal que el hombre lo pueda contener con sus propias manos. EL DESEQUILIBRIO DE LOS SEN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mundo Eisteniano por el contrario es el mundo auditivo, oral, primitivo que es eterno e infinito, como un eco que resuena en el profundo vac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975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globalización nos une, de tal manera que estamos tan cerca físicamente. que inevitablemente nos terminará uniendo electrón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gran proyección de los sentidos en el medio electrónic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ecesitamos la computadora para poder entrar a percibir en el nuevo medio virtu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 pierde la individualidad y el pensamiento se funde en una gran conciencia integral desprovista de centr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nuevo mundo adonde la robotización es el ultimo fin del hombre para entrar a formar parte de la nueva representación de la naturalez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22:29:43Z</dcterms:created>
  <dc:creator>Dark Wave</dc:creator>
  <dc:description/>
  <dc:language>en-US</dc:language>
  <cp:lastModifiedBy>Alfredo</cp:lastModifiedBy>
  <dcterms:modified xsi:type="dcterms:W3CDTF">2005-04-25T00:53:24Z</dcterms:modified>
  <cp:revision>7</cp:revision>
  <dc:subject/>
  <dc:title>Diapositiva 1</dc:title>
</cp:coreProperties>
</file>