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100-7F33-4523-9EB0-1DFEB7C2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591-4BF8-417D-A2B7-7C7EC70D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69F-55F0-48F0-A4DD-F0B5FA24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DC5-2399-4DEB-B793-859B90CF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527-4957-48F8-9265-57B74AF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097-952D-49AF-B807-C22620DE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FA8-F4E9-4EEF-8A4C-B49B97CD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C4E-B47C-408B-91B5-91C7BF9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092-C8BC-4A33-A7D0-13A42A9E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493-CFD2-49A1-83F5-83BF5FD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6B9-E0F1-4563-914A-15C05963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381-87A7-471F-9FCC-ED96BB5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540-608C-461A-BBB6-965BA5CE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olución hacia un espacio acústico, era digital de un desarrollo adonde el software no posee lí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formación como el tesoro único a futuro…necesidad de análisis por el modelo tetraéd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digma del avance tecnológico, mito de Narc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51280" y="1341360"/>
            <a:ext cx="79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Lucida Blackletter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바탕"/>
              </a:rPr>
              <a:t>Marshall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바탕"/>
              </a:rPr>
              <a:t>McLuh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LA ALDEA GLOB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Transformaciones en la vida y los medios de comunicación mundiales en el siglo XXI. La globalización del entorno. Libro del hemisferio derec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Ultimo trabajo de Marshall McLu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3983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Es un hecho…que por medio de la electricidad, el mundo de la materia se ha convertido en un gran nervio, vibrando a miles de kilometros en un milésima de segundo?¡Mas bien, el globo redondo es una vasta cabeza, un cerebro, instinto con inteligencia! O debemos decir que es en sí un pensamiento, nada más que un pensamiento, y ya no la sustancia que creíamo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haniel Hawthorn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House of Seven G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 cerebro como dos Hemisferios Interconect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3796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366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73024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3573360"/>
            <a:ext cx="72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ndo Euclidiano es el mundo del hemisferio izquierdo, visual. limitado y contenible de manera tal que el hombre lo pueda contener con sus propias manos. EL DESEQUILIBRIO DE LOS SEN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undo Eisteniano por el contrario es el mundo auditivo, oral, primitivo que es eterno e infinito, como un eco que resuena en el profundo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975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globalización nos une, de tal manera que estamos tan cerca físicamente. que inevitablemente nos terminará uniendo electrón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gran proyección de los sentidos en el medio electrónic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ecesitamos la computadora para poder entrar a percibir en el nuevo medio virtu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 pierde la individualidad y el pensamiento se funde en una gran conciencia integral desprovista de cen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nuevo mundo adonde la robotización es el ultimo fin del hombre para entrar a formar parte de la nueva representación de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2:29:43Z</dcterms:created>
  <dc:creator>Dark Wave</dc:creator>
  <dc:description/>
  <dc:language>en-US</dc:language>
  <cp:lastModifiedBy>Alfredo</cp:lastModifiedBy>
  <dcterms:modified xsi:type="dcterms:W3CDTF">2005-04-25T00:53:24Z</dcterms:modified>
  <cp:revision>7</cp:revision>
  <dc:subject/>
  <dc:title>Diapositiva 1</dc:title>
</cp:coreProperties>
</file>