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EA623-6BFA-4964-A4A2-682168AA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682B0-C29A-40A7-BEB0-39031FF6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70BC3-D944-468B-87E7-F94EFC8D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67C2D-D28D-4A43-903C-C3C01AB1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735E-A819-44A9-B7E2-2E73EA17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B450-B63D-4690-897E-834356F4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2249-7593-4F78-99C9-4CDD4265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7E55-B56D-453B-A842-DA849978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E0BA-943D-4232-ACCE-CCC48537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A5C2-F44F-4E74-A3CA-24757BE7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C3EB-569C-44E1-8D65-3D753535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B2D5B-67C3-4ECE-8980-789210B6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71E9-0E27-48CE-83FD-0018C2AF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A5C7-43EF-4F3E-A761-F18CF75E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D820-1723-4D36-9CB1-C9B6BBA1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6DF7-81EF-464E-A456-233E3D308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3DD7-0254-4F60-A610-721BCE5F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6AC18-4E43-4E33-8E93-D07AB383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5A16-A48F-4697-8880-B817F087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2DE80-14FA-4E2D-808E-59BAE9FB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3AF6-0494-437C-A65B-4D846012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E1122-3947-401C-A641-940A7D9E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A9097-D999-4706-8D7E-63FF1E7C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EECDB-A0A1-44E8-9678-3B51AE11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85F6-B6A2-404F-8CA6-A8177514AC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0ACC-657B-4A5C-8141-F15CC0594B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2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Arial"/>
              </a:rPr>
              <a:t>Marshall McLuhan </a:t>
            </a:r>
            <a:br>
              <a:rPr sz="6000"/>
            </a:b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y la realidad Virtua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hristopher Horr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 Acústica (audición y habl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fabet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evo orden de los Medios Electrón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ndo todo a la vez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tremendos cambios en materia tecnológica logran que las antiguas ideas de McLuhan tengan un renacer, justamente a la luz de las nuevas tecnologí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fdef6"/>
                </a:solidFill>
                <a:latin typeface="Arial"/>
              </a:rPr>
              <a:t>Marshall McLuha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sador Canadien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 tema: el impacto de los medios de comuni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poca: su punto de mayor fama fue a mediados de los 70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s ideas decaen a su muer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fdef6"/>
                </a:solidFill>
                <a:latin typeface="Arial"/>
              </a:rPr>
              <a:t>¿Por qué estudiar a McLuhan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vival de sus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Por qué? Sus ideas principales sobre  medios de comunicación y la tecnología se encuentran con el mundo act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us ideas pueden aflorar debido a que lo hacen en un ambiente adecu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es eso suficien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ma de conciencia sobre los efectos de los med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Con qué f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 obra se proyecta como herramienta educativa que, utilizada adecuadamente nos mostrará como los medios influyen sobre nosot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Podrá hacerlo con los cambios radicales que ha habi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0" dur="2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eptos Relevant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ejo Retrovi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edio es el Mensa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os Calientes y Frí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spejo Retroviso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relación a los medio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 nuevos medios se contextualizan y conciben en función de tecnologías previa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l Medio es el Mensaj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 que importa es el mensaje mismo y no el contenido de dicho mensaj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 que trasciende es el uso mismo de un determinado medio y no el mensaje que port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alidad Virtua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cLuhan no conoció la tecnología virtual, pero podemos relacionarla en relación a tres concept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erac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mer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ens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os aparecen condensados en su teoría de medios calientes y frí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mersión: esta sensación procede de mecanismos que aíslan suficientemente los sentidos para que una persona se sienta transportada a otro lug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acción: capacidad del ordenador para cambiar una escena virtual, en la que está inmerso el usua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sidad: grado en el cual el mundo virtual le da al usuario información del ento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22:19:16Z</dcterms:created>
  <dc:creator>Lady Astoreth De Lioncourt</dc:creator>
  <dc:description/>
  <dc:language>en-US</dc:language>
  <cp:lastModifiedBy>Lady Astoreth De Lioncourt</cp:lastModifiedBy>
  <dcterms:modified xsi:type="dcterms:W3CDTF">2005-04-20T14:32:44Z</dcterms:modified>
  <cp:revision>11</cp:revision>
  <dc:subject/>
  <dc:title>Marshall McLuhan  y la realidad Virtual</dc:title>
</cp:coreProperties>
</file>