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B34D-6D97-4380-84AA-5FCD14A0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91C3-E6C3-4A02-A28C-5513FEB5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9CF3-2264-462E-9004-A2BEABF8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2922-F691-4288-B73E-C5CCAFD0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20AF-2A20-4A7F-B15E-A59214CB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C110-4445-49A9-9B6F-851972A7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210E-54A6-4E17-9E53-D3D390A7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2D6C-B2A6-4E4B-A393-DADEF68B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3F20-7367-4497-9B69-5F7807E6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A243-759B-428E-9260-CF114EB6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8192-18D5-442C-9905-E50399C3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1D3E-335B-4C81-9C4B-6412DA1E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9893-09E8-4DE5-89C9-8471B826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0E97-66E2-4B6C-A676-1E6522D9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91E3-61CC-4966-A086-1FDDBB17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CB25-73FB-4E9B-8E83-47946237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D488-A40C-4F33-B817-78CF3DCF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B775-707A-4800-9390-52ACF324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6727-B032-48AD-AD63-E7CB4F75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6E38-A1F3-4F12-9DE2-B872370B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ED81-8AE9-4F4C-BE66-408795E9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764D-AED3-42B5-A492-5B3A43DF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7E10-3531-47A3-AA82-144CAAA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2B2B-7638-4925-AA27-92C8721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3DF7-0BFA-4E8D-99A2-CFDD39C163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185D-3E2B-41D7-9A6F-54E25E9586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2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Arial"/>
              </a:rPr>
              <a:t>Marshall McLuhan </a:t>
            </a:r>
            <a:br>
              <a:rPr sz="6000"/>
            </a:b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y la realidad Vir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hristopher Hor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 Acústica (audición y hab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abet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evo orden de los Medios Electrón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do todo a la vez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tremendos cambios en materia tecnológica logran que las antiguas ideas de McLuhan tengan un renacer, justamente a la luz de las nuevas tecnologí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Marshall McLuh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sador Canadien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tema: el impacto de los medios de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poca: su punto de mayor fama fue a mediados de los 70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 ideas decaen a su mue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¿Por qué estudiar a McLuhan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vival de sus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Por qué? Sus ideas principales sobre  medios de comunicación y la tecnología se encuentran con el mundo act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s ideas pueden aflorar debido a que lo hacen en un ambiente adecu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es eso sufici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ma de conciencia sobre los efectos de los me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on qué f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 obra se proyecta como herramienta educativa que, utilizada adecuadamente nos mostrará como los medios influyen sobre nos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Podrá hacerlo con los cambios radicales que ha habi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eptos Relevant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ejo Retrovi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edio es el Mensa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os Calientes y Frí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spejo Retrovis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relación a los medio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nuevos medios se contextualizan y conciben en función de tecnologías previa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l Medio es el Mensaj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que importa es el mensaje mismo y no el contenido de dicho mensaj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que trasciende es el uso mismo de un determinado medio y no el mensaje que port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lidad Virtua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cLuhan no conoció la tecnología virtual, pero podemos relacionarla en relación a tres concep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mer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os aparecen condensados en su teoría de medios calientes y frí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3" dur="20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mersión: esta sensación procede de mecanismos que aíslan suficientemente los sentidos para que una persona se sienta transportada a otro lu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acción: capacidad del ordenador para cambiar una escena virtual, en la que está inmerso el usu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idad: grado en el cual el mundo virtual le da al usuario información del ento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22:19:16Z</dcterms:created>
  <dc:creator>Lady Astoreth De Lioncourt</dc:creator>
  <dc:description/>
  <dc:language>en-US</dc:language>
  <cp:lastModifiedBy>Lady Astoreth De Lioncourt</cp:lastModifiedBy>
  <dcterms:modified xsi:type="dcterms:W3CDTF">2005-04-20T14:32:44Z</dcterms:modified>
  <cp:revision>11</cp:revision>
  <dc:subject/>
  <dc:title>Marshall McLuhan  y la realidad Virtual</dc:title>
</cp:coreProperties>
</file>