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28F89-8B34-4052-9D13-12A9C539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11594-1CF8-4B4C-999F-5F25BB5B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1752-C633-4DDA-95D0-F715F025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BD55-BC7E-45B8-A28A-B7465020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2280-8755-4CDD-9480-F5A95804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EAAF-7223-4A56-922F-C72FEA12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3D44-12FE-473C-98A8-34213B7C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7A13-1E9A-4D2F-9BF3-DA0B536F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BF2E-30DD-48B8-9F32-3C2CBD0B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387E-BFB2-4A23-9703-828541BB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3E23-7B9F-4D6C-BBA7-375CFE89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8CA10-91BC-4FAA-B786-85634589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2A3F-052F-42BD-8AE4-BF4A21F5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F6F2-4AAA-49A1-A92A-6C9719CB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98AF-F5CB-47EB-85B5-7043DF6D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395B-867B-4C62-AA8B-A8FD4D4B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AEE7-2A02-4D77-BFB7-AA400204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9E44-BAA8-492F-87CA-C01C011F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F546-2744-4925-9BFA-3EDAA7FB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1BC1-F247-4D13-8B68-8C872BF8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2DCF-0F76-4B90-BDFC-6DEC46A1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F24B-9E9B-4748-8CAD-E8F9E7C6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593BB-1715-4EDC-8632-17957E95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60994-F465-4233-80E5-BB3CAA2A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0944-EFF5-4441-8C03-EE37E5BAFB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A026-1441-48E8-A924-FD8F5AD0D9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2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Marshall McLuhan </a:t>
            </a:r>
            <a:br>
              <a:rPr sz="6000"/>
            </a:b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y la realidad Virtu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hristopher Horr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 Acústica (audición y habl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fabet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evo orden de los Medios Electrón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ndo todo a la vez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tremendos cambios en materia tecnológica logran que las antiguas ideas de McLuhan tengan un renacer, justamente a la luz de las nuevas tecnologí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Marshall McLuha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sador Canadien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 tema: el impacto de los medios de comun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poca: su punto de mayor fama fue a mediados de los 70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s ideas decaen a su muer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¿Por qué estudiar a McLuhan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vival de sus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Por qué? Sus ideas principales sobre  medios de comunicación y la tecnología se encuentran con el mundo act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us ideas pueden aflorar debido a que lo hacen en un ambiente adecu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es eso suficien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a de conciencia sobre los efectos de los med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on qué f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 obra se proyecta como herramienta educativa que, utilizada adecuadamente nos mostrará como los medios influyen sobre noso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Podrá hacerlo con los cambios radicales que ha habi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eptos Relevan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ejo Retrovi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edio es el Mensa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os Calientes y Frí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7" dur="20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spejo Retroviso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relación a los medio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nuevos medios se contextualizan y conciben en función de tecnologías previa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3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6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 Medio es el Mensaj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que importa es el mensaje mismo y no el contenido de dicho mensaj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que trasciende es el uso mismo de un determinado medio y no el mensaje que port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alidad Virtu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cLuhan no conoció la tecnología virtual, pero podemos relacionarla en relación a tres concept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ra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mer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ns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os aparecen condensados en su teoría de medios calientes y frí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mersión: esta sensación procede de mecanismos que aíslan suficientemente los sentidos para que una persona se sienta transportada a otro lu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acción: capacidad del ordenador para cambiar una escena virtual, en la que está inmerso el usua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sidad: grado en el cual el mundo virtual le da al usuario información del ento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22:19:16Z</dcterms:created>
  <dc:creator>Lady Astoreth De Lioncourt</dc:creator>
  <dc:description/>
  <dc:language>en-US</dc:language>
  <cp:lastModifiedBy>Lady Astoreth De Lioncourt</cp:lastModifiedBy>
  <dcterms:modified xsi:type="dcterms:W3CDTF">2005-04-20T14:32:44Z</dcterms:modified>
  <cp:revision>11</cp:revision>
  <dc:subject/>
  <dc:title>Marshall McLuhan  y la realidad Virtual</dc:title>
</cp:coreProperties>
</file>