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9A5-262B-4C46-B1F9-5984AC0A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781-4515-41B6-B5B9-B90555A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9C6-56B3-4F37-8BFC-3FF26785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0B4-43D1-4474-99FB-60666CFD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3E0-76C9-424D-A2CD-CD49CC4A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5A6-4CE0-40E9-AF11-A92A448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973-1426-4380-BDA9-4D2662FD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CC1-ADE1-47DE-BA56-B4396E22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6F2-537F-4DE6-8781-17A04185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C60-B893-4A66-981D-BA1D0A7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293-8338-485E-A95F-B48444E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3DD-E5FC-4361-8A36-D401842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F63-BBCF-4927-A6F9-1E6AB617D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La Cibernética Y El 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ymond R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tras teorias explican el origen de la informacion reduciendo la racionalidad por la novedad de las experienci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onclusione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inguna maquina va abuscar informacion por si sola si no se le proporciona un origen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uando una maquina lee datos, lo hace porque los individuos las programan para aquell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cibernéticas solo pueden imitar razonamientos lógicos de una forma mas perfecta que el cerebro humano pero no pueden hacer que aumente la informac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Cibernét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Ciencia del control de la informacion por medio de maquinas Ya Sean Estas Naturales  o Artificiales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Informació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Transmición a un ser consciente de una significación, de una noción, por medio de un mensaje mas o menos convencional y por un soporte espacio temporal”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Interes práctico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erar al cerebro y al cuerpo huma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Mitos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ominación del hombre por las ma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dicionamiento y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confunde el almacenamiento por el sent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primer termino la informacion proviene de del ser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solo pueden conservar información o extenderla pero solo la consciencia puede aumentar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Si la informacion viene de los individuos ¿como llega a ello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id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mecanic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diale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rí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s teorias tratan de explicarlo todo racionalmente a costa de la novedad d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13:39Z</dcterms:created>
  <dc:creator>Claudio</dc:creator>
  <dc:description/>
  <dc:language>en-US</dc:language>
  <cp:lastModifiedBy>Claudio</cp:lastModifiedBy>
  <dcterms:modified xsi:type="dcterms:W3CDTF">2005-04-12T01:47:45Z</dcterms:modified>
  <cp:revision>4</cp:revision>
  <dc:subject/>
  <dc:title>La Cibernética Y El Origen De La Información</dc:title>
</cp:coreProperties>
</file>