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C6E-BC07-4674-9459-C0410136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DE2-59EC-42C5-9C68-21924F20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63B-F578-4695-BAE1-7B50FBE9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F4E-C732-4C4B-A581-1BBCC736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890-60E6-412E-9691-3A2059A2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7CD-C0E3-4F9F-A3EC-F0157F47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60C-BC43-49E0-B50B-152828C4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C10-3B66-4CAB-8FEA-41B633EB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BAA-1D92-4111-8077-A5F42826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8B6-6933-4AD3-8DE6-0DAF3480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2F8-8F79-4AF0-8E56-E293FC40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6B3D-FACA-4446-8B14-C5A08E2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5C3-3267-4BEE-8170-9BD602D71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La Cibernética Y El 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aymond R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tras teorias explican el origen de la informacion reduciendo la racionalidad por la novedad de las experiencia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onclusiones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inguna maquina va abuscar informacion por si sola si no se le proporciona un origen de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uando una maquina lee datos, lo hace porque los individuos las programan para aquell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cibernéticas solo pueden imitar razonamientos lógicos de una forma mas perfecta que el cerebro humano pero no pueden hacer que aumente la informacion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Cibernética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Ciencia del control de la informacion por medio de maquinas Ya Sean Estas Naturales  o Artificiales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Información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Transmición a un ser consciente de una significación, de una noción, por medio de un mensaje mas o menos convencional y por un soporte espacio temporal”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Interes práctico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iberar al cerebro y al cuerpo human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Mitos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ominación del hombre por las maqu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dicionamiento y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munic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confunde el almacenamiento por el sent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primer termino la informacion proviene de del ser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solo pueden conservar información o extenderla pero solo la consciencia puede aumentar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Si la informacion viene de los individuos ¿como llega a ello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id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mecanic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diale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rí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s teorias tratan de explicarlo todo racionalmente a costa de la novedad de la exper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10:13:39Z</dcterms:created>
  <dc:creator>Claudio</dc:creator>
  <dc:description/>
  <dc:language>en-US</dc:language>
  <cp:lastModifiedBy>Claudio</cp:lastModifiedBy>
  <dcterms:modified xsi:type="dcterms:W3CDTF">2005-04-12T01:47:45Z</dcterms:modified>
  <cp:revision>4</cp:revision>
  <dc:subject/>
  <dc:title>La Cibernética Y El Origen De La Información</dc:title>
</cp:coreProperties>
</file>