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76ED8-3AAE-4B36-B381-68BD2BDA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F55B9-1561-4643-AB98-227CFF80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83511-1940-47F7-9BAB-DD0DAD73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951F5-4A28-47D2-8DF4-A3468F6F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4E11-09B7-483A-A94B-3D831DC8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DF21-7B05-43E5-951B-44294FAD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29EA-62E7-45B2-9A58-9F437283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9811-A682-4AE5-AC64-ED220BDD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8F98-9D69-4C3F-B930-F6B7DF89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D51F-86AB-4051-8F7E-5C4723DD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4C24-7109-40B8-ABB0-70AFC51A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01971-1AEF-4DEB-847A-CB5AF643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E470-B2F6-4190-89FF-C982958A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19E1-DEB8-46FB-A0B2-B462FA4C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A9BA-5564-4558-A0F0-4BE2B962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F63C-9C98-4E94-B6E9-38CF649E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B49C-7A0D-4496-94DE-8460BB2F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59A0E-4311-4700-9BAF-98C4614E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1A032-F8B0-4251-BAC5-506277DE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EB186-55FE-47AF-8425-7075F0A7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B2E7D-7500-4A18-9C7F-F4BEBC59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B0BE7-131B-4418-A529-426022F9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CE60E-64D8-4A87-8832-27A4DD15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D174A-B037-46E7-A21E-1F6BC444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BF6C-0E7B-4765-B66E-2B95A53D6AD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FA11-C418-4E3D-9FBE-62815DA0305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6920" y="1125360"/>
            <a:ext cx="4683240" cy="45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 realidad virtual:     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Hic et nunc…aquí y ahor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Ya no existe el aquí, todo es ahora!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ae una considerable amenaza de perdida del otro, el ocaso de la presencia física en beneficio de una presencia inmaterial y fantasmagórica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Hay un problema de relación con el otro y con el mun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ae consigo la pérdida de la cuidad re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tiende a la desintegración de la comunidad de los presentes en beneficio de la de los ausen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pérdida del cuerpo propio conlleva la pérdida del cuerpo del otro, en beneficio de una especie de espectro en el espacio virtual de Interne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to es una de las caras del accidente gener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uando tengamos todas las interactividades posibles, la sensación de estrechez del mundo se hará insoportab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Habrá una contaminación de las dimensiones real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¿Salida hacia el cielo? Apollo 1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s tecnologías de la información están amenazando: relación con pareja, con vecino, desaparición de la ciu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l perder la ciudad perdemos todo, volviendo a encontrarla ganaremos todo, la solución esta en reorganizar el lugar de vida en común y en recuperar la lengu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pitulo 3: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nómeno de la metropolización: pequeñas ciudades se desertizan, globalización de lo urbano, algunas ciudades se convierten en el centro del mund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. XXI: cronopolítica. El espacio real de la nación se ve alterado por la urbanización del tiempo real y la creación de una hiperciudad virtu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 interactividad puede privar al hombre de su libre albedrío, para encadenarlo a un cerebro mundial, como una neurona más. Sociedad cibernétic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liminación del espacio- mundo y del tiempo en beneficio de otro espacio y de otro tiemp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us ex machina: dios máquina de la inform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feta de la desgracia: el accidente es un milagro revelador. Inventar el barco es inventar el naufragio…cada tecnología lleva consigo su propia negatividad que aparece al mismo tiempo que el progreso técnic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o el desarrollo de las tecnologías sólo puede hacerse a través del análisis y la superación de los acciden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t tiene su propia negativ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través de interactividad, las redes y la globalización que provoca la revolución de las transmisiones, se crea la posibilidad de un accidente general.. “por doquier a la vez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j.: crack bursátil de 1987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interactividad es a la sociedad lo que la radioactividad es a la materia”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y: la amenaza se ha repartido y hay que tener en cuenta todos los objetos de comunicación, transporte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pitulo 4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uego de la II G.M. imperó una política de la disuasión, la cual se desvanece ho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os conflictos mundiales muestran que la guerra ha recomenz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ha creado una Babel militar a causa de la proliferación nuclear y del terrorismo generaliz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 guerra de los Balcanes y la del Líbano habrían sido impensables sin la tele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Han sido desencadenadas y alentadas por el odio que los medios de comunicación han suscitado a través de las TV lib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eality shows: los medios buscan convertirse en vehículos del odio, induciendo al cri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uerra del futuro se caracterizará por ser controlada desde lo alto de los cielos por satélites, por el dios de la máquina en órbit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siles crucero: su vuelo indica el comienzo de la guerra robótica y el hecho de enviar robots contra los hombres supone una guerra electrónica del mañana: ciberguerra.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to ya ha sido experimentado en Vietnam con los drones. Y en la guerra del Líban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cnologización tiende a suprimir a los combatien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fil del aut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ace en 193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u infancia se desarrolla en medio de la guerra: “war baby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udia artes manuales: vidrier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mplia sus conocimientos en filosofía, arquitectura y psicología de la form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 interesa por el arte militar, la fotografía y el ci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mbrado director de Escuela Especial de Arquitectura de Paris en 1975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articipa en importantes revistas de la época, entre otras cos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 profundidad territorial desaparece en beneficio de la superficialidad de un intercambio informátic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aisaje: cada hombre tiene un paisaje mental que organiza su relación con el mun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No siendo todavía seguro el desastre se está a tiempo de reconquistar el planeta e inventar un nuevo paisaj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FIN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Él se considera un aficionado a las nuevas tecnologí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ce más de 20 años que comenzó a escribir una obra crítica sobre la revolución tecnológica que enfrentam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ente a los peligros del futuro, ha sido y sigue siendo el hombre del remordimiento preventivo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l libro trata 4 capítulos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la revolución de los transportes a la revolución de las transmisio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pérdida del mundo, cómo reencontrar el cuerpo propi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gunas buenas razones para unirse a la resist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la guerra probable al paisaje reconquist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pitulo 1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olución de las transmisiones gracias a las nuevas tecnologías que son las tecnologías de la cibernéti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n portadoras de la perspectiva de una humanidad unida, pero……para progresar debemos reconocer su negatividad, su acciden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idente que no es local, sino general que afecta inmediatamente a la totalidad del mun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Tiempo: tiempo local versus el real. El real es el mundial, donde las capacidades de interacción y de interactividad instantáneas desembocan en la posibilidad de un tiempo únic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Velocidad: aproximación entre revolución de transportes y la revolución de las tecnologías virtuales. Poder esta unido a la riqueza y la riqueza es inseparable de la veloci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Hoy vivimos las velocidad absoluta de las ondas electromagnéticas, que traen consigo la ubicuidad, la instantaneidad y la inmediatez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. XIX: carácter benefactor de la ciencia y de la técnic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. XX: testigo de los estragos del progreso. Tecnologías del tiempo real se vieron utilizadas en la guerra. Guerra del 39- 45 fue una guerra de la radio y del ci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 1952, se advierte por uno de sus inventores que la cibernética pudiera convertirse en una amenaza para la democracia. En una tiranía de la tecnocienc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se puede comprender el desarrollo de las ciencias y de las técnicas sin darse cuenta de la amenaza absoluta que el Este o el Oeste quisieron ejercer sobre sus adversari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s últimas tecnologías de guerra del Pentágono son tecnologías de guerra virtual y de la información”. Esto trae consigo una tiranía de la información y un control cibernético del adversari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rnet es fruto de Pentágono. Todas las tecnologías basadas en satélites han sido antes militar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y una militarización de la ciencia y de la información. “ y esto nos situa frente a un fenómeno de totalitarismo sin precedentes.”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pitulo 2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y un ciudadano del mundo”. No quiere la vuelta al nacionalismo, pero sí deberíamos amar a nuestro prójimo y no solamente al que está lejos, así no destruiríamos la ciu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ber que el mundo es vasto da libertad y grandeza al homb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a Tierra sobrevolada y atravesada destruye al hombre- planeta, que pierde conciencia de las distanci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 conquista del espacio ha sido una experiencia del delirio de la perdida mental de la Tierr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7T21:56:52Z</dcterms:created>
  <dc:creator>Sebastian Gatica</dc:creator>
  <dc:description/>
  <dc:language>en-US</dc:language>
  <cp:lastModifiedBy>Lorena Donoso A.</cp:lastModifiedBy>
  <dcterms:modified xsi:type="dcterms:W3CDTF">2005-04-20T20:35:13Z</dcterms:modified>
  <cp:revision>16</cp:revision>
  <dc:subject/>
  <dc:title>Diapositiva 1</dc:title>
</cp:coreProperties>
</file>