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A3A5-CE55-4173-B400-6EEC64BD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EBD0-29E6-463E-991C-CBF76F6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7EA3-9BE6-453A-91A3-D5A5E940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2CC2-0301-472C-8737-3C2B7067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98BF-E9C9-4743-919F-412DD5C1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D489-2D10-491C-AECC-F752186F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36F-6F76-4442-8020-83DCCB70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1124-3F0E-498F-A70A-3638F12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32BD-D75F-44E4-82AC-96053935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4FCE-2FFD-4F66-90ED-E32814E7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3DCD-106D-41DF-9CE7-3875315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BF25-D233-4A74-B2A7-C1C38B96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CA4-B635-47B3-8715-2E61D2D8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5D4D-7AB0-474D-AF36-9C055BC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5642-A5D6-4649-B9C8-377240F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427C-5A9B-4C3B-8B78-81864739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2D9E-DBEC-40E3-9342-CA4DDA43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E204-3E7A-498E-8818-684362FE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174C-FA23-4F36-9F62-6BEC0FC3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8188-D96E-46AF-88EE-75A431B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009D-8225-4F49-9180-CC604E3E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256B-D6C3-4E31-BD81-0A08846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27CF-EEA9-45EF-884E-0C1F071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C820-3AFA-4131-9FBD-616948E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2FB-821F-40FE-985D-B5F8F1DE8A2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F9A-390C-41BD-A2FF-7912E591A44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683240" cy="45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realidad virtual: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ic et nunc…aquí y aho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a no existe el aquí, todo es ahora!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 una considerable amenaza de perdida del otro, el ocaso de la presencia física en beneficio de una presencia inmaterial y fantasmagórica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y un problema de relación con el otro y con 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 consigo la pérdida de la cuidad re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tiende a la desintegración de la comunidad de los presentes en beneficio de la de los aus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érdida del cuerpo propio conlleva la pérdida del cuerpo del otro, en beneficio de una especie de espectro en el espacio virtual de Inter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es una de las caras del accidente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do tengamos todas las interactividades posibles, la sensación de estrechez del mundo se hará insopor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brá una contaminación de las dimensiones rea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Salida hacia el cielo? Apollo 1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tecnologías de la información están amenazando: relación con pareja, con vecino, desaparición de la ciu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 perder la ciudad perdemos todo, volviendo a encontrarla ganaremos todo, la solución esta en reorganizar el lugar de vida en común y en recuperar la len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3: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nómeno de la metropolización: pequeñas ciudades se desertizan, globalización de lo urbano, algunas ciudades se convierten en el centro del mund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XI: cronopolítica. El espacio real de la nación se ve alterado por la urbanización del tiempo real y la creación de una hiperciudad virtu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nteractividad puede privar al hombre de su libre albedrío, para encadenarlo a un cerebro mundial, como una neurona más. Sociedad cibernét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iminación del espacio- mundo y del tiempo en beneficio de otro espacio y de otro tiemp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us ex machina: dios máquina de la inform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feta de la desgracia: el accidente es un milagro revelador. Inventar el barco es inventar el naufragio…cada tecnología lleva consigo su propia negatividad que aparece al mismo tiempo que el progreso técni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o el desarrollo de las tecnologías sólo puede hacerse a través del análisis y la superación de los accid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t tiene su propia negativ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ravés de interactividad, las redes y la globalización que provoca la revolución de las transmisiones, se crea la posibilidad de un accidente general.. “por doquier a la vez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.: crack bursátil de 198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interactividad es a la sociedad lo que la radioactividad es a la materia”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y: la amenaza se ha repartido y hay que tener en cuenta todos los objetos de comunicación, transporte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4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uego de la II G.M. imperó una política de la disuasión, la cual se desvanece ho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conflictos mundiales muestran que la guerra ha recomenz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ha creado una Babel militar a causa de la proliferación nuclear y del terrorismo generaliz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guerra de los Balcanes y la del Líbano habrían sido impensables sin la tele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n sido desencadenadas y alentadas por el odio que los medios de comunicación han suscitado a través de las TV lib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ality shows: los medios buscan convertirse en vehículos del odio, induciendo al cri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erra del futuro se caracterizará por ser controlada desde lo alto de los cielos por satélites, por el dios de la máquina en órbi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iles crucero: su vuelo indica el comienzo de la guerra robótica y el hecho de enviar robots contra los hombres supone una guerra electrónica del mañana: ciberguerra.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o ya ha sido experimentado en Vietnam con los drones. Y en la guerra del Líban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nologización tiende a suprimir a los combati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fil del au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ace en 193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 infancia se desarrolla en medio de la guerra: “war baby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udia artes manuales: vidrie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mplia sus conocimientos en filosofía, arquitectura y psicología de la for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interesa por el arte militar, la fotografía y el 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mbrado director de Escuela Especial de Arquitectura de Paris en 197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rticipa en importantes revistas de la época, entre otras cos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profundidad territorial desaparece en beneficio de la superficialidad de un intercambio informáti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isaje: cada hombre tiene un paisaje mental que organiza su relación con 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 siendo todavía seguro el desastre se está a tiempo de reconquistar el planeta e inventar un nuevo paisa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Él se considera un aficionado a las nuevas tecnologí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ce más de 20 años que comenzó a escribir una obra crítica sobre la revolución tecnológica que enfrenta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te a los peligros del futuro, ha sido y sigue siendo el hombre del remordimiento preventivo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l libro trata 4 capítulos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la revolución de los transportes a la revolución de las transmis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érdida del mundo, cómo reencontrar el cuerpo prop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unas buenas razones para unirse a la resist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la guerra probable al paisaje reconquis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1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olución de las transmisiones gracias a las nuevas tecnologías que son las tecnologías de la ciberné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n portadoras de la perspectiva de una humanidad unida, pero……para progresar debemos reconocer su negatividad, su accid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e que no es local, sino general que afecta inmediatamente a la totalidad d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Tiempo: tiempo local versus el real. El real es el mundial, donde las capacidades de interacción y de interactividad instantáneas desembocan en la posibilidad de un tiempo ún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locidad: aproximación entre revolución de transportes y la revolución de las tecnologías virtuales. Poder esta unido a la riqueza y la riqueza es inseparable de la veloc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oy vivimos las velocidad absoluta de las ondas electromagnéticas, que traen consigo la ubicuidad, la instantaneidad y la inmediate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IX: carácter benefactor de la ciencia y de la técn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X: testigo de los estragos del progreso. Tecnologías del tiempo real se vieron utilizadas en la guerra. Guerra del 39- 45 fue una guerra de la radio y del 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1952, se advierte por uno de sus inventores que la cibernética pudiera convertirse en una amenaza para la democracia. En una tiranía de la tecnoci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e puede comprender el desarrollo de las ciencias y de las técnicas sin darse cuenta de la amenaza absoluta que el Este o el Oeste quisieron ejercer sobre sus adversar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s últimas tecnologías de guerra del Pentágono son tecnologías de guerra virtual y de la información”. Esto trae consigo una tiranía de la información y un control cibernético del adversar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t es fruto de Pentágono. Todas las tecnologías basadas en satélites han sido antes milita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y una militarización de la ciencia y de la información. “ y esto nos situa frente a un fenómeno de totalitarismo sin precedentes.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2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y un ciudadano del mundo”. No quiere la vuelta al nacionalismo, pero sí deberíamos amar a nuestro prójimo y no solamente al que está lejos, así no destruiríamos la ciu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ber que el mundo es vasto da libertad y grandeza al homb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a Tierra sobrevolada y atravesada destruye al hombre- planeta, que pierde conciencia de las distanc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conquista del espacio ha sido una experiencia del delirio de la perdida mental de la Tier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1:56:52Z</dcterms:created>
  <dc:creator>Sebastian Gatica</dc:creator>
  <dc:description/>
  <dc:language>en-US</dc:language>
  <cp:lastModifiedBy>Lorena Donoso A.</cp:lastModifiedBy>
  <dcterms:modified xsi:type="dcterms:W3CDTF">2005-04-20T20:35:13Z</dcterms:modified>
  <cp:revision>16</cp:revision>
  <dc:subject/>
  <dc:title>Diapositiva 1</dc:title>
</cp:coreProperties>
</file>