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B69D-5C1E-4122-8469-718964EEB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2310-D22F-4A63-A422-6A4D9ACCE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CF5A-75F3-457F-B86C-823CED713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AF8A-11D2-4400-86AD-594E4F8B6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0E1D6-6B49-41E8-8A1F-A52ABC254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F28BB-79AD-41BD-B591-36D4B5256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62363-EB77-4C22-B682-E64312E62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10101-F6FC-4756-8999-2DE0BBB19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A6E45-ECD1-4854-BD58-2762A0E5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A0DF9-40AB-4D8E-BFA8-902A36E66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D8723-0E51-4A94-B8C8-8E2BC50A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8FF7-43DF-4C25-82BC-3FF484BAE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93A0D-C304-4F94-A35C-BA4E7D66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F15A0-1498-4E61-9DE0-3891ADB2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D8433-36CE-44BE-B794-367D06127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AE275-5436-4F8E-AF63-A4F594105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81281-B2AF-420D-827B-A7D7CB9C0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3BCF-496F-43DB-B3F8-3B0FD5587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D60A-FFC0-41F3-9087-1F8C8582C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B664-7A94-47B0-AB50-B33A52235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AF5D-3B15-4074-BA84-AD8B486BA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F071-E034-441C-9FF1-37202388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FFB8-8739-4E0F-82CC-028B67CE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9226-B3DD-48C7-A045-C960FFC2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7921A-F62C-4121-9E44-BD2CE0E3AF7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DF3E-8DBE-45C9-B4CA-1CDEB4A035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IDEOPOLÍTICA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OS, INFORMACION Y DEMOCRACIA DE SONDEO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entación: Claudia Allen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ndeos - Encuest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748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 preguntas condicionan las respuest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 tan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n fácilmente manipul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n débiles, no se evalúa su intens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ariablemente volát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ualmente, se invent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opinión es del medio y no del pueb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ción reduci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ción es improvis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nformación absolu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 tanto: la opinión pública está manipulada por los medios de comunic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exto: Estado democrátic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ación y desafío: democracia y videopolít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s informado: formación de la opinión públ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iterio de suficienc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dios masivos de comunicació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 palabr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EPTO (mundus inteligibili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sual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AGEN  (mundus sensibili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ideoniño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ción del niño bajo la TV, durante toda su vida, antes de aprender a hablar o escribi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rofia la posibilidad de entendimiento de concep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lema función cogniti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lema en la escue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ormació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puede haber vacío de la inform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 el “grupo de internet” es cualquier cosa que viaje en la 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rtori: la información debe tener conteni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ormación inadecuad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MIS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INFORM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NFORM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MISIÓN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chos que no aparecen en la pantalla, no están registrado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imina lo que no se puede ilust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ugares inaccesi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TV llega a todas par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lus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binformació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lema de escase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ca información considerada “digna” de ser cubier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ta, rutinaria, insufici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nteré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sinformació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ción equivocad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orsiones y malas interpret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 busca de lo “raro”, algo que se pueda vend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9T15:28:33Z</dcterms:created>
  <dc:creator>lucarna20</dc:creator>
  <dc:description/>
  <dc:language>en-US</dc:language>
  <cp:lastModifiedBy>lucarna11</cp:lastModifiedBy>
  <dcterms:modified xsi:type="dcterms:W3CDTF">2005-04-19T21:23:26Z</dcterms:modified>
  <cp:revision>3</cp:revision>
  <dc:subject/>
  <dc:title>VIDEOPOLÍTICA MEDIOS, INFORMACION Y DEMOCRACIA DE SONDEO  </dc:title>
</cp:coreProperties>
</file>