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F29-6F3E-4F80-ADCE-C05C426A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962B-1EF0-49FA-A5F0-232F8D18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375-4E34-46EE-A417-9ACDE459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19E-872A-40D5-A09A-037BDF2A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E3A4-DD1E-479D-9691-942B3EFF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57CA-656F-4A68-A1E3-55AC4785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02B5-5071-48F5-9A87-89531314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3FA4-1854-4D33-9B33-2A26C13D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9A73-FE9D-43E4-B97D-EBD3FDAB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6477-8E5E-472C-BBE3-97F72D6A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5C2D-164D-46AD-8632-30094A5A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533-55D2-4D59-9E08-905A8939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6EF0-7CFA-4D6D-BA59-0FC7BF84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9796-5B67-4ADC-824F-D238B022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8040-2FC9-4E8C-A090-207C9C6C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4905-5358-49B9-BF8D-E754DC56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2994-2AC6-4A5C-8E74-590115DB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72C-7863-483F-B62E-FFA69D74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2B1-4B52-44AE-B705-715D76B6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94A2-39C6-4C57-B9B9-EF2BE70D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152-8442-40D4-90D3-DB67C898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5D1-4DF7-48E4-B16B-83AF62C8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858-D08B-4BBD-AE96-B29C9A2C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B46-363C-4823-BB6A-A0F2AEDF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517E-5A28-49DF-99E5-2B1E809393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FD38-8EC1-4312-AE8A-6703B76D09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DEOPOLÍTICA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OS, INFORMACION Y DEMOCRACIA DE SONDE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ación: Claudia Allen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deos - Encuest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preguntas condicionan las respue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tan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fácilmente manipul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débiles, no se evalúa su int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riablemente volát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mente, se inven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opinión es del medio y no del pue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ión reduc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ión es improvis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nformación absolu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tanto: la opinión pública está manipulada por los medios de comun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xto: Estado democrá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ción y desafío: democracia y videopolí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s informado: formación de la opinión púb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o de suficienc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os masivos de comunic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palab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O (mundus inteligibil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N  (mundus sensibil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deoniñ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ción del niño bajo la TV, durante toda su vida, antes de aprender a hablar o escrib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rofia la posibilidad de entendimiento de concep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 función cogni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 en la esc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ormació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uede haber vacío de la in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el “grupo de internet” es cualquier cosa que viaje en la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tori: la información debe tener conten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ormación inadecuad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I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IN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N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MISIÓ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chos que no aparecen en la pantalla, no están registrad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 lo que no se puede ilust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gares inaccesi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TV llega a todas par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l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binformació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 de escas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a información considerada “digna” de ser cubier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ta, rutinaria, insufi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nte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nformació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ión equivoca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orsiones y malas interpre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busca de lo “raro”, algo que se pueda ven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5:28:33Z</dcterms:created>
  <dc:creator>lucarna20</dc:creator>
  <dc:description/>
  <dc:language>en-US</dc:language>
  <cp:lastModifiedBy>lucarna11</cp:lastModifiedBy>
  <dcterms:modified xsi:type="dcterms:W3CDTF">2005-04-19T21:23:26Z</dcterms:modified>
  <cp:revision>3</cp:revision>
  <dc:subject/>
  <dc:title>VIDEOPOLÍTICA MEDIOS, INFORMACION Y DEMOCRACIA DE SONDEO  </dc:title>
</cp:coreProperties>
</file>