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DE31-E720-4163-BC7E-F8BD498FD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E4F7-3ACB-4BE1-A269-F74DB37D3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59DD-A0A2-47A4-B42E-5ED22A3AE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E670-0472-45A4-AF21-31A740CF1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88576-83B4-47E6-A685-8E966B62E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923B8-47EF-49D9-A03C-1FA2DED68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9A40C-0CBB-45FE-8110-8DAF0C3CB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07781-231E-4961-A727-EA1009CF6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03A2E-BC43-43E8-A43D-10BACBA5E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73661-29FB-4763-B5B5-2A7034317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E6007-838A-4B8F-9E41-E3E91185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7A7B-2787-41F3-8526-F98E4843D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37B86-34ED-40A8-9F80-275BF4DA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8E142-615B-4D19-9CFB-5B9BB124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E307C-9AD4-49FF-A724-EC49B7FCD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932D0-1720-46B6-AAB4-AD175A168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8AE87-BAF0-4EA1-BBA0-4D6AAADA7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BC5C-A444-423E-A4E4-77F8BEA7B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7ED9-4E83-4E23-91BC-6BDF34428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8BDD-52D7-49CB-934C-EFB752BFB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4C4F-1994-404E-8766-D32ABCDDA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7FA1-87BC-4004-8C6C-355F9387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D8D3-AB0B-429D-88A0-D69737F4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98F5-3CDF-4887-A4A0-C44C2513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AF07B-E53D-4BB5-8DC3-DD18338566C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A3136-8704-4C19-AEA1-82A056F203F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IDEOPOLÍTICA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OS, INFORMACION Y DEMOCRACIA DE SONDEO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entación: Claudia Allen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ndeos - Encuest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748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 preguntas condicionan las respuest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 tan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n fácilmente manipul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n débiles, no se evalúa su intens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ariablemente volát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ualmente, se invent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opinión es del medio y no del pueb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ción reduci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ción es improvis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nformación absolu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 tanto: la opinión pública está manipulada por los medios de comunic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exto: Estado democrátic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ación y desafío: democracia y videopolít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s informado: formación de la opinión públ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iterio de suficienc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dios masivos de comunicació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 palabr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EPTO (mundus inteligibili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sual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AGEN  (mundus sensibili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ideoniño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ción del niño bajo la TV, durante toda su vida, antes de aprender a hablar o escribi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rofia la posibilidad de entendimiento de concep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lema función cogniti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lema en la escue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ormació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puede haber vacío de la inform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 el “grupo de internet” es cualquier cosa que viaje en la 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rtori: la información debe tener conteni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ormación inadecuad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MIS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INFORM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NFORM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MISIÓN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chos que no aparecen en la pantalla, no están registrado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imina lo que no se puede ilust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ugares inaccesi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TV llega a todas par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lus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binformació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lema de escase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ca información considerada “digna” de ser cubier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ta, rutinaria, insufici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nteré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sinformació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ción equivocad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orsiones y malas interpret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 busca de lo “raro”, algo que se pueda vend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9T15:28:33Z</dcterms:created>
  <dc:creator>lucarna20</dc:creator>
  <dc:description/>
  <dc:language>en-US</dc:language>
  <cp:lastModifiedBy>lucarna11</cp:lastModifiedBy>
  <dcterms:modified xsi:type="dcterms:W3CDTF">2005-04-19T21:23:26Z</dcterms:modified>
  <cp:revision>3</cp:revision>
  <dc:subject/>
  <dc:title>VIDEOPOLÍTICA MEDIOS, INFORMACION Y DEMOCRACIA DE SONDEO  </dc:title>
</cp:coreProperties>
</file>