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C0A-9D49-4C2E-86DE-DE015E4D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297-8848-4D70-9CDD-25EA0224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DEC-5CCB-49E1-9170-C5238EEB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6B1-6B24-494F-BB67-48D1676C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D30C-0937-4F7C-8198-1B0AA9E2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D78F-E0B2-484D-90BB-D0059B91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0BF6-A312-4878-BE9C-A02D5C52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4D5B-BCDC-4710-97AF-7DDBC2EC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0263-BBEA-49E5-807B-F633C0B3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F3D7-1BE6-4A02-8862-B490BF8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6517-2F97-46D2-88C9-E1935391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DCF-E6F6-4A24-AD66-745E47DA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FB7F-D1A5-45AF-9CFF-73128316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B42B-B7E6-4CF3-A043-4044208D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97C4-399B-4085-9DC6-A39BD084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DDA9-7D85-4468-9883-E23E8177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DB22-1932-4D79-B7A5-1F1C81AD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756-C12F-4518-ABEB-5B87789E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5CE-0A3E-4C09-BC02-EE5358CF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5B8-4484-4AAD-9E30-56E2A67B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21E-8B33-40DE-B5C7-A9FBFD7A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17B-9299-4DCE-89F4-0F3E2D9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8F5-A8DD-4660-8EE5-85FDF1FF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177-F543-4D4D-9158-2272ED62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38dc7"/>
                </a:gs>
                <a:gs pos="100000">
                  <a:srgbClr val="253f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46AB-6D5F-4C9C-8F70-08464C948AA1}" type="slidenum"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E801-D4F3-4285-BE1D-218E15A2DC58}" type="slidenum"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MX" sz="4800" spc="-1" strike="noStrike" u="sng">
                <a:solidFill>
                  <a:srgbClr val="f8f8f8"/>
                </a:solidFill>
                <a:uFillTx/>
                <a:latin typeface="Arial"/>
              </a:rPr>
              <a:t>LA BOMBA INFORMÁTICA</a:t>
            </a:r>
            <a:br>
              <a:rPr sz="4800"/>
            </a:br>
            <a:r>
              <a:rPr b="0" lang="es-MX" sz="4000" spc="-1" strike="noStrike">
                <a:solidFill>
                  <a:srgbClr val="f8f8f8"/>
                </a:solidFill>
                <a:latin typeface="Arial"/>
              </a:rPr>
              <a:t>Paul Virilio</a:t>
            </a:r>
            <a:br>
              <a:rPr sz="4000"/>
            </a:b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               </a:t>
            </a: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1999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M° Graciela Venegas V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X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partir de ahora, el aquí ya no existe, todo es ahor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asado, presente y futuro, esta tripartición antigua de la duración cede entonces su primacía a la inmediatez de una teletransferencia que se asemeja a un nuevo tipo de relieve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na ciencia sin conciencia no es más que ruina del alm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ste tiempo mundial en que la instantaneidad borra definitivamente la realidad de las distancia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El ciber es un nuevo continente, el ciber es una realidad suplementaria, el ciber debe refugiar la sociedad de los individuos, el ciber es universal, irresponsable y sin cabez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V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uestro prolífico entorno audiovisual nos ha condicido desde hace tiempo a no preocuparnos verdaderamente por estas múltiples apariencias de nosostros mismos que son ocultados, deformados, explorados y manipulados a nuestras espaldas por los estados mayores desconocido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oy se dice que ya no hacen falta guerras para matar la realidad del mundo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on su voyerismo, la televigilancia cobra un nuevo sentido: ya no se trata de prevenirse contra una intrusión criminal, sino de compartir sus angustias, sus obsesiones con toda una red gracias a la sobresposición de un lugar de vida”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 segunda bomba, la bomba informática, capaz de desintegrar la paz de las naciones por la interactividad de la información”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n Internet la tentación es permanente, pues es fácil causar estragos con toda impunidad”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 sabemos cómo comportarnos para escuchar o decir algo, al igual que ya no sabemos escribir bien, a pesar de la revolución del fax, que supuestamente debía reactivar la epístol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X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nternet, es a la vez la peor y la mejor de las cosa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n tecnosistema de comunicación estratégica que conlleva el riesgo sistemático de una reacción en cadena de los estragos, a partir del momento en que la mundialización se haga efectiva “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15:33:26Z</dcterms:created>
  <dc:creator>Gianina Ganzur</dc:creator>
  <dc:description/>
  <dc:language>en-US</dc:language>
  <cp:lastModifiedBy>lucarna01</cp:lastModifiedBy>
  <dcterms:modified xsi:type="dcterms:W3CDTF">2005-04-12T15:29:47Z</dcterms:modified>
  <cp:revision>5</cp:revision>
  <dc:subject/>
  <dc:title>LA BOMBA INFORMÁTICA Paul Virilio 1999</dc:title>
</cp:coreProperties>
</file>