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CBB99-2FBC-4440-917C-78CAD9923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90351-F54C-4C1E-A04E-C85682C78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1EAC3-4A32-4027-BE3A-E9EE7D81B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360E4-E0E4-4F09-93F3-90A2FB86D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5D4F0-40C9-4014-A7EF-5E1D709E4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A1416-5EA2-4203-B6EB-38AB59C13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140EE-2712-4A2C-97D2-0AEE946D9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A8786-71BE-4137-966D-E41208009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2A51C-76F2-4C13-AB3A-81ACFEFD6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CB4BC-A07A-4D2A-A682-72DA75D42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DE7B8-3F96-45ED-A8A5-6897FBB08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EF757-22BA-4CF8-A903-9367BE2FC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A05DB-38E5-43D0-BADA-E6D690C88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A79F5-2C71-4682-9119-8559A84BE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7896E-A998-49C3-9B98-7217B3343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F0C71-3380-4D2A-9AD4-923A1C496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A78DF-C20E-4CB7-ACB9-C6A99A861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7B89A-271F-414C-8FAF-8DDBD512D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40C6E-8629-4953-9927-E8B169917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878A9-8D4B-46AA-9A4A-8206A6D4A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CEADC-9B6B-4DEB-B970-E59F8D345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99258-AA5A-4332-9A99-53BD3A777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B76B6-BD52-4E2A-A092-E3DEBC905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97C07-F930-43A8-8267-66E679416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38d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538dc7"/>
                </a:gs>
                <a:gs pos="100000">
                  <a:srgbClr val="253f5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008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008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f8f8f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f8f8f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0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f8f8f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8f8f8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C620E-0F39-40D7-9980-03A30D85A1C5}" type="slidenum">
              <a:rPr b="0" lang="es-ES" sz="10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38d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0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f8f8f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8f8f8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6C5EC-49C4-4F74-BEA4-07D3FAA3E39F}" type="slidenum">
              <a:rPr b="0" lang="es-ES" sz="10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538dc7">
              <a:alpha val="50000"/>
            </a:srgbClr>
          </a:solidFill>
          <a:ln w="76320">
            <a:solidFill>
              <a:srgbClr val="f8f8f8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8f8f8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8000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38d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538dc7">
              <a:alpha val="50000"/>
            </a:srgbClr>
          </a:solidFill>
          <a:ln w="76320">
            <a:solidFill>
              <a:srgbClr val="f8f8f8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0" lang="es-MX" sz="4800" spc="-1" strike="noStrike" u="sng">
                <a:solidFill>
                  <a:srgbClr val="f8f8f8"/>
                </a:solidFill>
                <a:uFillTx/>
                <a:latin typeface="Arial"/>
              </a:rPr>
              <a:t>LA BOMBA INFORMÁTICA</a:t>
            </a:r>
            <a:br>
              <a:rPr sz="4800"/>
            </a:br>
            <a:r>
              <a:rPr b="0" lang="es-MX" sz="4000" spc="-1" strike="noStrike">
                <a:solidFill>
                  <a:srgbClr val="f8f8f8"/>
                </a:solidFill>
                <a:latin typeface="Arial"/>
              </a:rPr>
              <a:t>Paul Virilio</a:t>
            </a:r>
            <a:br>
              <a:rPr sz="4000"/>
            </a:br>
            <a:endParaRPr b="0" lang="en-US" sz="40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362320" y="3429000"/>
            <a:ext cx="6400800" cy="1447920"/>
          </a:xfrm>
          <a:prstGeom prst="rect">
            <a:avLst/>
          </a:prstGeom>
          <a:solidFill>
            <a:srgbClr val="538dc7">
              <a:alpha val="50000"/>
            </a:srgbClr>
          </a:solidFill>
          <a:ln w="76320">
            <a:solidFill>
              <a:srgbClr val="f8f8f8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8f8f8"/>
                </a:solidFill>
                <a:latin typeface="Arial"/>
              </a:rPr>
              <a:t>               </a:t>
            </a:r>
            <a:r>
              <a:rPr b="0" lang="es-MX" sz="3200" spc="-1" strike="noStrike">
                <a:solidFill>
                  <a:srgbClr val="f8f8f8"/>
                </a:solidFill>
                <a:latin typeface="Arial"/>
              </a:rPr>
              <a:t>1999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8f8f8"/>
                </a:solidFill>
                <a:latin typeface="Arial"/>
              </a:rPr>
              <a:t>M° Graciela Venegas V.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38d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Capítulo XIII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A partir de ahora, el aquí ya no existe, todo es ahora”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Pasado, presente y futuro, esta tripartición antigua de la duración cede entonces su primacía a la inmediatez de una teletransferencia que se asemeja a un nuevo tipo de relieve”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38d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FIN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8f8f8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8f8f8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8f8f8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8f8f8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8f8f8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8f8f8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8f8f8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8f8f8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8f8f8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8f8f8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8f8f8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8f8f8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8f8f8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38d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Capítulo I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Una ciencia sin conciencia no es más que ruina del alma”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38d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Capítulo II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Este tiempo mundial en que la instantaneidad borra definitivamente la realidad de las distancias”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38d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Capítulo III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8f8f8"/>
                </a:solidFill>
                <a:latin typeface="Arial"/>
              </a:rPr>
              <a:t>El ciber es un nuevo continente, el ciber es una realidad suplementaria, el ciber debe refugiar la sociedad de los individuos, el ciber es universal, irresponsable y sin cabeza”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38d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Capítulo IV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Nuestro prolífico entorno audiovisual nos ha condicido desde hace tiempo a no preocuparnos verdaderamente por estas múltiples apariencias de nosostros mismos que son ocultados, deformados, explorados y manipulados a nuestras espaldas por los estados mayores desconocidos”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38d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Capítulo V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Hoy se dice que ya no hacen falta guerras para matar la realidad del mundo”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38d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Capítulo VII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Con su voyerismo, la televigilancia cobra un nuevo sentido: ya no se trata de prevenirse contra una intrusión criminal, sino de compartir sus angustias, sus obsesiones con toda una red gracias a la sobresposición de un lugar de vida”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La segunda bomba, la bomba informática, capaz de desintegrar la paz de las naciones por la interactividad de la información” 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En Internet la tentación es permanente, pues es fácil causar estragos con toda impunidad”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38d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Capítulo VIII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No sabemos cómo comportarnos para escuchar o decir algo, al igual que ya no sabemos escribir bien, a pesar de la revolución del fax, que supuestamente debía reactivar la epístola”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38d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Capítulo XII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Internet, es a la vez la peor y la mejor de las cosas”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Un tecnosistema de comunicación estratégica que conlleva el riesgo sistemático de una reacción en cadena de los estragos, a partir del momento en que la mundialización se haga efectiva “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09T15:33:26Z</dcterms:created>
  <dc:creator>Gianina Ganzur</dc:creator>
  <dc:description/>
  <dc:language>en-US</dc:language>
  <cp:lastModifiedBy>lucarna01</cp:lastModifiedBy>
  <dcterms:modified xsi:type="dcterms:W3CDTF">2005-04-12T15:29:47Z</dcterms:modified>
  <cp:revision>5</cp:revision>
  <dc:subject/>
  <dc:title>LA BOMBA INFORMÁTICA Paul Virilio 1999</dc:title>
</cp:coreProperties>
</file>