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017-80C6-4860-8A4F-00F7C381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3FB-33F5-4BE5-8C87-D70212A0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AD1-574A-421E-822F-BEE1CC22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E94-8323-4AA6-8447-3C81DEF8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FEEF-1C35-45CA-9CA3-01FB1426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DD43-08D1-466B-8060-7C759564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68A7-69CE-4B61-9F8E-E8287203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1E69-8249-4F43-876C-F39C0208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BB2-1242-41F6-93D8-D3553D9E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470C-B86F-4D6D-969C-3D2DEC84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F526-CF97-4D0D-B9ED-210E9DF7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974-D982-446C-8F75-65327105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62F4-9FAF-48ED-8572-E55FB333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6E04-F1D2-4842-AE6A-6FBFA53D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3254-4CDD-4F60-AA69-BF55EF5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10CA-EBD5-450F-AF49-79542F7B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9C16-07C4-44E1-9873-D5C9829E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E57-B65F-4AFA-A961-0A30F0FF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CB6-D2E8-4223-99EC-F4CBC8F6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EE0-3DBD-4E63-92ED-4ABD9C5E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DA4-6AB1-469B-92FD-1D04CF52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816-842E-4FB2-8401-EB6AEA7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691-6540-4FFE-972C-E73109E8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4EF-3309-47A2-A3E1-B9319D83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38dc7"/>
                </a:gs>
                <a:gs pos="100000">
                  <a:srgbClr val="253f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78AD-1EBC-4468-95A3-25ADBCE6D34D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A45A-0AB7-49A1-8864-D4363581465C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MX" sz="4800" spc="-1" strike="noStrike" u="sng">
                <a:solidFill>
                  <a:srgbClr val="f8f8f8"/>
                </a:solidFill>
                <a:uFillTx/>
                <a:latin typeface="Arial"/>
              </a:rPr>
              <a:t>LA BOMBA INFORMÁTICA</a:t>
            </a:r>
            <a:br>
              <a:rPr sz="4800"/>
            </a:br>
            <a:r>
              <a:rPr b="0" lang="es-MX" sz="4000" spc="-1" strike="noStrike">
                <a:solidFill>
                  <a:srgbClr val="f8f8f8"/>
                </a:solidFill>
                <a:latin typeface="Arial"/>
              </a:rPr>
              <a:t>Paul Virilio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               </a:t>
            </a: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1999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M° Graciela Venegas V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partir de ahora, el aquí ya no existe, todo es ahor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asado, presente y futuro, esta tripartición antigua de la duración cede entonces su primacía a la inmediatez de una teletransferencia que se asemeja a un nuevo tipo de relieve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a ciencia sin conciencia no es más que ruina del alm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ste tiempo mundial en que la instantaneidad borra definitivamente la realidad de las distanci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El ciber es un nuevo continente, el ciber es una realidad suplementaria, el ciber debe refugiar la sociedad de los individuos, el ciber es universal, irresponsable y sin cabez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uestro prolífico entorno audiovisual nos ha condicido desde hace tiempo a no preocuparnos verdaderamente por estas múltiples apariencias de nosostros mismos que son ocultados, deformados, explorados y manipulados a nuestras espaldas por los estados mayores desconocido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oy se dice que ya no hacen falta guerras para matar la realidad del mundo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n su voyerismo, la televigilancia cobra un nuevo sentido: ya no se trata de prevenirse contra una intrusión criminal, sino de compartir sus angustias, sus obsesiones con toda una red gracias a la sobresposición de un lugar de vida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segunda bomba, la bomba informática, capaz de desintegrar la paz de las naciones por la interactividad de la información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 Internet la tentación es permanente, pues es fácil causar estragos con toda impunidad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sabemos cómo comportarnos para escuchar o decir algo, al igual que ya no sabemos escribir bien, a pesar de la revolución del fax, que supuestamente debía reactivar la epístol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ternet, es a la vez la peor y la mejor de las cos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 tecnosistema de comunicación estratégica que conlleva el riesgo sistemático de una reacción en cadena de los estragos, a partir del momento en que la mundialización se haga efectiva “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5:33:26Z</dcterms:created>
  <dc:creator>Gianina Ganzur</dc:creator>
  <dc:description/>
  <dc:language>en-US</dc:language>
  <cp:lastModifiedBy>lucarna01</cp:lastModifiedBy>
  <dcterms:modified xsi:type="dcterms:W3CDTF">2005-04-12T15:29:47Z</dcterms:modified>
  <cp:revision>5</cp:revision>
  <dc:subject/>
  <dc:title>LA BOMBA INFORMÁTICA Paul Virilio 1999</dc:title>
</cp:coreProperties>
</file>