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67C-EAC8-49F6-BA65-152AD3D5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D0D-EEBA-4CD6-B39E-30E7043F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EAF-35AD-4532-85EF-8C663BDF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752D-B597-4EBE-A4E2-F56C7FD9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C87-8BD5-4FB8-9E8F-05FAC1DA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646A-D41B-49AF-AF1E-C051794D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66BA-E9A4-4A12-BCDA-E505EB4C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1A7E-32F3-4424-A7E3-336CDDBC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C01C-2319-4F97-B012-238852C1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15DE-5A78-4532-A4F5-F4F38F08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4C70-6C17-4319-B443-1B5670AC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3E1-FD32-4B36-AEC8-982A92A8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01F8-0B65-40EE-BF9B-5041C67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B0EA-CB58-47DE-8D71-6B9B238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700C-C535-4598-B87D-3B32E40A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8722-CC66-4344-B50F-9E0D8958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F301-BE5A-49C3-BF78-90098C7E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4F85-F572-4CD1-8237-D13A5ECB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C8F-2940-4257-8993-06EBAE4B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31B-3D1C-4C88-88A0-22B1D18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3F7-B501-4ADA-B28F-1997FEB2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A0F-AB33-46D1-A7C0-3B3C15FB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631-57D3-4EB8-B02F-9B49424B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E5D7-6050-4B34-B116-6131775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BEC4-A70C-4107-928F-147C568FB0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C358-E098-4A96-87B8-4E05A0CAE8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Ciberciudadanía o ciudadanía.c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ntonio Pérez Lu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844640"/>
            <a:ext cx="2232000" cy="1728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 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354 -0.04468 -0.02708 -0.08935 -0.04583 -0.08611 C -0.06458 -0.08287 -0.08715 0.01852 -0.1125 0.01944 C -0.13785 0.02037 -0.17326 -0.08148 -0.19792 -0.08056 C -0.22257 -0.07963 -0.2441 0.02222 -0.26042 0.025 C -0.27674 0.02778 -0.28628 -0.01806 -0.29583 -0.06389 E">
                                      <p:cBhvr>
                                        <p:cTn id="6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oncepto de ciudadanía clásico no se condice con la realidad tecno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encontrar un concepto que mezcle las libertades cívicas con el desarroll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oción de ciudadaní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udadanía – Derechos Fundamentales – Estado de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o: “vínculo de pertenencia a un Estado de derecho por parte de quienes son sus nacionales, situación que implica un conjunto de derechos y deberes;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iudada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á la persona física titular de esa relación juríd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o que supone la libertad y la participación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Arial"/>
              </a:rPr>
              <a:t>Ciudadanía y Teledemocra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440" y="2367000"/>
            <a:ext cx="248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ele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4520" y="2276640"/>
            <a:ext cx="195768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e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9600" y="2203560"/>
            <a:ext cx="209304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94680" y="4149720"/>
            <a:ext cx="431064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ume Estado de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sociedad democ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4360" y="342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7640" y="2565360"/>
            <a:ext cx="504720" cy="71640"/>
          </a:xfrm>
          <a:prstGeom prst="leftRightArrow">
            <a:avLst>
              <a:gd name="adj1" fmla="val 50000"/>
              <a:gd name="adj2" fmla="val 14025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760" y="5229360"/>
            <a:ext cx="860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nuevas tecnologías influyen en el al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el ejercicio de la ciudadan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Arial"/>
              </a:rPr>
              <a:t>Teledemocra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vers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ón déb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ón f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rsión débi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cracia in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uencia de las NT en elecciones parlamentarias y presidenci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ación de v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ación de expectativas de los vo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 encu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 conocer re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 de comunicación administración – administ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ventajas: falta de reposo y pond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rsión fuer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ia directa e inmedi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ión de opiniones relacionadas con lo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ación electrónica instantá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entajas de la versión fuer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ción directa, protagonismo ciudadano, consens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e del control al ciudadano (democracia real) desplazando a los partidos polí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ta distorsiones, impide corru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rcicio de ciudadaní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esgos de la versión fuer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bolición de grupos interme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espolit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mpobrecimiento en la elaboración norm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riminalidad infor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comunicación en la ciudadanía, vulneración del derecho a la inti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iudadanía.com </a:t>
            </a:r>
            <a:r>
              <a:rPr b="0" lang="es-MX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el polo neg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22:21:39Z</dcterms:created>
  <dc:creator>Gianina Ganzur</dc:creator>
  <dc:description/>
  <dc:language>en-US</dc:language>
  <cp:lastModifiedBy>Gianina Ganzur</cp:lastModifiedBy>
  <dcterms:modified xsi:type="dcterms:W3CDTF">2005-04-13T02:14:52Z</dcterms:modified>
  <cp:revision>6</cp:revision>
  <dc:subject/>
  <dc:title>¿Ciberciudadanía o ciudadanía.com?</dc:title>
</cp:coreProperties>
</file>