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954A-E71A-41AE-93DB-284C46BF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EE6-8D48-46C7-95A5-779876C6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14C-4152-40C0-A78E-426F6D48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40CC-D83E-48B6-858E-EF1B56F8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7EE0-7DFA-4514-9B17-4D42666E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5850-BEBE-49C2-8D8C-F97D0BE7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3D86-D621-4766-9484-E252AA0A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6F99-52FC-46B9-AF0B-9956E7BC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7303-CEC5-4007-9220-D7D2ECAC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8621-240A-49FC-9101-8E6FFFB4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023F-715C-4BF6-978E-9F3F4828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D6E-EA6A-442E-BDED-34949808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D75B-4841-474A-A40A-E500F385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3B2C-8F5F-4DC6-B7B2-DF3A948E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0985-8791-4E7B-AF89-79A800A4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1D52-BE9A-426D-A626-F3E2C266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BD83-E82D-4FAD-AEE1-D6D15742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7FAC-C40D-48D2-8FDF-9F259A73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35D1-B75A-41E7-AD7E-DF6D6802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07A-830C-4ACB-9215-22F965E1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2526-5B2E-4105-AEFB-9B5E6DBC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A95C-F7EE-43CD-8084-24713830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CED2-FC91-4969-9B52-9C29C81F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0EA-408B-450F-B2C9-B9AB6CE2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1AFC-8151-4B43-A11D-31ABCAAB2E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2F88-0237-4ACD-B9A8-8D24AAFB38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Ciberciudadanía o ciudadanía.c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ntonio Pérez Lu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1844640"/>
            <a:ext cx="2232000" cy="1728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 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354 -0.04468 -0.02708 -0.08935 -0.04583 -0.08611 C -0.06458 -0.08287 -0.08715 0.01852 -0.1125 0.01944 C -0.13785 0.02037 -0.17326 -0.08148 -0.19792 -0.08056 C -0.22257 -0.07963 -0.2441 0.02222 -0.26042 0.025 C -0.27674 0.02778 -0.28628 -0.01806 -0.29583 -0.06389 E">
                                      <p:cBhvr>
                                        <p:cTn id="6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oncepto de ciudadanía clásico no se condice con la realidad tecn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ebe encontrar un concepto que mezcle las libertades cívicas con el desarrollo tec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oción de ciudadan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udadanía – Derechos Fundamentales – Estado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o: “vínculo de pertenencia a un Estado de derecho por parte de quienes son sus nacionales, situación que implica un conjunto de derechos y deberes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iudada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á la persona física titular de esa relación jurídic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o que supone la libertad y la participación pol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Arial"/>
              </a:rPr>
              <a:t>Ciudadanía y Teledemocra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440" y="2367000"/>
            <a:ext cx="248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ele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4520" y="2276640"/>
            <a:ext cx="195768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nolog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9600" y="2203560"/>
            <a:ext cx="209304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94680" y="4149720"/>
            <a:ext cx="43106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ume Estado de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sociedad democr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8000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4360" y="342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87640" y="2565360"/>
            <a:ext cx="504720" cy="71640"/>
          </a:xfrm>
          <a:prstGeom prst="leftRightArrow">
            <a:avLst>
              <a:gd name="adj1" fmla="val 50000"/>
              <a:gd name="adj2" fmla="val 14025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760" y="5229360"/>
            <a:ext cx="860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nuevas tecnologías influyen en el alc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el ejercicio de la ciudadan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Arial"/>
              </a:rPr>
              <a:t>Teledemocra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vers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ón déb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ón f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ersión débi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cracia indire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ia de las NT en elecciones parlamentarias y presidenci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ación de v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ación de expectativas de los vo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 encu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 conocer re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de comunicación administración – administ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ventajas: falta de reposo y pond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ersión fuer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cia directa e inmedi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ión de opiniones relacionadas con lo púb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ación electrónica instantá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entajas de la versión fuer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ción directa, protagonismo ciudadano, consenso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ee del control al ciudadano (democracia real) desplazando a los partidos polí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ta distorsiones, impide corru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rcicio de ciudadaní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esgos de la versión fuer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bolición de grupos interme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spolit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mpobrecimiento en la elaboración norm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riminalidad infor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ncomunicación en la ciudadanía, vulneración del derecho a la intim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iudadanía.com </a:t>
            </a:r>
            <a:r>
              <a:rPr b="0" lang="es-MX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el polo neg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22:21:39Z</dcterms:created>
  <dc:creator>Gianina Ganzur</dc:creator>
  <dc:description/>
  <dc:language>en-US</dc:language>
  <cp:lastModifiedBy>Gianina Ganzur</cp:lastModifiedBy>
  <dcterms:modified xsi:type="dcterms:W3CDTF">2005-04-13T02:14:52Z</dcterms:modified>
  <cp:revision>6</cp:revision>
  <dc:subject/>
  <dc:title>¿Ciberciudadanía o ciudadanía.com?</dc:title>
</cp:coreProperties>
</file>