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BD6-E8CE-4C4C-A34E-FF2C68C2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70D-3F77-434A-8A97-F684097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357-295D-4EA7-9DFC-80CDEFFF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351-6C9D-4776-A12F-CB027338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587A-0A02-4216-AB53-66945512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F7E1-7530-413E-9FD3-3EC9AB13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3114-9EC3-4B80-B860-C7817006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CC5F-F471-4335-B6A4-0EFD51F5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CA54-20B6-47A7-8D7F-6CE96D78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A11A-BEED-4901-AF7F-F4A19CEC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646E-B598-4778-8535-0C3D1B5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939-5CDD-4A4E-B0D3-8D1B026C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ACB1-1FE3-4969-BEF8-9A8B034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0A53-6B1E-45E2-BA7B-C9B4886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4574-3606-431B-94B3-08B3230A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F21B-3E11-4A1E-8A52-02E67C7F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9F95-41C3-4312-B3B3-053913F0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08A-300F-4F03-AE54-92C9FDC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FCD-C609-45F5-898A-DFE3400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23B-5198-47EB-9DA1-9E843C94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7E2-781A-48D5-ABD3-B8ADDDA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45E-74FA-463F-87CE-9829A7D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456-F2C9-4938-9412-5CF3EFE3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F1D-8C40-410B-9739-A867D60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D099-FC4B-4085-8448-37554D1D50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8085-5F87-4797-8B0C-C9933D40C5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b7"/>
                </a:solidFill>
                <a:latin typeface="Arial Black"/>
              </a:rPr>
              <a:t>La Post Televisió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gnacio Ramo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oël de Rosn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rmand Mattel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ean Claude Gué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runo Giuss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ul Viri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drad Tor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rancis Pis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erbert Schi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hilippe Br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952720" cy="488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2000" y="1484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Ciberperiodismo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Francis Pisani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periodista no debe mirar la TV, porque puede caer en la mirada úni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d: Continuidad y Asincron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V e Internet: INTERCONEX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mbios producidos por la red en la información y en el period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El ciberespacio: Nueva arma del Imperialismo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Herbert Schiller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net y el uso que le da U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SA: sheriff y no policía (trabajo a tiempo parci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formación: “nueva moneda del reinado internacio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El mesianismo tecnológico”</a:t>
            </a:r>
            <a:br>
              <a:rPr sz="1800"/>
            </a:br>
            <a:r>
              <a:rPr b="1" lang="es-ES_tradnl" sz="1800" spc="-1" strike="noStrike">
                <a:solidFill>
                  <a:srgbClr val="ffffb7"/>
                </a:solidFill>
                <a:latin typeface="Arial Black"/>
              </a:rPr>
              <a:t>Philippe Breton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mesa típica del “cambio” ante las nuevas tecnologí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mesa del pasado que nunca se cumpl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logías del discu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ientes respecto de las nuevas tecnolog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fectos perversos de la prom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clusión: pragmatismo con la téc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El crash visual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Paul Virilio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V clásica se verá acompañada de TV glo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undialización de los tiemp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ultiplicación de live-cameras: 1º crash visual de la historia de las imá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or una nueva ética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Philippe Quéau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vención: idea reciente (antes: descubrimient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ción: condición para que el mercado func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ciones pertin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racterísticas de la inno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mas de nav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dos los medios no son nada, si no están al servicio de un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i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La influencia decisiva del periodismo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Régis Debray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ismas de análisis del poder periodístic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conó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lí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piri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 POST TELEVISIÓN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36840" y="1905120"/>
            <a:ext cx="2530440" cy="4190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3236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. Nicolás Ubilla 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 Público de la Infor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8 de abril del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Una gran mutación”</a:t>
            </a:r>
            <a:br>
              <a:rPr sz="4400"/>
            </a:br>
            <a:br>
              <a:rPr sz="1600"/>
            </a:br>
            <a:r>
              <a:rPr b="1" lang="es-ES_tradnl" sz="2400" spc="-1" strike="noStrike">
                <a:solidFill>
                  <a:srgbClr val="ffffb7"/>
                </a:solidFill>
                <a:latin typeface="Arial Black"/>
              </a:rPr>
              <a:t>Ignacio Ramone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TV experimenta 2 grandes cambi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levisión digital: pago y no publi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aparición del concepto “público en general de la TV”: se pierde la centralidad del discu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formación de la TV es la cara visible del fenómeno multimedia: crecimiento de 3 medias: TV, teléfono y orden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produce un cambio en el discurso: piramidal a discurso interconec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mbios en la representación: ceros y u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cambios tecnológicos favorecen a l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lobalización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(problemas de occidentalización v/s grupos que defienden su identidad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odos los cambios descritos, no se deben entender, sino estar preparado para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daptarse, so pena de desaparecer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(Darwi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Un cambio de era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Joël de Rosnay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lógica del “Y” (complementariedad) prevalece por sobre la del “O” (dicotomía maniqueas). Por ello, “éxtasi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terror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 elementos para entender el cambio soci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ferencia entre las técnicas de sustitución y técnicas de integ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ferencia entre técnica de difusión y técnica de nave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lación del Internet y de la TV de hoy y mañ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bl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 nueva comunicación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Armand Mattelart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obalización”: a) Aldea–Sociedad Globa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) Fukuy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iudadanía: el punto de anclaje sigue siendo el territorio del Estado-Nació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mucho más fuerte la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fragmentació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que la Global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 revolución digital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Bruno Giussani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portes de Internet en relación con los medios de comunicación tradicion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versidad (3 tip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a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Las guerras de Internet”</a:t>
            </a:r>
            <a:br>
              <a:rPr sz="2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Jean Claude Guédon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cnologías: manera en que el hombre se expresa a través de ellas + cómo el hombre se apropia de esas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 no determina nada: dibuja el campo de bata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: inclusión de 2 nuevos términos: “Malla” y “Paquet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: es un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ortancia de lenguaje común: TCP 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net nos abre el espacio, como un campo de batalla. No crea el paraíso ni el infierno, sólo abre los campos de batalla. Debemos entender la naturaleza y etar dispuestos a librar las batalla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Videovigilancia y Delación Generalizada”</a:t>
            </a:r>
            <a:br>
              <a:rPr sz="14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Paul Virilio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istoria de June Hou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tencial de Internet para Hou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omba atómica v/s Bomba infor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espectro buscado en el mundo actual es el de lo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egocios y el de la geopolítica globa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Nuevo orden mundial de la Información”</a:t>
            </a:r>
            <a:br>
              <a:rPr sz="4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Asdrad Torr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ciedad e Internet: efectos mutu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ismo tecn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las tecnologías por sus protagoni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Ideología de la cultura global”</a:t>
            </a:r>
            <a:br>
              <a:rPr sz="4000"/>
            </a:br>
            <a:r>
              <a:rPr b="1" lang="es-ES_tradnl" sz="2000" spc="-1" strike="noStrike">
                <a:solidFill>
                  <a:srgbClr val="ffffb7"/>
                </a:solidFill>
                <a:latin typeface="Arial Black"/>
              </a:rPr>
              <a:t>Armand Mattelart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ejamiento de la his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íodo entreguer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obalización (Aldea Global-Tecnetrónica y Brzezins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4:12:42Z</dcterms:created>
  <dc:creator>newbie</dc:creator>
  <dc:description/>
  <dc:language>en-US</dc:language>
  <cp:lastModifiedBy>newbie</cp:lastModifiedBy>
  <dcterms:modified xsi:type="dcterms:W3CDTF">2005-04-15T05:22:44Z</dcterms:modified>
  <cp:revision>5</cp:revision>
  <dc:subject/>
  <dc:title>La Post Televisión (</dc:title>
</cp:coreProperties>
</file>