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BE5-2890-472B-AAFE-8A745F9F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7B4-4F26-478E-A41E-2D547C2A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CF9-C9C3-4055-84FC-4C6CC75F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944-D14C-4623-A221-243A48E3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FDE4-2BC7-4F1F-B3D7-F020063A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F107-A9F2-443C-8A0B-E8E9F31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BC0-EDBA-4C32-A65C-6D309D9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9716-F727-4881-A514-9CBE3B92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007-6E2B-405E-AC36-808B680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07E-6DA4-4019-A2AC-44B40E0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794B-E88D-4D06-86B3-45FEE5ED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8E7-AC92-49ED-BFF4-BC33D2D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A108-92A9-493A-9E00-209A44A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CFC-A8A1-48B4-A8D3-815F608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72A6-6C1C-46D9-9835-C43A84B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E5A8-FDC2-4966-B16C-DC3512BC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31B0-A40B-4224-8B74-292FB015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957-C206-4CE4-B3A8-3FEA22F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946-4D65-483E-9053-C7D9E1E5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49C-9685-47C4-B311-4C2F4FA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2AD-0FCE-446D-A2F5-EF56EB5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7D3-DAC2-4003-ADC8-4DE5231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FB-46E4-4D2A-877F-0AC7EBB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C48-62E6-40AF-A9F7-2B0773D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019-6047-4D0B-8AE3-094643B51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F138-61D0-4594-9AE9-C3F241E11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b7"/>
                </a:solidFill>
                <a:latin typeface="Arial Black"/>
              </a:rPr>
              <a:t>La Post Televisió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gnacio Ramo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oël de Ros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rmand Mattel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ean Claude Gué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runo Giuss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ul Viri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drad Tor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rancis Pis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erbert Schi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hilippe Br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952720" cy="488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2000" y="1484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Ciberperiod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Francis Pisani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periodista no debe mirar la TV, porque puede caer en la mirada ún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d: Continuidad y Asincron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V e Internet: INTERCONEX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mbios producidos por la red en la información y en el period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El ciberespacio: Nueva arma del Imperial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Herbert Schiller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net y el uso que le da U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SA: sheriff y no policía (trabajo a tiempo parc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formación: “nueva moneda del reinado internacio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El mesianismo tecnológico”</a:t>
            </a:r>
            <a:br>
              <a:rPr sz="1800"/>
            </a:br>
            <a:r>
              <a:rPr b="1" lang="es-ES_tradnl" sz="1800" spc="-1" strike="noStrike">
                <a:solidFill>
                  <a:srgbClr val="ffffb7"/>
                </a:solidFill>
                <a:latin typeface="Arial Black"/>
              </a:rPr>
              <a:t>Philippe Breton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sa típica del “cambio” ante las nuevas tecnologí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sa del pasado que nunca se cumpl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logías del discu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ientes respecto de las nuevas tecnolog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fectos perversos de la prom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clusión: pragmatismo con la téc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crash visual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aul Virilio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V clásica se verá acompañada de TV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ndialización de los tiem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ltiplicación de live-cameras: 1º crash visual de la historia de las imá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or una nueva ética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hilippe Quéau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vención: idea reciente (antes: descubrimien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ción: condición para que el mercado func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ciones pertin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racterísticas de la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as de nav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s los medios no son nada, si no están al servicio de un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La influencia decisiva del period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Régis Debray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ismas de análisis del poder periodíst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conó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lí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piri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POST TELEVISIÓN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36840" y="1905120"/>
            <a:ext cx="2530440" cy="4190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. Nicolás Ubilla 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Público de la Infor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8 de abril del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Una gran mutación”</a:t>
            </a:r>
            <a:br>
              <a:rPr sz="4400"/>
            </a:br>
            <a:br>
              <a:rPr sz="1600"/>
            </a:br>
            <a:r>
              <a:rPr b="1" lang="es-ES_tradnl" sz="2400" spc="-1" strike="noStrike">
                <a:solidFill>
                  <a:srgbClr val="ffffb7"/>
                </a:solidFill>
                <a:latin typeface="Arial Black"/>
              </a:rPr>
              <a:t>Ignacio Ramone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TV experimenta 2 grandes camb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levisión digital: pago y no publi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aparición del concepto “público en general de la TV”: se pierde la centralidad del discu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formación de la TV es la cara visible del fenómeno multimedia: crecimiento de 3 medias: TV, teléfono y orden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produce un cambio en el discurso: piramidal a discurso interconec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mbios en la representación: ceros y u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cambios tecnológicos favorecen a l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lobalizació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(problemas de occidentalización v/s grupos que defienden su identidad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odos los cambios descritos, no se deben entender, sino estar preparado par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daptarse, so pena de desaparece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(Darwi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Un cambio de era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Joël de Rosnay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lógica del “Y” (complementariedad) prevalece por sobre la del “O” (dicotomía maniqueas). Por ello, “éxtasi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terro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 elementos para entender el cambio soci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ferencia entre las técnicas de sustitución y técnicas de integ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ferencia entre técnica de difusión y técnica de nave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lación del Internet y de la TV de hoy y mañ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nueva comunicación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rmand Mattelart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obalización”: a) Aldea–Sociedad Globa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) Fukuy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iudadanía: el punto de anclaje sigue siendo el territorio del Estado-Nació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mucho más fuerte la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ragmentació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que la Global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revolución digital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Bruno Giussani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portes de Internet en relación con los medios de comunicación tradicion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versidad (3 tip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a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s guerras de Internet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Jean Claude Guédo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cnologías: manera en que el hombre se expresa a través de ellas + cómo el hombre se apropia de esas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 no determina nada: dibuja el campo de bata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: inclusión de 2 nuevos términos: “Malla” y “Paqu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: es un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ortancia de lenguaje común: TCP 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 nos abre el espacio, como un campo de batalla. No crea el paraíso ni el infierno, sólo abre los campos de batalla. Debemos entender la naturaleza y etar dispuestos a librar las batalla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Videovigilancia y Delación Generalizada”</a:t>
            </a:r>
            <a:br>
              <a:rPr sz="14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aul Virilio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istoria de June Hou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tencial de Internet para Hou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omba atómica v/s Bomba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espectro buscado en el mundo actual es el de lo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gocios y el de la geopolítica globa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Nuevo orden mundial de la Información”</a:t>
            </a:r>
            <a:br>
              <a:rPr sz="4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sdrad Torr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ciedad e Internet: efectos mutu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ismo 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las tecnologías por sus protagoni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Ideología de la cultura global”</a:t>
            </a:r>
            <a:br>
              <a:rPr sz="4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rmand Mattelart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ejamiento de la his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íodo entreguer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obalización (Aldea Global-Tecnetrónica y Brzezins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4:12:42Z</dcterms:created>
  <dc:creator>newbie</dc:creator>
  <dc:description/>
  <dc:language>en-US</dc:language>
  <cp:lastModifiedBy>newbie</cp:lastModifiedBy>
  <dcterms:modified xsi:type="dcterms:W3CDTF">2005-04-15T05:22:44Z</dcterms:modified>
  <cp:revision>5</cp:revision>
  <dc:subject/>
  <dc:title>La Post Televisión (</dc:title>
</cp:coreProperties>
</file>