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A46-A86E-4A6C-8718-3D154F4C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A70-0766-4362-8F8C-56179F5A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C01-8094-4B26-9873-D071004A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608-B6A8-4D2D-8CBF-545495D0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94B4-BDEE-4037-BE9E-3E26B64E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41CE-4F37-4175-B8AC-EE332E99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55B7-89D8-40E5-B246-13378113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31C7-965B-4333-98D2-4D70115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EE57-11FF-481B-96A3-92B5B382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CAC-A93C-4F73-AF1B-5CA0812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95BD-A0E2-40E7-B30F-99016518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283-04E6-4EEF-ADF8-05A446BF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023D-4C83-499D-867D-35D4939F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1C6B-F941-49B3-94F5-E3AD0332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3BC0-CD89-4854-9C26-675DE5E9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EA4B-6D94-4975-A6E5-DEE71A75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722B-A302-4E6A-9E5F-DFB475C2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DDF-3B58-4503-B2BB-00BF6FA6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208-DE10-4F9A-B850-92544A10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E60-ABEC-43E0-BC74-2D51B6C4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68F-EFC6-408B-B7A5-B02551DA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126-6CB7-425F-95EE-D0E2CB8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A86-4B81-49DA-B806-404B96B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695-A803-4DE3-80AD-6A2CEFB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BBE-D033-4C75-B7B7-CBF647CE51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5353-B6F8-4AAA-8BEE-E4FA9286DD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ADMINISTRACIÓN PÚBLICA Y FUNCIÓN ADMINISTRATIV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Polic</a:t>
            </a:r>
            <a:r>
              <a:rPr b="1" lang="es-CL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í</a:t>
            </a: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ordenadora y de interven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fec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Polic</a:t>
            </a:r>
            <a:r>
              <a:rPr b="1" lang="es-CL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í</a:t>
            </a: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-regulació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7958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risis de la “publicatio” genera la “ordenati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ción administrativa afecta conducta de perso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 materia económica, espacio, territorio, movimiento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Servicio Públic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estinada a satisfacer una necesidad colectiva (aspecto mater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 manera continua y reg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da directamente por órganos de la  Administración del Estado o por priv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Foment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7958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otege o promueve actividades de privados de las cuales obtener una utilidad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os: subvenciones, subsidios, premios, exe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ima la idea de “colaboración” por sobre la “imposi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</a:rPr>
              <a:t>Conceptualización Administración Públ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628640"/>
            <a:ext cx="795816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.. sistema de relaciones activas que tiene a la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ociedad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beneficiario o destinatario, al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obligado benefactor, al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(público)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instrumento y al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ienestar colectivo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fi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sumiendo los entes administrativos los asuntos de la comunidad y de sus integrantes de una manera finalizada, parcialmente planificadora, decisora y conformadora .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 es ser poderoso/personifica al Estado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enco de potestades exorbit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uerza ejecutoria de actos de la 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ienes inembargables, inalienabl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 es persona jurídica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ace declaraciones de volunt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elebra contr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s titular de un patrimon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s responsable y, por tanto, justic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</a:rPr>
              <a:t>Funciones de Gobierno y Administrativa (art. 24)</a:t>
            </a:r>
            <a:r>
              <a:rPr b="1" lang="es-E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l gobierno y la administración del Estado corresponden al Presidente de la República, quien es el Jefe del Es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u autoridad se extiende a todo cuanto tiene por objeto la conservación del orden público en el interior y la seguridad externa de la República, de acuerdo con la Constitución y las ley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l Presidente de la República, a lo menos una vez al año, dará cuenta al país del estado administrativo y político de la Nación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unciones de Gobierno y Administrativa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9581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de Gobierno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stad de tomar decisiones y es, por tanto, facultad de imperio. Comprende todo cuanto tienda a preservación orden público y conservación de seguridad interna y externa, siendo una de sus característica el poder adoptar resoluciones discre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administrativa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ribuciones que se orientan a la aplicación de las normas legales y decretales (supone más que simple ejecución de Ley) para consecución de objetivos del poder público en materia de desarrollo y funcionamiento de los servicios púb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acetas de la Administración Públ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9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Fun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(faceta externa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realizadora de fines de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Gest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aceta interna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oméstica para logro fines encomienda CPR y ley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 en perspectiva funcion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95816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A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Consul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Fiscalizadora o de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Función Jurisdic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lasificación de actividad administrativ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79581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urídica: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lateral y bilat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: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a o 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gún el tip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Polic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Servicio Públ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Fo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2:49:21Z</dcterms:created>
  <dc:creator>CMoraga</dc:creator>
  <dc:description/>
  <dc:language>en-US</dc:language>
  <cp:lastModifiedBy>Owner</cp:lastModifiedBy>
  <dcterms:modified xsi:type="dcterms:W3CDTF">2005-04-04T21:29:31Z</dcterms:modified>
  <cp:revision>145</cp:revision>
  <dc:subject/>
  <dc:title>EFICACIA CONTRACTUAL</dc:title>
</cp:coreProperties>
</file>