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6B5-805E-4C06-B65F-C98954EC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315-5FA2-4838-BD87-606B7B6C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5DD-E98E-4614-815F-84DCC867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6F4-92BB-4E05-92F3-584A9BF5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A1BF-54E8-4D3A-B157-C60F7A7B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B1FB-7CB7-4743-B355-32166D7A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8D52-5EBC-48B5-A64C-911C9C39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4997-C63D-4668-B58E-3F5E3A39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F898-42EC-4841-BD02-078F399F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6558-92E5-45EB-ACE6-24E2CFCC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1998-1A13-4476-99C9-C45405F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6B4-EEB1-4E79-A855-8755A65F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5159-9536-4E7C-B808-DB32EEB0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588F-5165-420D-9F19-ECA7E239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593D-9E18-451A-949F-E509FD61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C8E2-C256-4775-A5F4-239BA788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8120-D047-4642-AFBA-AFFC2064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6F9-FBA8-413F-AB93-CF95242C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9B4-D18C-410D-9345-9A840202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17E-D541-42DD-B3C3-61479C7E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6E17-779C-4FD3-A89E-B6692F2E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255-8A3D-4455-ABEE-D4859A05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424-79BB-49F5-9CAA-1ED89CB5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24F-9B7C-4F98-AB26-C42926C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FE21-F1C4-46F4-8928-301304951F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D80F-4A13-4E18-8ECD-2FA5179CFBE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ADMINISTRACIÓN PÚBLICA Y FUNCIÓN ADMINISTRATIV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ctividad de Polic</a:t>
            </a:r>
            <a:r>
              <a:rPr b="1" lang="es-CL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í</a:t>
            </a: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ordenadora y de interven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dici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im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fec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ctividad de Polic</a:t>
            </a:r>
            <a:r>
              <a:rPr b="1" lang="es-CL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í</a:t>
            </a: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-regulació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79581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risis de la “publicatio” genera la “ordenati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ción administrativa afecta conducta de perso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 materia económica, espacio, territorio, movimiento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ctividad de Servicio Públic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destinada a satisfacer una necesidad colectiva (aspecto mater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e manera continua y reg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da directamente por órganos de la  Administración del Estado o por priv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ctividad de Foment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79581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rotege o promueve actividades de privados de las cuales obtener una utilidad públ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os: subvenciones, subsidios, premios, exen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rima la idea de “colaboración” por sobre la “imposi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</a:rPr>
              <a:t>Conceptualización Administración Públ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5840" y="1628640"/>
            <a:ext cx="795816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.. sistema de relaciones activas que tiene a la 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ociedad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beneficiario o destinatario, al 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tado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obligado benefactor, al 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 (público)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instrumento y al 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ienestar colectivo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fi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sumiendo los entes administrativos los asuntos de la comunidad y de sus integrantes de una manera finalizada, parcialmente planificadora, decisora y conformadora .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P es ser poderoso/personifica al Estado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enco de potestades exorbit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Fuerza ejecutoria de actos de la 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Bienes inembargables, inalienabl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P es persona jurídica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ace declaraciones de volunt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elebra contr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s titular de un patrimon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s responsable y, por tanto, justic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</a:rPr>
              <a:t>Funciones de Gobierno y Administrativa (art. 24)</a:t>
            </a:r>
            <a:r>
              <a:rPr b="1" lang="es-E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l gobierno y la administración del Estado corresponden al Presidente de la República, quien es el Jefe del Est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u autoridad se extiende a todo cuanto tiene por objeto la conservación del orden público en el interior y la seguridad externa de la República, de acuerdo con la Constitución y las ley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l Presidente de la República, a lo menos una vez al año, dará cuenta al país del estado administrativo y político de la Nación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unciones de Gobierno y Administrativa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9581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de Gobierno: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stad de tomar decisiones y es, por tanto, facultad de imperio. Comprende todo cuanto tienda a preservación orden público y conservación de seguridad interna y externa, siendo una de sus característica el poder adoptar resoluciones discreci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administrativa: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ribuciones que se orientan a la aplicación de las normas legales y decretales (supone más que simple ejecución de Ley) para consecución de objetivos del poder público en materia de desarrollo y funcionamiento de los servicios públ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acetas de la Administración Públ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958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ción Fun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(faceta externa)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realizadora de fines de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ción Gest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faceta interna)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doméstica para logro fines encomienda CPR y ley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P en perspectiva funciona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95816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ción A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Consul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Fiscalizadora o de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Función Jurisdic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lasificación de actividad administrativ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79581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Jurídica: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lateral y bilate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: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a o r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egún el tip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Polic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Servicio Públ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Fo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2:49:21Z</dcterms:created>
  <dc:creator>CMoraga</dc:creator>
  <dc:description/>
  <dc:language>en-US</dc:language>
  <cp:lastModifiedBy>Owner</cp:lastModifiedBy>
  <dcterms:modified xsi:type="dcterms:W3CDTF">2005-04-04T21:29:31Z</dcterms:modified>
  <cp:revision>145</cp:revision>
  <dc:subject/>
  <dc:title>EFICACIA CONTRACTUAL</dc:title>
</cp:coreProperties>
</file>