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FE5-FD9E-4AD6-A115-2CEF2F3B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261-0F7F-47F6-A420-CAF37574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C11-228A-45BC-8EA2-2DA029E6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7CE-95F5-41B0-95C2-92DC8D24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6F64-BC30-41B3-A87B-69C3FDDD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AE5D-CC3D-415F-9D2D-E63463E3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9CA9-299D-4B49-843A-316EF11D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EF38-CB8E-4A94-9F6A-4E78ACFB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94DC-60A5-42E7-BBC3-DA0853BC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5722-DF80-44B9-B6FC-CE3F3E26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AA3D-4C17-4350-8214-0C7E7DB6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603-829E-4EB0-8F06-40AE4DA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D952-B857-4439-8532-CD34AA65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AF32-D604-4B4D-943D-380147B7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3023-EB75-4B0B-A7BD-32C803F2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AC8-27A3-49A9-A0E6-A3BA7617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1DA2-4E8E-4BC8-83EF-3930C503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7CA-DDB6-4E67-BC31-FAC83AAF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7E3-6549-4CC9-8E6E-74FF081B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4DE-B182-496D-A305-4B9D8141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6FF-15F8-450A-8E91-85A79779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833-1E73-4EE1-BBF0-02D1A281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461-B84E-4D2E-A3E8-EE1EE5F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0A4-1C72-45B8-AFF2-389405E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326E-0EB7-4C99-9E09-D2C534108F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5003-ACB2-4F57-9C27-78DE9A5B22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ADMINISTRACIÓN PÚBLICA Y FUNCIÓN ADMINISTRATIVA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Polic</a:t>
            </a:r>
            <a:r>
              <a:rPr b="1" lang="es-CL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í</a:t>
            </a: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ordenadora y de intervenció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fec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Polic</a:t>
            </a:r>
            <a:r>
              <a:rPr b="1" lang="es-CL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í</a:t>
            </a: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-regulació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7958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risis de la “publicatio” genera la “ordenati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ción administrativa afecta conducta de perso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 materia económica, espacio, territorio, movimiento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Servicio Públic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estinada a satisfacer una necesidad colectiva (aspecto mater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e manera continua y reg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da directamente por órganos de la  Administración del Estado o por priv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Actividad de Foment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79581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otege o promueve actividades de privados de las cuales obtener una utilidad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os: subvenciones, subsidios, premios, exe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ima la idea de “colaboración” por sobre la “imposi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</a:rPr>
              <a:t>Conceptualización Administración Públ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628640"/>
            <a:ext cx="795816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.. sistema de relaciones activas que tiene a la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ociedad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beneficiario o destinatario, al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obligado benefactor, al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(público)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instrumento y al 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ienestar colectivo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fi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sumiendo los entes administrativos los asuntos de la comunidad y de sus integrantes de una manera finalizada, parcialmente planificadora, decisora y conformadora .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 es ser poderoso/personifica al Estado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enco de potestades exorbit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uerza ejecutoria de actos de la 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ienes inembargables, inalienabl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 es persona jurídica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ace declaraciones de volunt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elebra contr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s titular de un patrimon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s responsable y, por tanto, justic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33"/>
                </a:solidFill>
                <a:latin typeface="Garamond"/>
              </a:rPr>
              <a:t>Funciones de Gobierno y Administrativa (art. 24)</a:t>
            </a:r>
            <a:r>
              <a:rPr b="1" lang="es-E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l gobierno y la administración del Estado corresponden al Presidente de la República, quien es el Jefe del Es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u autoridad se extiende a todo cuanto tiene por objeto la conservación del orden público en el interior y la seguridad externa de la República, de acuerdo con la Constitución y las ley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s-C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l Presidente de la República, a lo menos una vez al año, dará cuenta al país del estado administrativo y político de la Nación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unciones de Gobierno y Administrativa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9581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de Gobierno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stad de tomar decisiones y es, por tanto, facultad de imperio. Comprende todo cuanto tienda a preservación orden público y conservación de seguridad interna y externa, siendo una de sus característica el poder adoptar resoluciones discre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administrativa: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ribuciones que se orientan a la aplicación de las normas legales y decretales (supone más que simple ejecución de Ley) para consecución de objetivos del poder público en materia de desarrollo y funcionamiento de los servicios púb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Facetas de la Administración Públ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9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Fun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(faceta externa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realizadora de fines de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Gest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aceta interna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dad doméstica para logro fines encomienda CPR y ley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P en perspectiva funcion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95816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A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Consul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Fiscalizadora o de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Función Jurisdic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lasificación de actividad administrativ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79581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urídica: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lateral y bilat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: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écnica o 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gún el tip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Polic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Servicio Públ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Fo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2:49:21Z</dcterms:created>
  <dc:creator>CMoraga</dc:creator>
  <dc:description/>
  <dc:language>en-US</dc:language>
  <cp:lastModifiedBy>Owner</cp:lastModifiedBy>
  <dcterms:modified xsi:type="dcterms:W3CDTF">2005-04-04T21:29:31Z</dcterms:modified>
  <cp:revision>145</cp:revision>
  <dc:subject/>
  <dc:title>EFICACIA CONTRACTUAL</dc:title>
</cp:coreProperties>
</file>