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F20F-7299-4667-AA12-36F79F74D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D7E58-9F6D-4136-9AA4-56DAC306B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33928-15EC-4597-B2C3-49A17ECC5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50493-CD8F-46C5-8ACF-8203A5B92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A84F8-8057-443E-8A45-D1308C60F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EE9CE-0127-48A7-BD1A-56F5E88EF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7BB60-701C-4B9D-9702-80D82A141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2DEC1-E0F8-455D-BEAB-A862567A6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DDC45-A1BA-40A6-A0A5-E512E8CF9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4613D-4CBF-42EE-87F2-0765EA2FB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01CC3-F650-48EF-A446-7DED36A8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197D4-457E-4770-9728-5A58A1025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AB74-8167-4E5B-A46A-BFB609987EB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a8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ARGUMENTACION</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RITERIOS DE VALIDEZ</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21"/>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DE RELEVANCI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na argumentación instrumental es relevante si existe una conexión razonable entre causa y efecto; es decir, si permite explicar, en el contexto de la argumentación por qué la causa podría producir el efecto.</a:t>
            </a:r>
            <a:endParaRPr b="0" lang="en-US" sz="3200" spc="-1" strike="noStrike">
              <a:solidFill>
                <a:srgbClr val="000000"/>
              </a:solidFill>
              <a:latin typeface="Times New Roman"/>
            </a:endParaRPr>
          </a:p>
        </p:txBody>
      </p:sp>
      <p:sp>
        <p:nvSpPr>
          <p:cNvPr id="61" name=""/>
          <p:cNvSpPr/>
          <p:nvPr/>
        </p:nvSpPr>
        <p:spPr>
          <a:xfrm>
            <a:off x="7129440" y="194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7ffb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la mañana, antes de venir a clases, me puse mi chaleco verde en lugar de ponerme el amarillo. Es seguro que voy a reprobar el exam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Tuve una fuerte discusión con mi polola anoche. Es seguro que voy a reprobar el examen de mañana en la mañan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f5"/>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DE SUFICIENCI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argumentación instrumental es suficiente si el factor causal indicado por la argumentación es el factor que con mayor probabilidad, en el contexto de la argumentación, es el que provoca el efecto.</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o significa que pueden existir otros factores causales relevantes, pero carecen de la eficiencia para provocar el efect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e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1</a:t>
            </a:r>
            <a:endParaRPr b="0" lang="en-US" sz="4400" spc="-1" strike="noStrike">
              <a:solidFill>
                <a:srgbClr val="000000"/>
              </a:solidFill>
              <a:latin typeface="Times New Roman"/>
            </a:endParaRPr>
          </a:p>
        </p:txBody>
      </p:sp>
      <p:sp>
        <p:nvSpPr>
          <p:cNvPr id="67" name="PlaceHolder 2"/>
          <p:cNvSpPr>
            <a:spLocks noGrp="1"/>
          </p:cNvSpPr>
          <p:nvPr>
            <p:ph/>
          </p:nvPr>
        </p:nvSpPr>
        <p:spPr>
          <a:xfrm>
            <a:off x="304920" y="1981080"/>
            <a:ext cx="6781680" cy="4114800"/>
          </a:xfrm>
          <a:prstGeom prst="rect">
            <a:avLst/>
          </a:prstGeom>
          <a:noFill/>
          <a:ln w="0">
            <a:noFill/>
          </a:ln>
        </p:spPr>
        <p:txBody>
          <a:bodyPr lIns="90000" rIns="90000" tIns="46800" bIns="46800" anchor="t">
            <a:normAutofit/>
          </a:bodyPr>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ena capital fue suspendida en 1962. A partir de esa fecha ha habido un incremento en el número de policías que han muerto en el cumplimiento de su deber. Al mismo tiempo se ha producido un gran desórden en el manejo de las instituciones </a:t>
            </a:r>
            <a:r>
              <a:rPr b="0" lang="en-US" sz="2400" spc="-1" strike="noStrike">
                <a:solidFill>
                  <a:srgbClr val="000000"/>
                </a:solidFill>
                <a:latin typeface="Arial"/>
              </a:rPr>
              <a:t>	</a:t>
            </a:r>
            <a:r>
              <a:rPr b="0" lang="en-US" sz="2400" spc="-1" strike="noStrike">
                <a:solidFill>
                  <a:srgbClr val="000000"/>
                </a:solidFill>
                <a:latin typeface="Arial"/>
              </a:rPr>
              <a:t>penales. Pienso que debería aprobarse, de nuevo, la pena capital". </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7f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2</a:t>
            </a:r>
            <a:endParaRPr b="0" lang="en-US" sz="4400" spc="-1" strike="noStrike">
              <a:solidFill>
                <a:srgbClr val="000000"/>
              </a:solidFill>
              <a:latin typeface="Times New Roman"/>
            </a:endParaRPr>
          </a:p>
        </p:txBody>
      </p:sp>
      <p:sp>
        <p:nvSpPr>
          <p:cNvPr id="69" name="PlaceHolder 2"/>
          <p:cNvSpPr>
            <a:spLocks noGrp="1"/>
          </p:cNvSpPr>
          <p:nvPr>
            <p:ph/>
          </p:nvPr>
        </p:nvSpPr>
        <p:spPr>
          <a:xfrm>
            <a:off x="533160" y="1980720"/>
            <a:ext cx="7086600" cy="4419720"/>
          </a:xfrm>
          <a:prstGeom prst="rect">
            <a:avLst/>
          </a:prstGeom>
          <a:noFill/>
          <a:ln w="0">
            <a:noFill/>
          </a:ln>
        </p:spPr>
        <p:txBody>
          <a:bodyPr lIns="90000" rIns="90000" tIns="46800" bIns="46800" anchor="t">
            <a:normAutofit/>
          </a:bodyPr>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psiquiatría mata a las personas. Esto se debe a que los tratamientos psiquiátricos son brutales y realizados sin ningún cuidado. Los siguientes son sólo unos casos: 21 personas fueron asesinadas con un machete en un período de 30 días. La persona que cometió estos brutales asesinatos estuvo internado en un hospital mental. 16 personas fueron asesinadas </a:t>
            </a:r>
            <a:r>
              <a:rPr b="0" lang="en-US" sz="2000" spc="-1" strike="noStrike">
                <a:solidFill>
                  <a:srgbClr val="000000"/>
                </a:solidFill>
                <a:latin typeface="Arial"/>
              </a:rPr>
              <a:t>	</a:t>
            </a:r>
            <a:r>
              <a:rPr b="0" lang="en-US" sz="2000" spc="-1" strike="noStrike">
                <a:solidFill>
                  <a:srgbClr val="000000"/>
                </a:solidFill>
                <a:latin typeface="Arial"/>
              </a:rPr>
              <a:t>a balazos por un estudiantes, desde la torre de la Universidad de Texas. El estudiante había recibido tratamiento psiquiátrico. La familia de Charles Manson mató de un modo brutal a 7 personas. Manson había recibido tratamiento mental".</a:t>
            </a:r>
            <a:endParaRPr b="0" lang="en-US" sz="20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DE ACEPTABILIDAD</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argumentación instrumental es aceptable  si es factores causales realmente provocan el efecto que se supone que provoca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 factores factores causales no pueden ser meras explicacion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DE VALIDEZ</a:t>
            </a:r>
            <a:endParaRPr b="0" lang="en-US" sz="4400" spc="-1" strike="noStrike">
              <a:solidFill>
                <a:srgbClr val="000000"/>
              </a:solidFill>
              <a:latin typeface="Times New Roman"/>
            </a:endParaRPr>
          </a:p>
        </p:txBody>
      </p:sp>
      <p:sp>
        <p:nvSpPr>
          <p:cNvPr id="73"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MENTACIONES ANALÓG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7f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 DE RELEVANCI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El propósito de una argumentación analógica es respaldar un punto de vista por medio de una comparación. Si las situaciones son similares, lo que vale para uno vale para la otra.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s razones de una situación deben configurarse como elementos de una relación. La analogía, en sentido estricto, es una comparación de relaciones, puesto que las situaciones comparadas nunca son idéntica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 razones son irrelevantes si constituyen una simple comparación que no respalda un punto de vista.</a:t>
            </a:r>
            <a:endParaRPr b="0" lang="en-US" sz="24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endParaRPr b="0" lang="en-US" sz="2800" spc="-1" strike="noStrike">
              <a:solidFill>
                <a:srgbClr val="000000"/>
              </a:solidFill>
              <a:latin typeface="Times New Roman"/>
            </a:endParaRPr>
          </a:p>
        </p:txBody>
      </p:sp>
      <p:sp>
        <p:nvSpPr>
          <p:cNvPr id="76" name=""/>
          <p:cNvSpPr/>
          <p:nvPr/>
        </p:nvSpPr>
        <p:spPr>
          <a:xfrm>
            <a:off x="533520" y="5943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8458200" y="6172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5a8"/>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6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ar un bote es similar a manejar una carretela porque ambos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hículos están hechos de mader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ilar es similar a nadar porque hay que mover el cuerpo coordinadamen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f5"/>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 DE SUFICIENCIA</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razones de una argumentación analógica deben considerar todos los elementos relevantes de la relación y desestimar los elementos irrelevant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a73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GENERALE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 acuerdo con la clasificación de Johnson and Blair, los criterios son tr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RELEVA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 SUFICIENC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 ACEPTABILIDAD</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s criterios se analizarán en términos de los diferentes tipos de argumen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21"/>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 juegas bien a las damas, entonces eres un buen jugador de ajedrez, porque ambos se juegan en el mismo tablero.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an es un buen jugador de ajedrez, porque es muy bueno para las matemática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f5"/>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5" name="PlaceHolder 2"/>
          <p:cNvSpPr>
            <a:spLocks noGrp="1"/>
          </p:cNvSpPr>
          <p:nvPr>
            <p:ph/>
          </p:nvPr>
        </p:nvSpPr>
        <p:spPr>
          <a:xfrm>
            <a:off x="304920" y="205740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os comienzos de los años 70, algunas personas dijeron que el uso de la marihuana causaba adicción a la heroína. Esta  opinión se sostuvo sobre la base de que la mayoría de la gente que usaba heroína usó primero marihuana. Me parece que este argumento es incorrecto. Es lo mismo que decir que beber leche es lo que provoca que una persona use cocaína. Después de todo, la mayoría de las personas que usan cocaína, bebieron leche en su infanci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bb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a:t>
            </a:r>
            <a:endParaRPr b="0" lang="en-US" sz="4400" spc="-1" strike="noStrike">
              <a:solidFill>
                <a:srgbClr val="000000"/>
              </a:solidFill>
              <a:latin typeface="Times New Roman"/>
            </a:endParaRPr>
          </a:p>
        </p:txBody>
      </p:sp>
      <p:sp>
        <p:nvSpPr>
          <p:cNvPr id="87"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unas personas dicen que si Dios hubiese querido que personas del mismo sexo se amaran, entonces, en primer lugar, no habría creado sexos diferentes. Siguiendo este argumento, se podría decir que, si Dios hubiese querido que usáramos ropa, no nos habría creado desnudos. Es completamente inadecuado para este contexto el partir de de lo que Dios hubiese querido hacer".</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f5"/>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 DE ACEPTABILIDAD</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 elementos de la relación que se comparan son válidos en el contexto (Por ejemplo, los Los botes y las carretelas son realmente hechos de mad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11d4"/>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riterio de relevancia</a:t>
            </a:r>
            <a:r>
              <a:rPr b="0" lang="en-US" sz="4000" spc="-1" strike="noStrike">
                <a:solidFill>
                  <a:srgbClr val="000000"/>
                </a:solidFill>
                <a:latin typeface="Times New Roman"/>
              </a:rPr>
              <a:t> </a:t>
            </a:r>
            <a:r>
              <a:rPr b="0" lang="en-US" sz="3600" spc="-1" strike="noStrike">
                <a:solidFill>
                  <a:srgbClr val="000000"/>
                </a:solidFill>
                <a:latin typeface="Times New Roman"/>
              </a:rPr>
              <a:t>en las argumentaciones sintomática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una argumentación sintomática las razones que apoyan una argumentación cumplen la función de ser indicadores del punto de vista, es decir, del diagnóstico que se propone el punto de vist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razones son relevantes si son indicadores que se correlacionan con el punto de vista o establecen con él una relación de concomitanci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861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1</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   Juan está enamorad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6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2</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V. Bachelet será la próxima presidente d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de Chi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3</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eb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JEMPLO 3</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V. El aborto es un acto inmor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3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0ffba"/>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riterio de suficiencia en las argumentaciones sintomáticas</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2209320"/>
            <a:ext cx="7772400" cy="4419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 argumentación sintomática es suficiente si las razones considerando corresponden a todos los síntomas relevantes del diagnóstic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emás, es necesario descartar todos los contra-síntomas. Es decir, aquellos síntomas que no se pueden presentar para que el diagnóstico sea váli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bff2e"/>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riterio de aceptabilidad en las argumentaciones sintomáticas</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razones de una argumentación sintomática son aceptables si es razonablemente válida en el contexto de la argumentació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razones además deben proporcionar un genuino apoyo al punto de vist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5a8"/>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ITERIOS DE VALIDEZ</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MENTACIONES INSTRUMEN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22T15:35:40Z</dcterms:created>
  <dc:creator>Universidad del Desarrollo</dc:creator>
  <dc:description/>
  <dc:language>en-US</dc:language>
  <cp:lastModifiedBy>Universidad del Desarrollo</cp:lastModifiedBy>
  <dcterms:modified xsi:type="dcterms:W3CDTF">1970-01-24T15:11:38Z</dcterms:modified>
  <cp:revision>4</cp:revision>
  <dc:subject/>
  <dc:title>La argumentación: Criterios de validez </dc:title>
</cp:coreProperties>
</file>