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D88-32F8-42B0-A19B-9A874E63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76E-87E1-41E0-8F10-92F9E355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463-8BA0-4906-8AB6-69586450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8B6-86E8-43B5-B102-87E299FC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065-772F-45DE-BDCF-5249AFC8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B69-E78C-4B87-98ED-E3CD49CD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6D9-C2DE-45E7-B38D-0C760037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263-208A-4A53-A7C7-B600AE74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AD3-DA67-4C63-8198-9DEC5CCE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783-7C68-4E27-8DCF-B200E61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A2B-BE58-40C3-A8A6-A4D39333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59E-9B1D-43ED-9287-4A82E5A3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E102-2A3C-4E06-A3EC-05B9A48F0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844640"/>
            <a:ext cx="612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INSTRU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Protoco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libro o registro público que debe llevar todo Notario, el que se formará insertando las escrituras en el orden numérico que les hubiere correspondido en el reper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de las escrituras, se agregan los documentos protoco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escritura pública,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matri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documento original agregado al proto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p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manuscritas, dactilografiadas, impresas, fotocopias, litografías o fotogra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las deberá expresarse que son testimonio fiel de su original y llevaran la fecha, firma y sello del funcionario autorizante. (art.422 del C.O.T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567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EN QUE INTERVIENE NOTARIO SIN SER ESCRITURA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rotocoliz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s agregados al final del registro de un notario, a pedido de quién lo solic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levanta un acta que firma el solicitante y el notario en la que se indica el contenido del documento y sus indicaciones esenciales. Esta acta es un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nstrumento adquiere fecha cier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nstrumentos del  420 COT pasan a valer como instrument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rve para conservar los documentos, sólo podrá ser desglosado del protocolo en virtud de decreto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 Privado Autorizado por el No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rivado en que el notario abona con un certificado público el hecho de haber autorizado la firma de la persona que in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nua siend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ja constancia de la fecha en que se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a fe de la identidad de los firm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algunos casos la ley otorga mérito ejecutivo, sin necesidad de reconocimiento previo: Letra de cambio, pagaré  o cheque en que la firma del obligado al pago estuviere autorizada ante Notario; contrato prenda compraventa cosas muebles a plazo; contrato prenda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7776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 EN LA PRUEBA INSTRU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Parte: puede s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oluntar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el vencimiento del termino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z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bajo pena de producirse los efectos que la ley señala, por haber sido requeridos para ello por el tribunal, a petición de la contraria. Los caso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. Prej. propiamente 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que aquel a quien se pretende demandar para que exhiba documentos. (273 n°3, 4 y 5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ntr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a parte solicitar la exhibición de documentos que estan en poder de la contraparte o de un ter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ara mejor resolver. (159 n°1 y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033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PORTUNIDAD PARA RENDIR PRUEBA INSTRUMENT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. Civil, se contemplan como oportunidad para rendir prueba instrumental las siguie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ntes de la iniciación del proces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rejud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la deman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cualquier estado, hasta el vencimiento del termino probatorio en 1° instancia, y hasta la vista de la causa en 2° instancia. (art.348 inc.1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 posterioridad a la citación para oír sentencia en 1° instancia y a la vista de la causa 2° in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18900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S EN LENGUA EXTRANJ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arte que los acompañe opt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sin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tribunal dispondrá que se traduzca por el perito que él designe, a costa del que lo pres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con su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sta valdrá, salvo que la contraparte exija que sea revisada la traducción dentro del plazo de 6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UBLICOS EN JUICI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42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documentos origin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dadas con los requisitos que las leyes prescriben para que hagan fe respecto de toda persona, o, a lo menos, respecto de aquella contra quien se hace val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acompaña una copia, y el registro o matriz ha desaparecido se puede presentar una duda acerca de la autenticidad del instrumento: Cotejo. El “cotejo" doble signifi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instrumental: confrontación del instrumento publico con su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de Letras: prueba caligráfica, por dudas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, obtenida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os requisitos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sean objetadas como inexactas por la parte contraria dentro de los 3 días siguientes a aquel en que se le dio conocimiento de ell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 objetadas en el caso del n°3, sean cotejadas y halladas conforme con sus originales o con otras que hagan fe respecto de la parte contra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testimonios que el Tribunal mande agregar durante el juicio, autorizados por su secretario u otro funcionario competente y sacados de los originales o de copias que reúnan las condiciones indicadas en el n° anteri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s copias son agregadas parcialmente cualquiera de los interesados podrá exigir que se agregue el todo o parte de lo omitido, a sus expen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. PUBLICOS OTORGADOS EN EL EXTRANJ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que tengan valor en Chile es necesario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se ajusta a la legislación del país donde se otorg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acredite la autenticidad d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ámites a cumpl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iz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establece autenticidad del doc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ae la legaliz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n el documento conste el carácter de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conste la verdad de las firmas de las personas que los hayan autor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se obtiene mediante el “atestado” de algún funcionario del 345. Es el testimonio prestado por altas auto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280" y="11268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puede realizarse: (345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el extranjero al otorgarse 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chileno, acreditado en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hi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por agente diplomático acreditado en Chile por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no existe representación diplomática entre ambos país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de una nación amiga acreditado en el mismo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vierte al castellano, normalmente por el interprete oficial del Min. 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tocoliz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hí vale como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6206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todo objeto normalmente escrito, en cuyo texto se consigna o representa alguna cosa apta para esclarecer un hecho o se deja constancia de una manifestación de voluntad que produce efectos jurídicos. (Co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de a los instrumentos, las fotografías, películas, cintas magnetofónicas, discos, radiografías, electrocardiogramas, planos, cuadros, dibujos etc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es todo escrito en que se consagra al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 genero – espe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280" y="18900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MA DE ACOMPAÑAR LOS INST. PUBLICOS AL JU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n citación”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parte contra quien se presente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OS INST. PU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, respecto de 3°,  en cua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otorgado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echa del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efectuado las declaraciones que en el instrumento público aparecen por el funcionario público y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LARACI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os efectos de determinar el valor de las declaraciones contenidas en el documento es menester distinguir si ellas se efectúan por el funcionario público o por las partes y las materias a las que ellas se ref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l funcionario públ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acerca de hechos pro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referente a hechos que percibe por sus propios sen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del funcionario público, que corresponden a hechos que no son suyos ni los ha percibido él mismo, pero los ha comprobado por los medios que la ley le sumini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 las part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inst. se distingu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Disposi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o que las partes han tenido en mira y lo que ha constituido el objeto del a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simplemente enunciativ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que, haciendo referencia a hechos anteriores, constituyen elementos accidentales del hecho jurídico que el instrumento tiene por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bdistingu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amente relacionadas con l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unciaciones que no guardan dicha vin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 las partes de la veracidad o sinceridad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Dis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Enunciativas relacionadas con lo dispos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SUNCION DE AUTENTICIDAD DEL INST. PU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leva envuelta una verdader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sitos para que el instrumento publico sea auten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otorgado realmente el instrumento por las personas que allí aparec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sido autorizado por el funcionario que se señala en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as declaraciones que hubieren prestado las partes a su otorgamiento sean las que el instrumento consig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irtud de la presunción de autenticidad si se acompaña al juicio instrumento público, la contraparte para destruirlo debe tener un papel a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280" y="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GNACION DEL INSTRUMENTO PU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Nulidad d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infringir el 1699 CC,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ciencias en cuanto a la intervención del funcion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misión de alguna de las formalidades previstas por la ley en su otorg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sedad o Falta de Autentic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realmente otor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autorizado por el  funcionario u otorgado por las personas que en él se ex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declaraciones que consigna no corresponden a las efectuadas por las partes al otorgarse el instr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credita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11592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ta de veracidad de las declaraciones de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instrumento el válido y autentico, pero las decs. contenidas en el instrumento no corresponden a la voluntad real de los otorgantes sea por error, dolo o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prueba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es por 3°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 cualquier medio de prueba menos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s. de impugn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xiste 2 v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incip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 juicio completo: por nulidad o la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Inciden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i lo impugna la contraparte se promueve un incidente: solo por impugnación por fals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260280"/>
            <a:ext cx="8209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onstit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e generalmente plena prueba si se reúnen los requi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77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tivos otorga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ueba (ad‑probationem)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a cuenta de la existencia de un acto. Si falta, el acto no es nulo, se probará  por otro medi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solemnidad (ad‑solemnitatem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torgado por las partes para generar un acto o contrato valido. Si falta el acto es n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su relación con el acto o contra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dante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os cuales emana la pretensión, dejan constancia de los motivos jurídicos que son el fundamento inmediato a las accs. y excs. ejerci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batorios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creditan los motivos de la pretensión o excepción hecha valer, solo justifican su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2920" y="16992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uanto a su naturaleza juríd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úblicos o auténtic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utorizados con las solemnidades legales por el competente funcionario. (art.1699 Cód. Civ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ivado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 los demás documentos escritos, en los cuales no concurre solemnidad al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 cuanto a su valor prob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úblico conlleva en si un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vados no conllevan en si una presunción de autenticidad, requieren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0920" y="1916280"/>
            <a:ext cx="48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INSTRUMENTOS PU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65240"/>
            <a:ext cx="86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rumento público es el autorizado con las solemnidades legales por el competente funcionario. (1699 inc.1ºC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  autorizado por funcionar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público que lo otorga debe ser competente, es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quel determinado por la ley para autorizar o dar fe de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debe actuar dentro del territorio que la ley le hubiere fijado para desempeñ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1592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SOS DE INSTRUMENTOS PUBLIC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gún la jurispru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pias autorizadas por el Secretario Municipal de documentos del archivo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ertificados de dominio vigente, de hipoteca y gravámenes y de prohibiciones e interdicciones que otorga el Conservador de Bienes Raí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pia de la demanda que el Receptor entrega al notific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critura pública otorgada por Notario u Oficial de Registro Civil competente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idas o certificados de nacimiento, matrimonio y defunción que otorga el Oficial de Registro Civ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8432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ESCRITURA PUBL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úblico otorgado con las solemnidades que fija la ley, por el competente Notario, e incorporado a su protocolo o registro público. (403 COT, 1699 inc.2º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por Not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incorporada al protocolo o registro público del Notario que la extie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9:00Z</dcterms:modified>
  <cp:revision>37</cp:revision>
  <dc:subject/>
  <dc:title>Diapositiva 1</dc:title>
</cp:coreProperties>
</file>