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CEB-C391-4DC0-B9A4-C446D980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126-0FD2-4143-92F7-2150CB42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CDE-319D-4E67-BCAC-E112E3CE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F84-8F9E-41AB-9F53-F2EBA74E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E33-D4E8-4CB6-8B79-15563369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AB9-8DCF-43A3-B0C3-77F64C6E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BEE-A263-46A7-8AEF-B2AA4069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A59-445D-499B-ADE9-EC4AD85D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EF8-0FBA-4423-A7E2-3B784189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120-0E33-484D-866F-8993CFFB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87E-388C-4A68-BBAC-883A6DD5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D01-36D7-46EC-B4A8-D60542C2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6137-E169-4034-B22B-CFBB91F35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844640"/>
            <a:ext cx="77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LA INSPECC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PERSONAL DEL TRIBU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256536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LAS PRESUN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ste en el empleo por la ley o el tribunal de hechos o antecedentes conocidos para deducir o inferir de ellos hechos desconocidos sustanciales, pertinentes y contradictorios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EMENT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H° o circunstancia conocida: la base o premisa de 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El elemento lógico o actividad racional: se realiza 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r del H° conocido para unirlo con el H° descono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H° presumido: que era desconocido y pasa a se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280" y="-27000"/>
            <a:ext cx="896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eg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legislador det. el H° presumido partiendo del H°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derech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tablecida en la ley y acreditado el H° bas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posible rendir prueba en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a ley establece el H° presumido a parti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 H°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Es necesario probar el hecho cono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Acreditado el H° base se tiene por acreditado el hech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 Acreditado el H° base se excluye prueba respecto d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 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280" y="11736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mplemente lega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tablecidas por la ley  y constituy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sí misma una prueba completa respecto del he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mido, pero se admite la rendición de prueb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necesario probar el hecho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posible rendir prueba con el fin de destruir el hecho presumido como sobre el hecho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ltera la carga de la prueba, la parte que desee valerse el hecho presumido no deberá rendir prueba para acreditar su existencia, sino que deberá ser la parte qu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e destruir su exist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6524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juez quien establece el hecho presumido partiendo del hecho base o prem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n distinto tratamiento: en el CC y CP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1712 inc.f. C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ara constituir plena prueba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nciones  judiciales deben ser graves, precisas 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ordantes, es decir, deben ser  dos o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26 inc.2 CP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ermite que una sola presunción judici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a constituir plena prueba, cuando a juicio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bunal tenga caracteres de gravedad y  precisión  pa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r su con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2920" y="252360"/>
            <a:ext cx="889308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bases de las pres.j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creadas por el propio juez, y hay  casos en que la propia ley es la que establece la base sobre la cual se ha de constituir la presunción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Ámbito de aplicación pres.ju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amplio, la mayoria de los hechos se pueden probar por pres.j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: no podrá probarse  por medio de pres.jud. los actos o contratos que NO puedan acreditarse por los hechos o  circunstancias que sirven de base a la presun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actos o ctos. solemnes se prueban por la solem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1159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 de las pres.jud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CC exige que s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Grav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que la presunción sea ostensible; debe aparecer plenamente configurada de los H° base, que a partir de ellos exista un nexo causal que lleve como consecuencia lógica a la determinación del H° 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ecis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no debe ser vaga, difusa y susceptible de conducir a conclusiones  diver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ord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r armónicas, no contradictorias entre 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PC modifica el CC: una sola presunción puede constituir plena prueba, si para el tribunal, es grave y precisa para formar su con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igue la idea de l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4360" y="260280"/>
            <a:ext cx="882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427 CPC se encuentra 2 presunciones simplemente legales que constituyen medios específicos de prueba que señala el legisl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putan verdaderos, salvo prueba en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hechos certificados en el proceso por un Ministro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hechos declarados por la parte en otro juicio entre las mism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25092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en que el tribunal realiza por sí mismo de hechos o circunstancias materiales controvertidas en el pleito para adquirir la convicción acerca de su verdad o exactit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mentos configur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se acreditan hechos apreciados directamente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se utiliza para apreciar circunstancias o hech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69228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ACTERI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o de prueba directo, los hechos son apreciados directamente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o de prueba circunstancial, se genera dentro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Plena Prueba, reuniéndose los requisitos que la ley establ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común a todos los procedimientos, se constituye en ciertos casos en una diligencia oblig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200" y="87480"/>
            <a:ext cx="903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acuerdo a la manera como se practic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tra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realiza fuera del proceso sin que exist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olución judicial alguna que la ordene. Ccarece de tod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lor prob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realiza por el tribunal previa resolución judicial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ificada a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acuerdo al sujeto que la origin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Iniciativa en la pa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De oficio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) Por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44280"/>
            <a:ext cx="8928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ICIATIV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iciativa Leg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caso de los asuntos que se tramitan íntegramente a través de la inspección del Tribu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Iniciativa de parte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dos oportun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mo Med.Prej. Probato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Las causales específ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Peligro inminente de un daño o perju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Hechos que puedan fácilmente desapa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 1° insta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2° instancia, no es procede, salvo excep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) Iniciativa del tribun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dos casos genér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uando sea neces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edida para mejor resolv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476280"/>
            <a:ext cx="8642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ED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Casos en que la ley lo establece expres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Casos en que sea necesario acreditar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nstancias materiales mediante su examen directo por el tribunal: según la apreciación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-2700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EDIMIEN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s por iniciativa de partes, la solicitud debe seña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os H° materiales que pretenden que sean consta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La razón por la cual es necesaria su re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decretar que se lleve a cabo conjuntamente con oír informe de peritos en el re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ibunal dicta resolución fijando día y hora para su pra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: por el solicitante solicitante, si se decreta de oficio o ella es ordenada por la ley, los gastos se depositan por mit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xcp. a la base orgánica de la territorialidad:  puede verificarse fuera del territorio jurisdiccional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solo una facultad, si no es por exho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1280" y="10332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ía y hora fijado el tribunal se constituye en el lugar de los hechos conjuntamente con  el secretario del tribunal. Si el tribunal es colegiado, podrá comisionar uno o más de sus miem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concurrir las partes, los abogados y los per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 diligencia se levanta Acta dejando constancia de todas las circunstancias o hechos materiales que el Tribunal obser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partes pueden pedir que se consignen en el acta las circunstancias que estimen pertin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ta que se levante debe ser suscrita por el juez, las personas que asistieron, y autorizada por el Secretario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2920" y="17928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408 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ser plena prueba, 3 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Que la inspección recaiga sobre hechos o circunstanci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Que esos hechos o circunstancias materiales sea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entados de acuerdo a las observaciones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Que se haya dejado constancia en el acta de dich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s o circunstancias 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3:55:56Z</dcterms:created>
  <dc:creator>Juan Esteban Pérez D.</dc:creator>
  <dc:description/>
  <dc:language>en-US</dc:language>
  <cp:lastModifiedBy>Juan Esteban Pérez Díaz</cp:lastModifiedBy>
  <dcterms:modified xsi:type="dcterms:W3CDTF">2005-06-11T22:48:45Z</dcterms:modified>
  <cp:revision>34</cp:revision>
  <dc:subject/>
  <dc:title>Diapositiva 1</dc:title>
</cp:coreProperties>
</file>