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31E-D3A7-428F-AD95-49BAAA6D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219-692B-439E-84C2-53C025BD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947-46E9-47D7-8A74-4067F423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A6E-296E-4E62-9DAC-33BF6C87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1BF-D5C1-4F70-9919-03C44FE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190-D6BB-42DD-92DB-5A7EDA4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FAF-AF04-4687-837F-5C8C175F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8CD-4BDA-4A7C-9B33-4C618DF4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A36-8FF2-4193-9E07-981229B1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23E-8CEA-42CF-B537-B786BAD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91B-C7FB-44AA-B434-4CFBCC9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F5D-C083-4855-9BFC-B559CD5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2F96-AD98-4810-802A-79C2AEED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84464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INSPECC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ERSONAL DEL TRIBU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256536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LAS PRESUN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en el empleo por la ley o el tribunal de hechos o antecedentes conocidos para deducir o inferir de ellos hechos desconocidos sustanciales, pertinentes y contradictorios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EMENT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H° o circunstancia conocida: la base o premisa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l elemento lógico o actividad racional: se realiza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r del H° conocido para unirlo con el H° des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H° presumido: que era desconocido y pasa a se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-27000"/>
            <a:ext cx="89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legislador det. el H° presumido partiendo 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derech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ablecida en la ley y acreditado el H° ba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osible rendir prueba en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ley establece el H° presumido a parti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s necesario probar el hecho 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Acreditado el H° base se tiene por acreditado el hech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 Acreditado el H° base se excluye prueba respecto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280" y="117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mplemente leg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tablecidas por la ley  y constitu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sí misma una prueba completa respecto del h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, pero se admite la rendición de prueb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probar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rendir prueba con el fin de destruir el hecho presumido como sobre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ltera la carga de la prueba, la parte que desee valerse el hecho presumido no deberá rendir prueba para acreditar su existencia, sino que deberá ser la parte qu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e destruir su exist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6524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juez quien establece el hecho presumido partiendo del hecho base o pre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n distinto tratamiento: en el CC y CP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1712 inc.f. C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constituir plena prueba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ones  judiciales deben ser graves, precisas 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ordantes, es decir, deben ser  dos 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26 inc.2 CP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ermite que una sola presunción judici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a constituir plena prueba, cuando a juicio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bunal tenga caracteres de gravedad y  precisión 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252360"/>
            <a:ext cx="889308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bases de las pres.j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creadas por el propio juez, y hay  casos en que la propia ley es la que establece la base sobre la cual se ha de constituir la presunc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Ámbito de aplicación pres.ju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amplio, la mayoria de los hechos se pueden probar por pres.j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: no podrá probarse  por medio de pres.jud. los actos o contratos que NO puedan acreditarse por los hechos o  circunstancias que sirven de base a la presun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actos o ctos. solemnes se prueban por la solem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159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as pres.jud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CC exige que s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Grav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que la presunción sea ostensible; debe aparecer plenamente configurada de los H° base, que a partir de ellos exista un nexo causal que lleve como consecuencia lógica a la determinación del H°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ci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no debe ser vaga, difusa y susceptible de conducir a conclusiones  diver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ord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r armónicas, no contradictorias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PC modifica el CC: una sola presunción puede constituir plena prueba, si para el tribunal, es grave y precisa para 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igue la idea de l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360" y="260280"/>
            <a:ext cx="882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427 CPC se encuentra 2 presunciones simplemente legales que constituyen medios específicos de prueba que señala el legisl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putan verdaderos, salvo prueba en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certificados en el proceso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declarados por la parte en otro juicio entre las mism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5092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en que el tribunal realiza por sí mismo de hechos o circunstancias materiales controvertidas en el pleito para adquirir la convicción acerca de su verdad o exactit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 configur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acreditan hechos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utiliza para apreciar circunstancias o he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922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I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directo, los hechos son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circunstancial, se genera dentro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Plena Prueba, reuniéndose los requisitos que la ley establ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común a todos los procedimientos, se constituye en ciertos casos en una diligencia oblig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87480"/>
            <a:ext cx="903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 la manera como se pract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tra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fuera del proceso sin que exist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olución judicial alguna que la ordene. Ccarece de tod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por el tribunal previa resolución judicial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ificada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l sujeto que la orig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Iniciativa en la p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De oficio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) Por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44280"/>
            <a:ext cx="8928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iciativa Leg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aso de los asuntos que se tramitan íntegramente a través de la inspección del Tribu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Iniciativa de parte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oportun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.Prej. Probato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as causale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Peligro inminente de un daño o per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Hechos que puedan fácilmente desapa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1° ins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2° instancia, no es procede, salvo exce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Iniciativa del tribun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casos gené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uando sea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8642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Casos en que la ley lo establece expres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Casos en que sea necesario acreditar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nstancias materiales mediante su examen directo por el tribunal: según la apreciación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-2700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s por iniciativa de partes, la solicitud debe seña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os H° materiales que pretenden que sean consta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La razón por la cual es necesaria su re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decretar que se lleve a cabo conjuntamente con oír informe de peritos en el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icta resolución fijando día y hora para su pra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: por el solicitante solicitante, si se decreta de oficio o ella es ordenada por la ley, los gastos se depositan por mit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xcp. a la base orgánica de la territorialidad:  puede verificarse fuera del territorio jurisdiccional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solo una facultad, si no es por exho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1280" y="1033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ía y hora fijado el tribunal se constituye en el lugar de los hechos conjuntamente con  el secretario del tribunal. Si el tribunal es colegiado, podrá comisionar uno o más de sus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concurrir las partes, los abogados y los per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diligencia se levanta Acta dejando constancia de todas las circunstancias o hechos materiales que el Tribunal obs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es pueden pedir que se consignen en el acta las circunstancias que estimen pertin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ta que se levante debe ser suscrita por el juez, las personas que asistieron, y autorizada por el Secretario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920" y="179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408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ser plena prueba, 3 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Que la inspección recaiga sobre hechos o circunstanc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Que esos hechos o circunstancias materiales se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ntados de acuerdo a las observaciones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Que se haya dejado constancia en el acta de di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o circunstancias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8:45Z</dcterms:modified>
  <cp:revision>34</cp:revision>
  <dc:subject/>
  <dc:title>Diapositiva 1</dc:title>
</cp:coreProperties>
</file>