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ACF37-28A1-47D1-B524-2C7BC80AD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90C56-621B-4618-86CE-7CA4AE92D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79572-0630-4F3A-9A7F-7CB20A526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832E3-7589-4051-ACA0-E0B9DB3BB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FFCA7-AF0C-437C-A490-EB23D55B6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E9DA7-10FB-46D5-9371-FB464DA85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887BA-AE9B-49DD-853E-043B1B1F7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6D89D-0BEF-422B-9845-931FCE420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64B59-42B8-4279-BB7F-E3E426D4D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AA0C5-F531-4F6D-894C-3CF60EFE4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6D50-C44D-4C38-8C11-583DB1D3E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741D4-1DAD-4EB2-A941-FDB8A256F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F279-F43C-4376-BDBF-83F442F146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1" name=""/>
          <p:cNvSpPr/>
          <p:nvPr/>
        </p:nvSpPr>
        <p:spPr>
          <a:xfrm>
            <a:off x="1476360" y="1989000"/>
            <a:ext cx="6120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ULO XIV</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LOS PLAZ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0" name=""/>
          <p:cNvSpPr/>
          <p:nvPr/>
        </p:nvSpPr>
        <p:spPr>
          <a:xfrm>
            <a:off x="108000" y="189000"/>
            <a:ext cx="896472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 </a:t>
            </a:r>
            <a:r>
              <a:rPr b="1" lang="es-ES" sz="2400" spc="-1" strike="noStrike" u="sng">
                <a:solidFill>
                  <a:srgbClr val="000000"/>
                </a:solidFill>
                <a:uFillTx/>
                <a:latin typeface="Arial"/>
              </a:rPr>
              <a:t>Plazos no fatales</a:t>
            </a:r>
            <a:r>
              <a:rPr b="1" lang="es-ES" sz="2400" spc="-1" strike="noStrike">
                <a:solidFill>
                  <a:srgbClr val="000000"/>
                </a:solidFill>
                <a:latin typeface="Arial"/>
              </a:rPr>
              <a:t>:</a:t>
            </a:r>
            <a:r>
              <a:rPr b="0" lang="es-ES" sz="2400" spc="-1" strike="noStrike">
                <a:solidFill>
                  <a:srgbClr val="000000"/>
                </a:solidFill>
                <a:latin typeface="Arial"/>
              </a:rPr>
              <a:t> el derecho o la posibilidad de ejecutar un acto no se extingue al vencimiento del plazo por el sólo ministerio de la ley, requiere que se dicte una resolución que tenga por evacuado el trámite en rebeldí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ólo son  no fatales los plazos judici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 para que una facultad proc. se extinga por rebeldía de la contra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establezca un plazo judicial para ejercer la facultad.</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ejerza la facultad dentro del plaz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ibunal, de oficio o a petición de parte, acuse la rebeldí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notifique la resolución que da por evacuado el trámite en rebeld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p:nvPr/>
        </p:nvSpPr>
        <p:spPr>
          <a:xfrm>
            <a:off x="250920" y="404640"/>
            <a:ext cx="8642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uevo sistema procesal pe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lazos establecidos en este CPP son fatales, a menos que se indicare expresamente lo contrario.(16 CP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Importancia</a:t>
            </a:r>
            <a:r>
              <a:rPr b="0" lang="es-E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eterminar el instante en que se extingue la facultad para realizar una actuación dentro del proced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p:nvPr/>
        </p:nvSpPr>
        <p:spPr>
          <a:xfrm>
            <a:off x="144360" y="225360"/>
            <a:ext cx="8820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a:t>
            </a:r>
            <a:r>
              <a:rPr b="1" lang="es-ES" sz="2400" spc="-1" strike="noStrike" u="sng">
                <a:solidFill>
                  <a:srgbClr val="000000"/>
                </a:solidFill>
                <a:uFillTx/>
                <a:latin typeface="Arial"/>
              </a:rPr>
              <a:t>Posibilidad de extenderlo más allá del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a:t>
            </a:r>
            <a:r>
              <a:rPr b="0" lang="es-ES" sz="2400" spc="-1" strike="noStrike" u="sng">
                <a:solidFill>
                  <a:srgbClr val="000000"/>
                </a:solidFill>
                <a:uFillTx/>
                <a:latin typeface="Arial"/>
              </a:rPr>
              <a:t>Improrrogables</a:t>
            </a:r>
            <a:r>
              <a:rPr b="0" lang="es-ES" sz="2400" spc="-1" strike="noStrike">
                <a:solidFill>
                  <a:srgbClr val="000000"/>
                </a:solidFill>
                <a:latin typeface="Arial"/>
              </a:rPr>
              <a:t>: NO pueden extenderse más allá de su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t. civil, son improrrogables los plazos leg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Prorrogables</a:t>
            </a:r>
            <a:r>
              <a:rPr b="1" lang="es-ES" sz="2400" spc="-1" strike="noStrike">
                <a:solidFill>
                  <a:srgbClr val="000000"/>
                </a:solidFill>
                <a:latin typeface="Arial"/>
              </a:rPr>
              <a:t>:</a:t>
            </a:r>
            <a:r>
              <a:rPr b="0" lang="es-ES" sz="2400" spc="-1" strike="noStrike">
                <a:solidFill>
                  <a:srgbClr val="000000"/>
                </a:solidFill>
                <a:latin typeface="Arial"/>
              </a:rPr>
              <a:t> pueden extenderse más allá de su vencimiento natural o primitiv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t. civil, son prorrogables los judiciales. Requisit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a un plazo judicial.</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pida la prórroga antes del vencimiento.</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alegue justa caus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vencionales se prorrogan de mutuo acuerd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Sist. proc. penal</a:t>
            </a:r>
            <a:r>
              <a:rPr b="0" lang="es-ES" sz="2400" spc="-1" strike="noStrike">
                <a:solidFill>
                  <a:srgbClr val="000000"/>
                </a:solidFill>
                <a:latin typeface="Arial"/>
              </a:rPr>
              <a:t>, improrrogables, salvo norma en contr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3" name=""/>
          <p:cNvSpPr/>
          <p:nvPr/>
        </p:nvSpPr>
        <p:spPr>
          <a:xfrm>
            <a:off x="179280" y="115920"/>
            <a:ext cx="878544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u="sng">
                <a:solidFill>
                  <a:srgbClr val="000000"/>
                </a:solidFill>
                <a:uFillTx/>
                <a:latin typeface="Arial"/>
              </a:rPr>
              <a:t>Según instante a partir del cual comienza el compu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Individuales</a:t>
            </a:r>
            <a:r>
              <a:rPr b="1" lang="en-US" sz="2400" spc="-1" strike="noStrike">
                <a:solidFill>
                  <a:srgbClr val="000000"/>
                </a:solidFill>
                <a:latin typeface="Arial"/>
              </a:rPr>
              <a:t>: </a:t>
            </a:r>
            <a:r>
              <a:rPr b="0" lang="en-US" sz="2400" spc="-1" strike="noStrike">
                <a:solidFill>
                  <a:srgbClr val="000000"/>
                </a:solidFill>
                <a:latin typeface="Arial"/>
              </a:rPr>
              <a:t>empiezan a correr separadamente respecto de cada parte desde la notificación efectuada a cada un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u="sng">
                <a:solidFill>
                  <a:srgbClr val="000000"/>
                </a:solidFill>
                <a:uFillTx/>
                <a:latin typeface="Arial"/>
              </a:rPr>
              <a:t>Plazos Comunes</a:t>
            </a:r>
            <a:r>
              <a:rPr b="1" lang="en-US" sz="2400" spc="-1" strike="noStrike">
                <a:solidFill>
                  <a:srgbClr val="000000"/>
                </a:solidFill>
                <a:latin typeface="Arial"/>
              </a:rPr>
              <a:t>:</a:t>
            </a:r>
            <a:r>
              <a:rPr b="0" lang="en-US" sz="2400" spc="-1" strike="noStrike">
                <a:solidFill>
                  <a:srgbClr val="000000"/>
                </a:solidFill>
                <a:latin typeface="Arial"/>
              </a:rPr>
              <a:t> corren conjuntamente para todas las partes a contar de la última notifica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excepción, requiere de texto expreso de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r el instante en el cual comienza a correr el plazo para la realización de una actuació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uncia del plaz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ividual: se renuncia unilateralmen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ún: acuerdo de aquellos en cuyo beneficio se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4" name=""/>
          <p:cNvSpPr/>
          <p:nvPr/>
        </p:nvSpPr>
        <p:spPr>
          <a:xfrm>
            <a:off x="108000" y="44280"/>
            <a:ext cx="889308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 </a:t>
            </a:r>
            <a:r>
              <a:rPr b="1" lang="es-ES" sz="2400" spc="-1" strike="noStrike" u="sng">
                <a:solidFill>
                  <a:srgbClr val="000000"/>
                </a:solidFill>
                <a:uFillTx/>
                <a:latin typeface="Arial"/>
              </a:rPr>
              <a:t>Según si se suspend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inuos</a:t>
            </a:r>
            <a:r>
              <a:rPr b="1" lang="es-ES" sz="2400" spc="-1" strike="noStrike">
                <a:solidFill>
                  <a:srgbClr val="000000"/>
                </a:solidFill>
                <a:latin typeface="Arial"/>
              </a:rPr>
              <a:t>: </a:t>
            </a:r>
            <a:r>
              <a:rPr b="0" lang="es-ES" sz="2400" spc="-1" strike="noStrike">
                <a:solidFill>
                  <a:srgbClr val="000000"/>
                </a:solidFill>
                <a:latin typeface="Arial"/>
              </a:rPr>
              <a:t>no se interrump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C: son la regla general.</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PP: todos los días y horas son hábi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Discontinuos</a:t>
            </a:r>
            <a:r>
              <a:rPr b="0" lang="es-ES" sz="2400" spc="-1" strike="noStrike">
                <a:solidFill>
                  <a:srgbClr val="000000"/>
                </a:solidFill>
                <a:latin typeface="Arial"/>
              </a:rPr>
              <a:t>: se suspenden su computo durante los días feriados. (domingos, festivos y feriado judic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on la excepción, </a:t>
            </a:r>
            <a:r>
              <a:rPr b="0" lang="es-ES" sz="2400" spc="-1" strike="noStrike">
                <a:solidFill>
                  <a:srgbClr val="000000"/>
                </a:solidFill>
                <a:latin typeface="Arial"/>
              </a:rPr>
              <a:t>son discontinuos los que cumplen c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 plazo de días (no de meses o años), y </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r establecido en el CPC. (no en otro cuerpo legal, salvo norma expresa)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66 CPC: "</a:t>
            </a:r>
            <a:r>
              <a:rPr b="0" i="1" lang="es-ES" sz="2400" spc="-1" strike="noStrike">
                <a:solidFill>
                  <a:srgbClr val="000000"/>
                </a:solidFill>
                <a:latin typeface="Arial"/>
              </a:rPr>
              <a:t>los términos de días que establece el presente código, se entenderán suspendidos durante los fer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2" name=""/>
          <p:cNvSpPr/>
          <p:nvPr/>
        </p:nvSpPr>
        <p:spPr>
          <a:xfrm>
            <a:off x="1763640" y="1413000"/>
            <a:ext cx="5688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LAMENTAC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48 a 50 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64 a 68 CP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14 a 18 C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3" name=""/>
          <p:cNvSpPr/>
          <p:nvPr/>
        </p:nvSpPr>
        <p:spPr>
          <a:xfrm>
            <a:off x="755640" y="404640"/>
            <a:ext cx="777708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CEPTO</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zo o término proces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acio de tiempo fijado por la ley, el juez o las partes para el ejercicio de una facultad o la realización de un acto jurídico procesal dentro del proces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trin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lazo</a:t>
            </a:r>
            <a:r>
              <a:rPr b="0" lang="en-US" sz="2400" spc="-1" strike="noStrike">
                <a:solidFill>
                  <a:srgbClr val="000000"/>
                </a:solidFill>
                <a:latin typeface="Arial"/>
              </a:rPr>
              <a:t>, período establecido para cuestiones derivadas del cumplimiento de obligaciones civil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érmino</a:t>
            </a:r>
            <a:r>
              <a:rPr b="0" lang="en-US" sz="2400" spc="-1" strike="noStrike">
                <a:solidFill>
                  <a:srgbClr val="000000"/>
                </a:solidFill>
                <a:latin typeface="Arial"/>
              </a:rPr>
              <a:t>, período establecido para cuestiones proces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4" name=""/>
          <p:cNvSpPr/>
          <p:nvPr/>
        </p:nvSpPr>
        <p:spPr>
          <a:xfrm>
            <a:off x="322200" y="452520"/>
            <a:ext cx="849780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PUTO DE LOS PLAZ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8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de días, meses o años, son completos y correrán  hasta la medianoche d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1° y el último día de un plazo de meses o años deberán tener un mismo número en los respectivos mes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l mes en que principia el plazo de meses o años consta de mas días que el mes en que termina el plazo, y si el plazo corriere desde alguno de los días en que el 1° de dicho meses excede al segundo, el último día del plazo será el último día de este segundo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5" name=""/>
          <p:cNvSpPr/>
          <p:nvPr/>
        </p:nvSpPr>
        <p:spPr>
          <a:xfrm>
            <a:off x="684360" y="692280"/>
            <a:ext cx="799308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9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se dice que un acto debe ejecutarse </a:t>
            </a:r>
            <a:r>
              <a:rPr b="1" lang="en-US" sz="2400" spc="-1" strike="noStrike">
                <a:solidFill>
                  <a:srgbClr val="000000"/>
                </a:solidFill>
                <a:latin typeface="Arial"/>
              </a:rPr>
              <a:t>en o dentro de </a:t>
            </a:r>
            <a:r>
              <a:rPr b="0" lang="en-US" sz="2400" spc="-1" strike="noStrike">
                <a:solidFill>
                  <a:srgbClr val="000000"/>
                </a:solidFill>
                <a:latin typeface="Arial"/>
              </a:rPr>
              <a:t>cierto plazo, vale si se ejecuta antes de la medianoche en que se termina 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exige que haya transcurrido un espacio de tiempo para que nazcan o expiren derechos, no nacen o expiran sino después de la medianoche en que termine el último dí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6" name=""/>
          <p:cNvSpPr/>
          <p:nvPr/>
        </p:nvSpPr>
        <p:spPr>
          <a:xfrm>
            <a:off x="826920" y="549360"/>
            <a:ext cx="763272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CLASIFICACIONES DE LOS PLAZOS PROCES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 </a:t>
            </a:r>
            <a:r>
              <a:rPr b="1" lang="es-CL" sz="2400" spc="-1" strike="noStrike" u="sng">
                <a:solidFill>
                  <a:srgbClr val="000000"/>
                </a:solidFill>
                <a:uFillTx/>
                <a:latin typeface="Arial"/>
              </a:rPr>
              <a:t>En atención al sujeto que los establece</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Legales</a:t>
            </a:r>
            <a:r>
              <a:rPr b="1" lang="es-ES" sz="2400" spc="-1" strike="noStrike">
                <a:solidFill>
                  <a:srgbClr val="000000"/>
                </a:solidFill>
                <a:latin typeface="Arial"/>
              </a:rPr>
              <a:t>:</a:t>
            </a:r>
            <a:r>
              <a:rPr b="0" lang="es-ES" sz="2400" spc="-1" strike="noStrike">
                <a:solidFill>
                  <a:srgbClr val="000000"/>
                </a:solidFill>
                <a:latin typeface="Arial"/>
              </a:rPr>
              <a:t> establecidos por la ley.</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Judiciales</a:t>
            </a:r>
            <a:r>
              <a:rPr b="1" lang="es-ES" sz="2400" spc="-1" strike="noStrike">
                <a:solidFill>
                  <a:srgbClr val="000000"/>
                </a:solidFill>
                <a:latin typeface="Arial"/>
              </a:rPr>
              <a:t>:</a:t>
            </a:r>
            <a:r>
              <a:rPr b="0" lang="es-ES" sz="2400" spc="-1" strike="noStrike">
                <a:solidFill>
                  <a:srgbClr val="000000"/>
                </a:solidFill>
                <a:latin typeface="Arial"/>
              </a:rPr>
              <a:t> fijados por el juez cuando la ley lo autoriza expresamente para ello.</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vencional</a:t>
            </a:r>
            <a:r>
              <a:rPr b="1" lang="es-ES" sz="2400" spc="-1" strike="noStrike">
                <a:solidFill>
                  <a:srgbClr val="000000"/>
                </a:solidFill>
                <a:latin typeface="Arial"/>
              </a:rPr>
              <a:t>:</a:t>
            </a:r>
            <a:r>
              <a:rPr b="0" lang="es-ES" sz="2400" spc="-1" strike="noStrike">
                <a:solidFill>
                  <a:srgbClr val="000000"/>
                </a:solidFill>
                <a:latin typeface="Arial"/>
              </a:rPr>
              <a:t> fijado de común acuerdo por las partes o por aquel que debe concurrir a realizar un acto jurídico unilat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7" name=""/>
          <p:cNvSpPr/>
          <p:nvPr/>
        </p:nvSpPr>
        <p:spPr>
          <a:xfrm>
            <a:off x="611280" y="549360"/>
            <a:ext cx="763272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el carácter de fatal o de no fatal del plazo: los del CPC son fatales (64 CPC), judiciales son no fatales (Art.78 CP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la posibilidad de prórrog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legales: no son prorrogables. </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judiciales: son prorrogables cumpliendo los requisitos legales.</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convencionales: son prorrogables de común acuerdo por las partes.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8" name=""/>
          <p:cNvSpPr/>
          <p:nvPr/>
        </p:nvSpPr>
        <p:spPr>
          <a:xfrm>
            <a:off x="396720" y="225360"/>
            <a:ext cx="8496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u="sng">
                <a:solidFill>
                  <a:srgbClr val="000000"/>
                </a:solidFill>
                <a:uFillTx/>
                <a:latin typeface="Arial"/>
              </a:rPr>
              <a:t>Según su extens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hora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días</a:t>
            </a:r>
            <a:r>
              <a:rPr b="0" lang="en-US" sz="2400" spc="-1" strike="noStrike">
                <a:solidFill>
                  <a:srgbClr val="000000"/>
                </a:solidFill>
                <a:latin typeface="Arial"/>
              </a:rPr>
              <a:t>: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mese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año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ienden hasta la medianoche del día en que éste vence, sólo se aplica  a los plazos de días, meses y años, no a los de ho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o los de días son discontinu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9" name=""/>
          <p:cNvSpPr/>
          <p:nvPr/>
        </p:nvSpPr>
        <p:spPr>
          <a:xfrm>
            <a:off x="108000" y="154080"/>
            <a:ext cx="903600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II.- </a:t>
            </a:r>
            <a:r>
              <a:rPr b="1" lang="es-ES" sz="2400" spc="-1" strike="noStrike" u="sng">
                <a:solidFill>
                  <a:srgbClr val="000000"/>
                </a:solidFill>
                <a:uFillTx/>
                <a:latin typeface="Arial"/>
              </a:rPr>
              <a:t>Según la extinción de la fac. por su no ejercic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Fatales</a:t>
            </a:r>
            <a:r>
              <a:rPr b="1" lang="es-ES" sz="2400" spc="-1" strike="noStrike">
                <a:solidFill>
                  <a:srgbClr val="000000"/>
                </a:solidFill>
                <a:latin typeface="Arial"/>
              </a:rPr>
              <a:t>,</a:t>
            </a:r>
            <a:r>
              <a:rPr b="0" lang="es-ES" sz="2400" spc="-1" strike="noStrike">
                <a:solidFill>
                  <a:srgbClr val="000000"/>
                </a:solidFill>
                <a:latin typeface="Arial"/>
              </a:rPr>
              <a:t> el derecho o la oportunidad para ejecutar un acto se extingue al vencimiento del plazo por el sólo min. de la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18.882: todos los plazos del CPC son fatales, sin importar la expresión que se utilic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Exc.:</a:t>
            </a:r>
            <a:r>
              <a:rPr b="0" lang="es-ES" sz="2400" spc="-1" strike="noStrike">
                <a:solidFill>
                  <a:srgbClr val="000000"/>
                </a:solidFill>
                <a:latin typeface="Arial"/>
              </a:rPr>
              <a:t> no son fatales los plazos del CPC establecidos para la realización de actuaciones propias del tribunal.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raexc</a:t>
            </a:r>
            <a:r>
              <a:rPr b="0" lang="es-ES" sz="2400" spc="-1" strike="noStrike">
                <a:solidFill>
                  <a:srgbClr val="000000"/>
                </a:solidFill>
                <a:latin typeface="Arial"/>
              </a:rPr>
              <a:t>.: el transcurso del termino impide que produzca efectos la resolución que dicte transcurrido ese plaz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currido el plazo el tribunal, de oficio o a petición de parte, dicta una resolución para dar curso al procedimiento, sin necesidad de certificado de haber transcurrido el plazo y no haberse ejercido la facult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00:06:26Z</dcterms:created>
  <dc:creator>Juan Esteban Pérez D.</dc:creator>
  <dc:description/>
  <dc:language>en-US</dc:language>
  <cp:lastModifiedBy>Juan Esteban Pérez D.</cp:lastModifiedBy>
  <dcterms:modified xsi:type="dcterms:W3CDTF">2005-05-25T16:50:57Z</dcterms:modified>
  <cp:revision>17</cp:revision>
  <dc:subject/>
  <dc:title>Diapositiva 1</dc:title>
</cp:coreProperties>
</file>