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FE64-EF96-4CC1-9D65-DA54B161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C5E0-CD23-4FD8-BBD1-F01CBC8D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FA61-5ACD-486D-ABD2-696B1B41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7355-65BC-4A3C-8A43-955B2496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899E-CD1F-41A1-A8B1-46B29DB6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E37B-6675-4A54-B6C3-54E3EAC7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8C7-CAEE-454D-8BAC-2EB93C0C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7BEB-F599-4E7B-8EEF-4CCA3388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C692-1703-4F13-A23D-09F0880B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15A3-4690-4ED3-9F60-86ECD379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5936-0A58-4A72-A016-3B9BF522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76F7-944A-4A35-A2F1-25095133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9C41-DEE0-4CC6-B201-ED9C9A9E3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76720" y="1125360"/>
            <a:ext cx="46800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800000"/>
                </a:solidFill>
                <a:latin typeface="Arial"/>
              </a:rPr>
              <a:t>Las</a:t>
            </a:r>
            <a:br>
              <a:rPr sz="4400"/>
            </a:br>
            <a:r>
              <a:rPr b="1" i="1" lang="es-MX" sz="4400" spc="-1" strike="noStrike">
                <a:solidFill>
                  <a:srgbClr val="800000"/>
                </a:solidFill>
                <a:latin typeface="Arial"/>
              </a:rPr>
              <a:t>Salidas altern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472428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292720" y="4724280"/>
            <a:ext cx="58428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27280" y="1125360"/>
            <a:ext cx="612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resencia del defensor del imputado en la audiencia es un requisito de valide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7 inc.3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querellante particular debe ser oí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7 inc. 4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195640" y="333360"/>
            <a:ext cx="680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Que el imputado no haya sido condenado  con anterioridad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dena anterior por crimen o simple del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 237 inc.2 letra b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3.-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Que el imputado no merezca pena aflictiv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evento de dictarse sentencia condenato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7 inc.2 letra a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 deben  considerar las circunstancias atenuantes y agravantes, y grado de participación del imputado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95640" y="146160"/>
            <a:ext cx="684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4.-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Que el imputado acepte someterse a una condición durante un plazo determina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art.238 inc.1 CPP, establece que condi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idir o no residir en un lugar determin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bstenerse de frecuentar determinados lugares o perso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meterse a un tratamiento médico, psicológico o de otra ti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ner o ejercer un trabajo, oficio, profesión o empleo, o asistir a algún programa educacional o de capaci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gar una determinada suma, a titulo de indemnización de perjuicios,   a favor  de  la  víctima o garantizar debidamente  su pago. Se  podrá  autorizar el pago en cuotas o dentro de un determinado plazo, el que en ningún caso podrá exceder el periodo de  la suspen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udir  periódicamente  ante  el  Ministerio  Público  y,  en  su  caso, acreditar el cumplimiento de las demás condiciones impues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ijar domicilio e informar al Ministerio Público de cualquier camb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82920" y="836640"/>
            <a:ext cx="633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Juez podrá modificar una o más de las condiciones impue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8 inc.2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lazo durante el cual se deba cumplir la condición o condiciones no puede ser inferior a 1 ni superior a 3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ñ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7 inc.4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484360" y="549360"/>
            <a:ext cx="626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5.-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Que la suspensión condicional sea decretada por el Juez de garantí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tribunal deberá cerciorarse en una audiencia que concurra cada uno de los supuestos leg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7 inc.1 CP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resolución Judicial será la que dispondrá con toda precisión, la condición y el plazo que deberá cumplir el impu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340000" y="131760"/>
            <a:ext cx="662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fectos de la suspensión condicional del procedimient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- Se suspende la persecución penal en contra del imputado por ese del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- Se suspende el plazo para declarar el cierre de la investig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7 inc.4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- Se extingue la acción pe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7 inc.4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4.- No se extinguen las acciones civiles de la víctima o de terc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40 inc.1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340000" y="404640"/>
            <a:ext cx="655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vocación de la suspensión condicional del procedimient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- Incumplimiento injustificado, grave o reiterado de las condiciones impue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- Nueva formalización de la investigación en contra del imputado por hechos distin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9 inc.1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484360" y="473040"/>
            <a:ext cx="633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cumplimiento injustificado, grave o reiterado de las condiciones impuesta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 tratarse de un incumplimiento gr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umplimiento reiterado en 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bate si efectivamente hay incumplido las condiciones y si concurren las circunstancias, lo que será decidido por el Juez de garant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340000" y="692280"/>
            <a:ext cx="658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Nueva formalización de la investigación en contra del imputado por hechos distint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vez que el imputado sea objeto de una nueva formalización de la investigación por un hecho disti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basta con que se le atribuya un nuevo del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9 inc.1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413080" y="689040"/>
            <a:ext cx="648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cursos en contra de las resoluciones que se pronuncien sobre la suspensión condicional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elable por el imputado, el Ministerio Público o por el querell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 237 inc. 5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mbién será apelable la resolución que la revocare, sólo por el imput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9 inc.2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59280" y="1197000"/>
            <a:ext cx="5616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 una nueva respuesta del sistema penal a los confli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espuesta tradicional implica la intervención directa del Es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mente privativas de libert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08000" y="19890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11280" y="1268280"/>
            <a:ext cx="6120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UER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PARATORI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56000" y="765000"/>
            <a:ext cx="604836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alida alternativa que procede cuando se investigan hechos presuntamente delictivos que afecten bienes jurídicos disponibles de carácter patrimonial, de lesiones menos graves o cuasidelitos, y se conviene directamente entre la víctima y el imputado el pago de una indemnización económica o de otro tipo, que, al ser aprobada por el Juez de garantía, extingue la responsabilidad pe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73080" y="1555920"/>
            <a:ext cx="22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Los Acuerdos Reparato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340000" y="836640"/>
            <a:ext cx="655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quisitos de procedenci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 quienes  concurran  al  acuerdo  presten  su consentimiento en forma libre y con pleno conocimiento de sus derech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 trate de hechos delictivos que afecten bienes jurídicos dispon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el acuerdo sea aprobado por el Juez de garant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68360" y="260280"/>
            <a:ext cx="67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Acuerdo entre víctima e imputado para recibir una repa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tación para reparar los perjuicios causados por el hecho ilícito penal que se investig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acuerdo debe producirse directamente entre el imputado y la víctima, en forma libre y con pleno conocimiento de sus derechos, no siendo necesaria la intervención del Fis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Fiscal puede opone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41 ínc.1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11280" y="476280"/>
            <a:ext cx="64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ignifica en modo alguno reconocer responsabilidad en los hechos que dan motivo al acuerdo repara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335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reparación no necesariamente debe consistir en el pago de una indemnización de carácter pecuniario o económ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40000" y="260280"/>
            <a:ext cx="66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Que se trate de hechos delictivos afecten bienes jurídicos disponibl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Únicamente respecto de de los siguientes hech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41 inc.2 CP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chos delictuales que afectaren bienes jurídicos disponibles de carácter patrimon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siones menos gr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chos que constituyeren delitos culpos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338560" y="353880"/>
            <a:ext cx="6697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3.-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Que el acuerdo sea aprobado por el Juez de garantí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Juez de garantía citará a una audiencia en la cual comprobar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los hechos que son materia de investigación son de aquellos respecto de los que la ley permite el acuer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las personas que hubieren concurrido al acuerdo, hayan prestado su consentimiento en forma libre y con pleno conocimiento de sus derech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41 inc.1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68360" y="333360"/>
            <a:ext cx="6732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e aprobarán los acuerdos reparatorios en tres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41 inc.3 CP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el acuerdo recaiga sobre hechos constitutivos de delitos sobre los cuales no se perm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considere que el consentimiento de los intervinientes no fue prestado en forma libre y cons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existiera interés público en la continuación de la persecución pe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195640" y="44280"/>
            <a:ext cx="6875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fectos de los acuerdos reparatorio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fectos pena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breseimiento definitivamente la causa, total o parcial dependiendo de si todos o algunos de los imputados concurrieron al acuer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42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fectos civi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 solicitar su cumplimiento ante el Juez de garantía, según el cumplimiento incidental de las sentencias del CP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43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56000" y="907920"/>
            <a:ext cx="6265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-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fectos subjetiv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caso de pluralidad de imputados o víctimas, el acuerdo sólo producirá efectos respecto a quienes hayan concurrido con su aprob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44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56000" y="596880"/>
            <a:ext cx="6119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sistema procesal penal antiguo tiene como principio básico el de la leg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penas que en derecho correspondan o, sin darle cabida a otro tipo de soluciones o sal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salidas alternativas obedece a un criterio práctico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idad de aplicar soluciones diversificadas, frente a los también diversos confli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95640" y="115920"/>
            <a:ext cx="6769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ancia de los casos en que se decrete la suspensión condicional del procedimiento o se apruebe un acuerdo reparato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el imputado cumpla las condiciones que el Juez impusiere al disponer la suspensión condicional del proced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le imputado reúne los requisitos para acogerse a una nueva suspensión condicional o acuerdo reparator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registro será reserv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46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108000" y="1268280"/>
            <a:ext cx="241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Registro y control de las salidas altern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24000" y="15840"/>
            <a:ext cx="6948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malizada la investigación, el Fiscal tiene dos alternativ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guir el curso normal de la investigación hasta su cier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rminar el procedimiento a través de las salidas alterna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istema procesal penal contempla dos salidas alternativas, en sentido estricto, esta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suspensión condicional del proced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acuerdos reparato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1773360"/>
            <a:ext cx="19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specto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40000" y="452520"/>
            <a:ext cx="66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racterísticas de las salidas alternativ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- Son mecanismos de descongestión del sistema proce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2.- Son herramientas de política cri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3.- Son excepción al principio de leg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4.- Son soluciones alterna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5.- Son objetos de una audi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00360" y="1285920"/>
            <a:ext cx="604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vorece a los imputados que han caído por primera vez en el sistema penal, a quienes se les concede una oportunidad de eludir el cumplimiento de una pena privativa de libertad, siempre que sean capaces de cumplir una condición que ellos mismos deben aceptar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08000" y="1484280"/>
            <a:ext cx="234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suspensión condi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roce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66920" y="380880"/>
            <a:ext cx="676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quisitos de procedenci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uerdo entre Fiscal e impu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el imputado no haya sido condenado anterior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el imputado no merezca una pena aflic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el imputado acepte someterse a una condi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a decretada por el Juez de garantí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11280" y="549360"/>
            <a:ext cx="64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cuerdo entre Fiscal e impu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gociación informal entre el Fiscal y el impu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t.237 inc.1 C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es una solución unilat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es un convenio con elementos dejados al az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84360" y="765000"/>
            <a:ext cx="6337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práctica se llaga a  este acuerdo porqu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l imputa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nsidera que la persecución penal en su contra es suficientemente seria como para convenirle aceptar el cumplimiento de una condi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l Fisc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be estimar que se trata de un imputado cuya resocialización es posible y que es conveniente ponerle término a la investigación sin llegar al juicio o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19:29:19Z</dcterms:created>
  <dc:creator>Juan Esteban Pérez Díaz</dc:creator>
  <dc:description/>
  <dc:language>en-US</dc:language>
  <cp:lastModifiedBy>Juan Esteban Pérez D.</cp:lastModifiedBy>
  <dcterms:modified xsi:type="dcterms:W3CDTF">2005-09-12T21:13:12Z</dcterms:modified>
  <cp:revision>107</cp:revision>
  <dc:subject/>
  <dc:title>Diapositiva 1</dc:title>
</cp:coreProperties>
</file>