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8CF-D007-47F4-8CE6-84FAF51D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614-7355-4E96-A41D-9DBB1062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C06-71C3-476D-B948-1307C69B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C4D-6553-47BC-9585-AFF7902A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C59-2123-4999-A525-7B3B9D2E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DC7-5FE9-4BB1-B0C2-6C71AB31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B73-09B2-486C-95DA-31C4F270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4CED-A16E-407E-926E-3EC000E1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F0F-BB8F-4C75-A871-B792435B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79D-79FD-4E0C-A2AE-7BAF2B6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239-41DF-48C3-9067-ECE07228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058-4DA9-47BA-ACA6-3C36A06D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4B07-65BA-4793-8E0F-EC42F860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1125360"/>
            <a:ext cx="4680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0000"/>
                </a:solidFill>
                <a:latin typeface="Arial"/>
              </a:rPr>
              <a:t>Las</a:t>
            </a:r>
            <a:br>
              <a:rPr sz="4400"/>
            </a:br>
            <a:r>
              <a:rPr b="1" i="1" lang="es-MX" sz="4400" spc="-1" strike="noStrike">
                <a:solidFill>
                  <a:srgbClr val="800000"/>
                </a:solidFill>
                <a:latin typeface="Arial"/>
              </a:rPr>
              <a:t>Salidas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4724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92720" y="4724280"/>
            <a:ext cx="58428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27280" y="1125360"/>
            <a:ext cx="61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esencia del defensor del imputado en la audiencia es un requisito de valid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3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rellante particular debe ser oí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 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95640" y="333360"/>
            <a:ext cx="680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el imputado no haya sido condenado  con anterioridad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ena anterior por crimen o simple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 237 inc.2 letra b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Que el imputado no merezca pena aflictiv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evento de dictarse sentencia condenato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2 letra a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 deben  considerar las circunstancias atenuantes y agravantes, y grado de participación del imputad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5640" y="146160"/>
            <a:ext cx="68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el imputado acepte someterse a una condición durante un plazo determin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rt.238 inc.1 CPP, establece que 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dir o no residir en un lugar determi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bstenerse de frecuentar determinados lugares o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meterse a un tratamiento médico, psicológico o de otra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ner o ejercer un trabajo, oficio, profesión o empleo, o asistir a algún programa educacional o de capaci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gar una determinada suma, a titulo de indemnización de perjuicios,   a favor  de  la  víctima o garantizar debidamente  su pago. Se  podrá  autorizar el pago en cuotas o dentro de un determinado plazo, el que en ningún caso podrá exceder el periodo de  la susp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udir  periódicamente  ante  el  Ministerio  Público  y,  en  su  caso, acreditar el cumplimiento de las demás condiciones impue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jar domicilio e informar al Ministerio Público de cualquier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82920" y="836640"/>
            <a:ext cx="63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Juez podrá modificar una o más de las condiciones im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8 inc.2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zo durante el cual se deba cumplir la condición o condiciones no puede ser inferior a 1 ni superior a 3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84360" y="549360"/>
            <a:ext cx="62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la suspensión condicional sea decretada por el Juez de garantí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ibunal deberá cerciorarse en una audiencia que concurra cada uno de los supuesto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1 CP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resolución Judicial será la que dispondrá con toda precisión, la condición y el plazo que deberá cumplir el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40000" y="131760"/>
            <a:ext cx="66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de la suspensión condicional del 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Se suspende la persecución penal en contra del imputado por ese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 Se suspende el plazo para declarar el cierre de la investig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- Se extingue la acción pe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7 inc.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- No se extinguen las acciones civiles de la víctima o de terc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0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340000" y="404640"/>
            <a:ext cx="655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vocación de la suspensión condicional del 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Incumplimiento injustificado, grave o reiterado de las condiciones im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 Nueva formalización de la investigación en contra del imputado por hechos distin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9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84360" y="473040"/>
            <a:ext cx="63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umplimiento injustificado, grave o reiterado de las condiciones impuest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tratarse de un incumplimiento gr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umplimiento reiterado en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ate si efectivamente hay incumplido las condiciones y si concurren las circunstancias, lo que será decidido por el Juez de garant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40000" y="692280"/>
            <a:ext cx="658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ueva formalización de la investigación en contra del imputado por hechos distin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vez que el imputado sea objeto de una nueva formalización de la investigación por un hecho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basta con que se le atribuya un nuevo de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9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13080" y="689040"/>
            <a:ext cx="648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cursos en contra de las resoluciones que se pronuncien sobre la suspensión condicion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elable por el imputado, el Ministerio Público o por el querel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 237 inc. 5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será apelable la resolución que la revocare, sólo por el impu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39 inc.2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59280" y="1197000"/>
            <a:ext cx="5616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una nueva respuesta del sistema penal a los confli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spuesta tradicional implica la intervención directa del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mente privativas de liber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08000" y="1989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11280" y="1268280"/>
            <a:ext cx="612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UER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ARATOR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56000" y="765000"/>
            <a:ext cx="60483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lida alternativa que procede cuando se investigan hechos presuntamente delictivos que afecten bienes jurídicos disponibles de carácter patrimonial, de lesiones menos graves o cuasidelitos, y se conviene directamente entre la víctima y el imputado el pago de una indemnización económica o de otro tipo, que, al ser aprobada por el Juez de garantía, extingue la responsabilidad pe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3080" y="155592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os Acuerdos Repar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40000" y="836640"/>
            <a:ext cx="655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 de proced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 quienes  concurran  al  acuerdo  presten  su consentimiento en forma libre y con pleno conocimiento de sus derec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trate de hechos delictivos que afecten bienes jurídicos dispon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acuerdo sea aprobado por el Juez de garant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260280"/>
            <a:ext cx="67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Acuerdo entre víctima e imputado para recibir una repa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tación para reparar los perjuicios causados por el hecho ilícito penal que se investig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uerdo debe producirse directamente entre el imputado y la víctima, en forma libre y con pleno conocimiento de sus derechos, no siendo necesaria la intervención del Fis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iscal puede opon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í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11280" y="47628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ignifica en modo alguno reconocer responsabilidad en los hechos que dan motivo al acuerdo repa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335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paración no necesariamente debe consistir en el pago de una indemnización de carácter pecuniario o econó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260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se trate de hechos delictivos afecten bienes jurídicos disponib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Únicamente respecto de de los siguientes h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inc.2 CP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delictuales que afectaren bienes jurídicos disponibles de carácter patrimon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siones menos gr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que constituyeren delitos culpo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38560" y="353880"/>
            <a:ext cx="669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 el acuerdo sea aprobado por el Juez de garantí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Juez de garantía citará a una audiencia en la cual comproba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os hechos que son materia de investigación son de aquellos respecto de los que la ley permite el acue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as personas que hubieren concurrido al acuerdo, hayan prestado su consentimiento en forma libre y con pleno conocimiento de sus dere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inc.1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33360"/>
            <a:ext cx="673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aprobarán los acuerdos reparatorios en tre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1 inc.3 CP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el acuerdo recaiga sobre hechos constitutivos de delitos sobre los cuales no se per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considere que el consentimiento de los intervinientes no fue prestado en forma libre y cons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existiera interés público en la continuación de la persecución pe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95640" y="44280"/>
            <a:ext cx="6875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de los acuerdos reparatori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pen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breseimiento definitivamente la causa, total o parcial dependiendo de si todos o algunos de los imputados concurrieron al acue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2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civi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solicitar su cumplimiento ante el Juez de garantía, según el cumplimiento incidental de las sentencias del CP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3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56000" y="907920"/>
            <a:ext cx="6265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fectos subje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aso de pluralidad de imputados o víctimas, el acuerdo sólo producirá efectos respecto a quienes hayan concurrido con su aprob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4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596880"/>
            <a:ext cx="611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istema procesal penal antiguo tiene como principio básico el de la leg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nas que en derecho correspondan o, sin darle cabida a otro tipo de soluciones o sal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alidas alternativas obedece a un criterio práctico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idad de aplicar soluciones diversificadas, frente a los también diversos confli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95640" y="115920"/>
            <a:ext cx="67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ancia de los casos en que se decrete la suspensión condicional del procedimiento o se apruebe un acuerdo reparato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cumpla las condiciones que el Juez impusiere al disponer la suspensión condicional del proced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e imputado reúne los requisitos para acogerse a una nueva suspensión condicional o acuerdo reparato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egistro será reser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art.246 C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08000" y="1268280"/>
            <a:ext cx="24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Registro y control de las salida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4000" y="15840"/>
            <a:ext cx="694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lizada la investigación, el Fiscal tiene dos alterna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r el curso normal de la investigación hasta su cier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rminar el procedimiento a través de las salidas altern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istema procesal penal contempla dos salidas alternativas, en sentido estricto, esta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uspensión condicional del proced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cuerdos reparato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77336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spec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452520"/>
            <a:ext cx="66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ísticas de las salidas alterna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- Son mecanismos de descongestión del sistema proce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.- Son herramientas de política cri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.- Son excepción al principio de leg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.- Son soluciones altern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.- Son objetos de una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00360" y="1285920"/>
            <a:ext cx="60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vorece a los imputados que han caído por primera vez en el sistema penal, a quienes se les concede una oportunidad de eludir el cumplimiento de una pena privativa de libertad, siempre que sean capaces de cumplir una condición que ellos mismos deben aceptar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08000" y="1484280"/>
            <a:ext cx="23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suspensión condi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66920" y="380880"/>
            <a:ext cx="67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 de proced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uerdo entre Fiscal e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no haya sido condenado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no merezca una pena afli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l imputado acepte someterse a una condi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decretada por el Juez de garant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1280" y="549360"/>
            <a:ext cx="64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uerdo entre Fiscal e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gociación informal entre el Fiscal y el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.237 inc.1 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una solución uni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un convenio con elementos dejados al a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84360" y="765000"/>
            <a:ext cx="63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 se llaga a  este acuerdo porq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impu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nsidera que la persecución penal en su contra es suficientemente seria como para convenirle aceptar el cumplimiento de una condi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Fisc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be estimar que se trata de un imputado cuya resocialización es posible y que es conveniente ponerle término a la investigación sin llegar al juicio o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9:29:19Z</dcterms:created>
  <dc:creator>Juan Esteban Pérez Díaz</dc:creator>
  <dc:description/>
  <dc:language>en-US</dc:language>
  <cp:lastModifiedBy>Juan Esteban Pérez D.</cp:lastModifiedBy>
  <dcterms:modified xsi:type="dcterms:W3CDTF">2005-09-12T21:13:12Z</dcterms:modified>
  <cp:revision>107</cp:revision>
  <dc:subject/>
  <dc:title>Diapositiva 1</dc:title>
</cp:coreProperties>
</file>