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490-00CE-4982-8974-025739F8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7A61-664A-41C7-A153-314F6D2B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689-A1AC-4708-B879-213C7CFB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F1F-0370-4C32-9385-E491C443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6C3-718B-4D79-A908-A05972BB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B9D-0598-4685-839B-9197F043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A6B-AF75-4D69-A9D4-C3E388A8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663-A32A-425C-81B4-F871DC2C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161-A520-4EE6-A82D-2B54E117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E2D-0696-4707-BE93-0D7ABFBD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001-C30F-42D6-A52A-3E6083F5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877-A655-4D68-8E5D-48DC8A83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DDA9-FE55-4C9A-99F1-95372F3FB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1125360"/>
            <a:ext cx="4680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0000"/>
                </a:solidFill>
                <a:latin typeface="Arial"/>
              </a:rPr>
              <a:t>Las</a:t>
            </a:r>
            <a:br>
              <a:rPr sz="4400"/>
            </a:br>
            <a:r>
              <a:rPr b="1" i="1" lang="es-MX" sz="4400" spc="-1" strike="noStrike">
                <a:solidFill>
                  <a:srgbClr val="800000"/>
                </a:solidFill>
                <a:latin typeface="Arial"/>
              </a:rPr>
              <a:t>Salidas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4724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292720" y="4724280"/>
            <a:ext cx="58428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27280" y="1125360"/>
            <a:ext cx="61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resencia del defensor del imputado en la audiencia es un requisito de valide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3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querellante particular debe ser oí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 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95640" y="333360"/>
            <a:ext cx="680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 el imputado no haya sido condenado  con anterioridad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ena anterior por crimen o simple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 237 inc.2 letra b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Que el imputado no merezca pena aflictiv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evento de dictarse sentencia condenato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2 letra a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 deben  considerar las circunstancias atenuantes y agravantes, y grado de participación del imputado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95640" y="146160"/>
            <a:ext cx="68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 el imputado acepte someterse a una condición durante un plazo determin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rt.238 inc.1 CPP, establece que condi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idir o no residir en un lugar determ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bstenerse de frecuentar determinados lugares o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meterse a un tratamiento médico, psicológico o de otra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ner o ejercer un trabajo, oficio, profesión o empleo, o asistir a algún programa educacional o de capaci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gar una determinada suma, a titulo de indemnización de perjuicios,   a favor  de  la  víctima o garantizar debidamente  su pago. Se  podrá  autorizar el pago en cuotas o dentro de un determinado plazo, el que en ningún caso podrá exceder el periodo de  la suspe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udir  periódicamente  ante  el  Ministerio  Público  y,  en  su  caso, acreditar el cumplimiento de las demás condiciones impue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jar domicilio e informar al Ministerio Público de cualquier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82920" y="836640"/>
            <a:ext cx="63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Juez podrá modificar una o más de las condiciones impue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8 inc.2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lazo durante el cual se deba cumplir la condición o condiciones no puede ser inferior a 1 ni superior a 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84360" y="549360"/>
            <a:ext cx="62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 la suspensión condicional sea decretada por el Juez de garantí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ribunal deberá cerciorarse en una audiencia que concurra cada uno de los supuestos leg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1 CP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resolución Judicial será la que dispondrá con toda precisión, la condición y el plazo que deberá cumplir el imp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40000" y="131760"/>
            <a:ext cx="662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os de la suspensión condicional del procedimien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 Se suspende la persecución penal en contra del imputado por ese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- Se suspende el plazo para declarar el cierre de la investig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- Se extingue la acción pe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.- No se extinguen las acciones civiles de la víctima o de terc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0 inc.1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40000" y="404640"/>
            <a:ext cx="655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vocación de la suspensión condicional del procedimien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 Incumplimiento injustificado, grave o reiterado de las condiciones impue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- Nueva formalización de la investigación en contra del imputado por hechos distin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9 inc.1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84360" y="473040"/>
            <a:ext cx="63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cumplimiento injustificado, grave o reiterado de las condiciones impuest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tratarse de un incumplimiento gr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umplimiento reiterado e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ate si efectivamente hay incumplido las condiciones y si concurren las circunstancias, lo que será decidido por el Juez de garant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40000" y="692280"/>
            <a:ext cx="658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Nueva formalización de la investigación en contra del imputado por hechos distin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vez que el imputado sea objeto de una nueva formalización de la investigación por un hecho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basta con que se le atribuya un nuevo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9 inc.1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13080" y="689040"/>
            <a:ext cx="648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cursos en contra de las resoluciones que se pronuncien sobre la suspensión condicion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elable por el imputado, el Ministerio Público o por el querel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 237 inc. 5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será apelable la resolución que la revocare, sólo por el impu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9 inc.2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59280" y="1197000"/>
            <a:ext cx="5616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una nueva respuesta del sistema penal a los confli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spuesta tradicional implica la intervención directa del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mente privativas de libert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08000" y="1989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11280" y="1268280"/>
            <a:ext cx="6120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ER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ARATOR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56000" y="765000"/>
            <a:ext cx="604836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lida alternativa que procede cuando se investigan hechos presuntamente delictivos que afecten bienes jurídicos disponibles de carácter patrimonial, de lesiones menos graves o cuasidelitos, y se conviene directamente entre la víctima y el imputado el pago de una indemnización económica o de otro tipo, que, al ser aprobada por el Juez de garantía, extingue la responsabilidad pe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73080" y="1555920"/>
            <a:ext cx="22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os Acuerdos Repara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40000" y="836640"/>
            <a:ext cx="655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quisitos de procedenci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 quienes  concurran  al  acuerdo  presten  su consentimiento en forma libre y con pleno conocimiento de sus derech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trate de hechos delictivos que afecten bienes jurídicos dispon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l acuerdo sea aprobado por el Juez de garant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68360" y="260280"/>
            <a:ext cx="67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Acuerdo entre víctima e imputado para recibir una repa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tación para reparar los perjuicios causados por el hecho ilícito penal que se investig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uerdo debe producirse directamente entre el imputado y la víctima, en forma libre y con pleno conocimiento de sus derechos, no siendo necesaria la intervención del Fis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iscal puede opon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1 ínc.1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11280" y="476280"/>
            <a:ext cx="64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ignifica en modo alguno reconocer responsabilidad en los hechos que dan motivo al acuerdo repar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335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paración no necesariamente debe consistir en el pago de una indemnización de carácter pecuniario o econó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40000" y="26028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 se trate de hechos delictivos afecten bienes jurídicos disponib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Únicamente respecto de de los siguientes hech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1 inc.2 CP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s delictuales que afectaren bienes jurídicos disponibles de carácter patrimon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siones menos gr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s que constituyeren delitos culpo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338560" y="353880"/>
            <a:ext cx="669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 el acuerdo sea aprobado por el Juez de garantí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Juez de garantía citará a una audiencia en la cual comproba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los hechos que son materia de investigación son de aquellos respecto de los que la ley permite el acuer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las personas que hubieren concurrido al acuerdo, hayan prestado su consentimiento en forma libre y con pleno conocimiento de sus derech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1 inc.1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33360"/>
            <a:ext cx="673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aprobarán los acuerdos reparatorios en tres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1 inc.3 CP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el acuerdo recaiga sobre hechos constitutivos de delitos sobre los cuales no se perm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considere que el consentimiento de los intervinientes no fue prestado en forma libre y cons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existiera interés público en la continuación de la persecución pe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95640" y="44280"/>
            <a:ext cx="6875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os de los acuerdos reparatori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os pen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breseimiento definitivamente la causa, total o parcial dependiendo de si todos o algunos de los imputados concurrieron al acuer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2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os civi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solicitar su cumplimiento ante el Juez de garantía, según el cumplimiento incidental de las sentencias del CP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3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56000" y="907920"/>
            <a:ext cx="6265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os subjetiv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aso de pluralidad de imputados o víctimas, el acuerdo sólo producirá efectos respecto a quienes hayan concurrido con su aprob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56000" y="596880"/>
            <a:ext cx="611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sistema procesal penal antiguo tiene como principio básico el de la leg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nas que en derecho correspondan o, sin darle cabida a otro tipo de soluciones o sal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salidas alternativas obedece a un criterio práctico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idad de aplicar soluciones diversificadas, frente a los también diversos confli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95640" y="115920"/>
            <a:ext cx="67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ancia de los casos en que se decrete la suspensión condicional del procedimiento o se apruebe un acuerdo reparato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l imputado cumpla las condiciones que el Juez impusiere al disponer la suspensión condicional del proced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le imputado reúne los requisitos para acogerse a una nueva suspensión condicional o acuerdo reparato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egistro será reser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6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08000" y="1268280"/>
            <a:ext cx="24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Registro y control de las salidas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4000" y="15840"/>
            <a:ext cx="694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lizada la investigación, el Fiscal tiene dos alternativ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guir el curso normal de la investigación hasta su cier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rminar el procedimiento a través de las salidas altern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istema procesal penal contempla dos salidas alternativas, en sentido estricto, esta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suspensión condicional del proced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acuerdos reparato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77336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spect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40000" y="452520"/>
            <a:ext cx="66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acterísticas de las salidas alternativ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 Son mecanismos de descongestión del sistema proce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.- Son herramientas de política cri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.- Son excepción al principio de leg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4.- Son soluciones altern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5.- Son objetos de una audi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00360" y="1285920"/>
            <a:ext cx="60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vorece a los imputados que han caído por primera vez en el sistema penal, a quienes se les concede una oportunidad de eludir el cumplimiento de una pena privativa de libertad, siempre que sean capaces de cumplir una condición que ellos mismos deben aceptar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08000" y="1484280"/>
            <a:ext cx="23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suspensión condi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66920" y="380880"/>
            <a:ext cx="67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quisitos de procedenci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uerdo entre Fiscal e imp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l imputado no haya sido condenado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l imputado no merezca una pena afli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l imputado acepte someterse a una condi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a decretada por el Juez de garant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11280" y="549360"/>
            <a:ext cx="64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uerdo entre Fiscal e imp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gociación informal entre el Fiscal y el imp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237 inc.1 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una solución unilat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un convenio con elementos dejados al a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84360" y="765000"/>
            <a:ext cx="633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 se llaga a  este acuerdo porq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 imput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nsidera que la persecución penal en su contra es suficientemente seria como para convenirle aceptar el cumplimiento de una condi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 Fisc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be estimar que se trata de un imputado cuya resocialización es posible y que es conveniente ponerle término a la investigación sin llegar al juicio o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19:29:19Z</dcterms:created>
  <dc:creator>Juan Esteban Pérez Díaz</dc:creator>
  <dc:description/>
  <dc:language>en-US</dc:language>
  <cp:lastModifiedBy>Juan Esteban Pérez D.</cp:lastModifiedBy>
  <dcterms:modified xsi:type="dcterms:W3CDTF">2005-09-12T21:13:12Z</dcterms:modified>
  <cp:revision>107</cp:revision>
  <dc:subject/>
  <dc:title>Diapositiva 1</dc:title>
</cp:coreProperties>
</file>