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807E-20BC-4255-AFE3-5D57C16B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E52-D6C7-4461-929C-33C6DA50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1D0-722D-4E48-8B75-B93C2341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7478-483E-423F-8B0D-5D380A78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48D-3957-4BEF-ABE0-092B8BEC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203-5F06-4DBD-BAD5-5E630FAE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4AF0-BDC3-4DF2-9847-3E940509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4D3-008F-40A2-98D8-2F1F3961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70E-1F13-4EEC-AD9F-75FB1C0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C1E-C8B7-467A-897F-4A8D452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E47-B49C-4367-B3F8-ED06B84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6F0-109D-4DDD-85DC-2E17780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EC3-F488-4B72-9E88-14FE247EA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1844640"/>
            <a:ext cx="61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Arial"/>
              </a:rPr>
              <a:t>INSTRU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Protoco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libro o registro público que debe llevar todo Notario, el que se formará insertando las escrituras en el orden numérico que les hubiere correspondido en el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continuación de las escrituras, se agregan los documentos protoco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escritura pública,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matriz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el documento original agregado al protoc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p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manuscritas, dactilografiadas, impresas, fotocopias, litografías o fotograb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las deberá expresarse que son testimonio fiel de su original y llevaran la fecha, firma y sello del funcionario autorizante. (art.422 del C.O.T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8000" y="115920"/>
            <a:ext cx="88567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EN QUE INTERVIENE NOTARIO SIN SER ESCRITURAS PÚBL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rotocoliz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s agregados al final del registro de un notario, a pedido de quién lo solic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levanta un acta que firma el solicitante y el notario en la que se indica el contenido del documento y sus indicaciones esenciales. Esta acta es un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nstrumento adquiere fecha cier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instrumentos del  420 COT pasan a valer como instrument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rve para conservar los documentos, sólo podrá ser desglosado del protocolo en virtud de decreto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1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 Privado Autorizado por el Notar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rivado en que el notario abona con un certificado público el hecho de haber autorizado la firma de la persona que in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inua siend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ja constancia de la fecha en que se fi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a fe de la identidad de los firm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algunos casos la ley otorga mérito ejecutivo, sin necesidad de reconocimiento previo: Letra de cambio, pagaré  o cheque en que la firma del obligado al pago estuviere autorizada ante Notario; contrato prenda compraventa cosas muebles a plazo; contrato prenda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8000" y="7776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ICIATIVA EN LA PRUEBA INSTRU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 Parte: puede s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oluntari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el vencimiento del termino proba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za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bajo pena de producirse los efectos que la ley señala, por haber sido requeridos para ello por el tribunal, a petición de la contraria. Los casos s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ed. Prej. propiamente 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ara que aquel a quien se pretende demandar para que exhiba documentos. (273 n°3, 4 y 5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ntr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a parte solicitar la exhibición de documentos que estan en poder de la contraparte o de un ter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Judic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ara mejor resolver. (159 n°1 y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1033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PORTUNIDAD PARA RENDIR PRUEBA INSTRUMENT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t. Civil, se contemplan como oportunidad para rendir prueba instrumental las sigui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ntes de la iniciación del proces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o medidas prejudi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la demand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urante el curso del ju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 cualquier estado, hasta el vencimiento del termino probatorio en 1° instancia, y hasta la vista de la causa en 2° instancia. (art.348 inc.1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mo medida para mejor resolv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 posterioridad a la citación para oír sentencia en 1° instancia y a la vista de la causa 2° in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2920" y="18900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S EN LENGUA EXTRANJ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arte que los acompañe opt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sin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tribunal dispondrá que se traduzca por el perito que él designe, a costa del que lo pres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compañarlos con su 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esta valdrá, salvo que la contraparte exija que sea revisada la traducción dentro del plazo de 6 d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592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S PUBLICOS EN JU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342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documentos original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dadas con los requisitos que las leyes prescriben para que hagan fe respecto de toda persona, o, a lo menos, respecto de aquella contra quien se hace vale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se acompaña una copia, y el registro o matriz ha desaparecido se puede presentar una duda acerca de la autenticidad del instrumento: Cotejo. El “cotejo" doble signific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instrumental: confrontación del instrumento publico con su matr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ejo de Letras: prueba caligráfica, por dudas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26028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, obtenidas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os requisitos,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sean objetadas como inexactas por la parte contraria dentro de los 3 días siguientes a aquel en que se le dio conocimiento de ell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s copias que objetadas en el caso del n°3, sean cotejadas y halladas conforme con sus originales o con otras que hagan fe respecto de la parte contrar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º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os testimonios que el Tribunal mande agregar durante el juicio, autorizados por su secretario u otro funcionario competente y sacados de los originales o de copias que reúnan las condiciones indicadas en el n° anterior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 las copias son agregadas parcialmente cualquiera de los interesados podrá exigir que se agregue el todo o parte de lo omitido, a sus expen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. PUBLICOS OTORGADOS EN EL EXTRANJ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que tengan valor en Chile es necesario: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orma se ajusta a la legislación del país donde se otorg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acredite la autenticidad d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ámites a cumpl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egaliz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establece autenticidad del doc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ae la legaliz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en el documento conste el carácter de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conste la verdad de las firmas de las personas que los hayan autor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se obtiene mediante el “atestado” de algún funcionario del 345. Es el testimonio prestado por altas autor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280" y="11268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galización puede realizarse: (345 C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el extranjero al otorgarse 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chileno, acreditado en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hi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por agente diplomático acreditado en Chile por el país de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no existe representación diplomática entre ambos país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agente diplomático o consular de una nación amiga acreditado en el mismo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raduc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vierte al castellano, normalmente por el interprete oficial del Min. RR.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°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tocoliz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hí vale como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62064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OC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s todo objeto normalmente escrito, en cuyo texto se consigna o representa alguna cosa apta para esclarecer un hecho o se deja constancia de una manifestación de voluntad que produce efectos jurídicos. (Co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rende a los instrumentos, las fotografías, películas, cintas magnetofónicas, discos, radiografías, electrocardiogramas, planos, cuadros, dibujos etc,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 es todo escrito en que se consagra al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 genero – espec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280" y="18900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ORMA DE ACOMPAÑAR LOS INST. PUBLICOS AL JUI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n citación”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parte contra quien se presente. 69 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ALOR PROBATORIO DE LOS INST. PU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, respecto de 3°,  en cua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otorgado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echa del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echo de haberse efectuado las declaraciones que en el instrumento público aparecen por el funcionario público y las par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LARACION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los efectos de determinar el valor de las declaraciones contenidas en el documento es menester distinguir si ellas se efectúan por el funcionario público o por las partes y las materias a las que ellas se refi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l funcionario públi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acerca de hechos prop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referente a hechos que percibe por sus propi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ones del funcionario público, que corresponden a hechos que no son suyos ni los ha percibido él mismo, pero los ha comprobado por los medios que la ley le suminis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eracidad de las decs. de las part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inst. se distingu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Dis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lo que las partes han tenido en mira y lo que ha constituido el objeto del ac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Decs. simplemente enunciativ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s que, haciendo referencia a hechos anteriores, constituyen elementos accidentales del hecho jurídico que el instrumento tiene por obj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bdistingu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amente relacionadas con lo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unciaciones que no guardan dicha vinc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ce plena fe respecto de las partes de la veracidad o sinceridad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Dispos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s. Enunciativas relacionadas con lo dispos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1280" y="442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ESUNCION DE AUTENTICIDAD DEL INST. PU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leva envuelta una verdader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isitos para que el instrumento publico sea autent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otorgado realmente el instrumento por las personas que allí aparec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 haya sido autorizado por el funcionario que se señala en el instru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las declaraciones que hubieren prestado las partes a su otorgamiento sean las que el instrumento consi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virtud de la presunción de autenticidad si se acompaña al juicio instrumento público, la contraparte para destruirlo debe tener un papel a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280" y="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UGNACION DEL INSTRUMENTO PU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Nulidad del Instrum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or infringir el 1699 CC,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ciencias en cuanto a la intervención del funcion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misión de alguna de las formalidades previstas por la ley en su otorg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sedad o Falta de Autentic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realmente otor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ha sido autorizado por el  funcionario u otorgado por las personas que en él se ex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declaraciones que consigna no corresponden a las efectuadas por las partes al otorgarse el instru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credita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11592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alta de veracidad de las declaraciones de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l instrumento el válido y autentico, pero las decs. contenidas en el instrumento no corresponden a la voluntad real de los otorgantes sea por error, dolo o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prueba se disting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 es por 3°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or cualquier medio de prue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las par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pro cualquier medio de prueba menos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cs. de impugn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xiste 2 ví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incip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n juicio completo: por nulidad o la sim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Inciden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i lo impugna la contraparte se promueve un incidente: solo por impugnación por fals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260280"/>
            <a:ext cx="82090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GLAMENT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onstitu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di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e generalmente plena prueba si se reúnen los requis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777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tivos otorgamien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Prueba (ad‑probationem)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a cuenta de la existencia de un acto. Si falta, el acto no es nulo, se probará  por otro medi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Vía solemnidad (ad‑solemnitatem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torgado por las partes para generar un acto o contrato valido. Si falta el acto es n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 su relación con el acto o contra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Fundante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os cuales emana la pretensión, dejan constancia de los motivos jurídicos que son el fundamento inmediato a las accs. y excs. ejerci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obatorios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creditan los motivos de la pretensión o excepción hecha valer, solo justifican su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2920" y="16992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n cuanto a su naturaleza jurídi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úblicos o auténtic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autorizados con las solemnidades legales por el competente funcionario. (art.1699 Cód. Civ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rivado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 los demás documentos escritos, en los cuales no concurre solemnidad al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mportanci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 cuanto a su valor prob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úblico conlleva en si una presunción de autentic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vados no conllevan en si una presunción de autenticidad, requieren re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0920" y="1916280"/>
            <a:ext cx="48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INSTRUMENTOS PUB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360" y="165240"/>
            <a:ext cx="8675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trumento público es el autorizado con las solemnidades legales por el competente funcionario. (1699 inc.1ºC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  autorizado por funcionar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público que lo otorga debe ser competente, este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quel determinado por la ley para autorizar o dar fe de instrument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funcionario debe actuar dentro del territorio que la ley le hubiere fijado para desempeñar sus 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115920"/>
            <a:ext cx="8713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ASOS DE INSTRUMENTOS PUBLICOS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gún la jurisprude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copias autorizadas por el Secretario Municipal de documentos del archivo muni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ertificados de dominio vigente, de hipoteca y gravámenes y de prohibiciones e interdicciones que otorga el Conservador de Bienes Raí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pia de la demanda que el Receptor entrega al notific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critura pública otorgada por Notario u Oficial de Registro Civil competente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partidas o certificados de nacimiento, matrimonio y defunción que otorga el Oficial de Registro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4320"/>
            <a:ext cx="889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LA ESCRITURA PUBLIC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instrumento público otorgado con las solemnidades que fija la ley, por el competente Notario, e incorporado a su protocolo o registro público. (403 COT, 1699 inc.2º 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quisit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por Notari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e sea otorgada con las solemnidades leg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 ser incorporada al protocolo o registro público del Notario que la extien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3:55:56Z</dcterms:created>
  <dc:creator>Juan Esteban Pérez D.</dc:creator>
  <dc:description/>
  <dc:language>en-US</dc:language>
  <cp:lastModifiedBy>Juan Esteban Pérez Díaz</cp:lastModifiedBy>
  <dcterms:modified xsi:type="dcterms:W3CDTF">2005-06-11T22:49:00Z</dcterms:modified>
  <cp:revision>37</cp:revision>
  <dc:subject/>
  <dc:title>Diapositiva 1</dc:title>
</cp:coreProperties>
</file>