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1F9-7821-4946-B672-42774B64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8FF-B01B-477E-9794-49AF8223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B56-B0DD-4A5A-8F15-2DEE6D67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214-9501-4D21-A903-904A2087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535-FA23-4CB8-9133-36C4EC9D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332-C542-433B-874B-B9C5151D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C77-1FF3-428F-AB4D-FFB2195F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62B-1097-4A46-8952-DDCCA441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D97-C295-40AA-A0E0-112FA93A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5F7-3619-4A40-B5F2-2C395CC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048-6FB7-4827-B2D2-D1BD1DE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F2C-80EA-4B35-A038-BC07E05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91F-6A3F-4624-8DEB-08E7D6A0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84464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Protoco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libro o registro público que debe llevar todo Notario, el que se formará insertando las escrituras en el orden numérico que les hubiere correspondido en e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de las escrituras, se agregan los documentos protoco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escritura pública,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matri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documento original agregado a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p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manuscritas, dactilografiadas, impresas, fotocopias, litografías o fotogra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las deberá expresarse que son testimonio fiel de su original y llevaran la fecha, firma y sello del funcionario autorizante. (art.422 del C.O.T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56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EN QUE INTERVIENE NOTARIO SIN SER ESCRITUR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rotocoliz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s agregados al final del registro de un notario, a pedido de quién lo solic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levanta un acta que firma el solicitante y el notario en la que se indica el contenido del documento y sus indicaciones esenciales. Esta acta es un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strumento adquiere fecha ci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strumentos del  420 COT pasan a valer como instrument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rve para conservar los documentos, sólo podrá ser desglosado del protocolo en virtud de decret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 Privado Autorizado por el No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rivado en que el notario abona con un certificado público el hecho de haber autorizado la firma de la persona que in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nua siend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ja constancia de la fecha en que se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a fe de la identidad de los firm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la ley otorga mérito ejecutivo, sin necesidad de reconocimiento previo: Letra de cambio, pagaré  o cheque en que la firma del obligado al pago estuviere autorizada ante Notario; contrato prenda compraventa cosas muebles a plazo; contrato prenda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77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 EN LA PRUEBA INSTR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Parte: puede s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oluntar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el vencimiento del termino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z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bajo pena de producirse los efectos que la ley señala, por haber sido requeridos para ello por el tribunal, a petición de la contraria. Los cas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. Prej. propiamente 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que aquel a quien se pretende demandar para que exhiba documentos. (273 n°3, 4 y 5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ntr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a parte solicitar la exhibición de documentos que estan en poder de la contraparte o de un ter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ara mejor resolver. (159 n°1 y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033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PORTUNIDAD PARA RENDIR PRUEBA INSTRUMENT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. Civil, se contemplan como oportunidad para rendir prueba instrumental las sigui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ntes de la iniciación del proce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rejud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la deman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cualquier estado, hasta el vencimiento del termino probatorio en 1° instancia, y hasta la vista de la causa en 2° instancia. (art.348 inc.1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 posterioridad a la citación para oír sentencia en 1° instancia y a la vista de la causa 2° in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18900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S EN LENGUA EXTRA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arte que los acompañe opt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sin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tribunal dispondrá que se traduzca por el perito que él designe, a costa del que lo pres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con su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a valdrá, salvo que la contraparte exija que sea revisada la traducción dentro del plazo de 6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UBLICOS EN JU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42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documentos origi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dadas con los requisitos que las leyes prescriben para que hagan fe respecto de toda persona, o, a lo menos, respecto de aquella contra quien se hace val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acompaña una copia, y el registro o matriz ha desaparecido se puede presentar una duda acerca de la autenticidad del instrumento: Cotejo. El “cotejo" doble sig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instrumental: confrontación del instrumento publico con su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de Letras: prueba caligráfica, por dudas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, obtenida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os requisitos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sean objetadas como inexactas por la parte contraria dentro de los 3 días siguientes a aquel en que se le dio conocimiento de ell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 objetadas en el caso del n°3, sean cotejadas y halladas conforme con sus originales o con otras que hagan fe respecto de la parte contr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testimonios que el Tribunal mande agregar durante el juicio, autorizados por su secretario u otro funcionario competente y sacados de los originales o de copias que reúnan las condiciones indicadas en el n° anteri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s copias son agregadas parcialmente cualquiera de los interesados podrá exigir que se agregue el todo o parte de lo omitido, a sus expen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. PUBLICOS OTORGADOS EN EL EXTRANJ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que tengan valor en Chile es necesari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se ajusta a la legislación del país donde se otorg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acredite la autenticidad d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ámites a cumpl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iz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establece autenticidad del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e la legaliz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n el documento conste el carácter de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conste la verdad de las firmas de las personas que los hayan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se obtiene mediante el “atestado” de algún funcionario del 345. Es el testimonio prestado por altas aut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1268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puede realizarse: (345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el extranjero al otorgarse 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chileno, acreditado en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hi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por agente diplomático acreditado en Chile por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no existe representación diplomática entre ambos paí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de una nación amiga acreditado en el mism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vierte al castellano, normalmente por el interprete oficial del Min. 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tocoliz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hí vale como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todo objeto normalmente escrito, en cuyo texto se consigna o representa alguna cosa apta para esclarecer un hecho o se deja constancia de una manifestación de voluntad que produce efectos jurídicos. (Co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de a los instrumentos, las fotografías, películas, cintas magnetofónicas, discos, radiografías, electrocardiogramas, planos, cuadros, dibujos etc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es todo escrito en que se consagra al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 genero –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280" y="18900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MA DE ACOMPAÑAR LOS INST. PUBLICOS AL JU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n citación”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parte contra quien se presente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OS INST. PU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, respecto de 3°,  en c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otorgado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echa del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efectuado las declaraciones que en el instrumento público aparecen por el funcionario público y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LARACI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os efectos de determinar el valor de las declaraciones contenidas en el documento es menester distinguir si ellas se efectúan por el funcionario público o por las partes y las materias a las que ellas se ref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l funcionario públ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acerca de hech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referente a hechos que percibe por sus propi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del funcionario público, que corresponden a hechos que no son suyos ni los ha percibido él mismo, pero los ha comprobado por los medios que la ley le sum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 las par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inst. se disting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Dis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o que las partes han tenido en mira y lo que ha constituido el objeto del 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simplemente enunciativ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que, haciendo referencia a hechos anteriores, constituyen elementos accidentales del hecho jurídico que el instrumento tiene por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bdistingu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amente relacionadas con l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ciones que no guardan dicha vin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 las partes de la veracidad o sinceridad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Dis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Enunciativas relacionadas con lo dispos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SUNCION DE AUTENTICIDAD DEL INST. PU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 envuelta una verdader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para que el instrumento publico sea auten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otorgado realmente el instrumento por las personas que allí apare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sido autorizado por el funcionario que se señala en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declaraciones que hubieren prestado las partes a su otorgamiento sean las que el instrumento cons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irtud de la presunción de autenticidad si se acompaña al juicio instrumento público, la contraparte para destruirlo debe tener un pap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GNACION DEL INSTRUMENTO PU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Nulidad d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infringir el 1699 CC,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ciencias en cuanto a la intervención del funcion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isión de alguna de las formalidades previstas por la ley en su otorg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sedad o Falta de Autent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realmente otor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autorizado por el  funcionario u otorgado por las personas que en él se ex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eclaraciones que consigna no corresponden a las efectuadas por las partes al otorgarse el instr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credita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1592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ta de veracidad de las declaraciones de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instrumento el válido y autentico, pero las decs. contenidas en el instrumento no corresponden a la voluntad real de los otorgantes sea por error, dolo o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prueba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es por 3°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 cualquier medio de prueba menos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s. de impugn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xiste 2 v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incip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 juicio completo: por nulidad o la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Inciden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i lo impugna la contraparte se promueve un incidente: solo por impugnación por fals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6028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stit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e generalmente plena prueba si se reúnen l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77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tivos otorga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ueba (ad‑probationem)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a cuenta de la existencia de un acto. Si falta, el acto no es nulo, se probará  por otro medi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solemnidad (ad‑solemnitatem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torgado por las partes para generar un acto o contrato valido. Si falta el acto es n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su relación con el acto o contra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dante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cuales emana la pretensión, dejan constancia de los motivos jurídicos que son el fundamento inmediato a las accs. y excs. ejerc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batori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creditan los motivos de la pretensión o excepción hecha valer, solo justifican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920" y="16992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uanto a su naturaleza juríd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úblicos o autént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utorizados con las solemnidades legales por el competente funcionario. (art.1699 Cód. Civ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ivado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 los demás documentos escritos, en los cuales no concurre solemnidad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 cuanto a su valor prob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 conlleva en si un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s no conllevan en si una presunción de autenticidad, requieren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0920" y="191628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STRUMENTOS PU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6524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rumento público es el autorizado con las solemnidades legales por el competente funcionario. (1699 inc.1ºC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 autorizado por funcionar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público que lo otorga debe ser competente, es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quel determinado por la ley para autorizar o dar fe de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debe actuar dentro del territorio que la ley le hubiere fijado para desempeñ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1592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SOS DE INSTRUMENTOS PUBL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gún la jurispru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pias autorizadas por el Secretario Municipal de documentos del archiv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ertificados de dominio vigente, de hipoteca y gravámenes y de prohibiciones e interdicciones que otorga el Conservador de Bienes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pia de la demanda que el Receptor entrega al notific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critura pública otorgada por Notario u Oficial de Registro Civil competente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idas o certificados de nacimiento, matrimonio y defunción que otorga el Oficial de Registr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4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ESCRITURA PU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úblico otorgado con las solemnidades que fija la ley, por el competente Notario, e incorporado a su protocolo o registro público. (403 COT, 1699 inc.2º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por Not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incorporada al protocolo o registro público del Notario que la exti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9:00Z</dcterms:modified>
  <cp:revision>37</cp:revision>
  <dc:subject/>
  <dc:title>Diapositiva 1</dc:title>
</cp:coreProperties>
</file>