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05C-0272-4F37-BC75-052A3A3C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F43-1860-4819-A65B-3A84A43C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BAC-B676-433B-B360-5E0F8751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A42-DF01-4E71-8235-C10156B9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15D-261C-492F-9B93-C40E658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C6C-7475-4BF5-99E6-08F9A92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0FB-D473-48DC-9DBB-C94E9D1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596-8FC1-4E95-A53C-4F520CB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3C6-728C-481D-9EB2-793F9E5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80B-8F2B-426B-97DF-6178FD7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32B-E213-4452-91CE-AF8775C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A6B-F081-48CB-AF08-0B7547B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968A-622C-4D3A-9616-11414B39A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84464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INSPECC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PERSONAL DEL TRIBU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256536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LAS PRESUN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en el empleo por la ley o el tribunal de hechos o antecedentes conocidos para deducir o inferir de ellos hechos desconocidos sustanciales, pertinentes y contradictorios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H° o circunstancia conocida: la base o premisa de l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l elemento lógico o actividad racional: se realiza 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r del H° conocido para unirlo con el H° des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H° presumido: que era desconocido y pasa a se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-27000"/>
            <a:ext cx="8964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legislador det. el H° presumido partiendo 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derech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ablecida en la ley y acreditado el H° b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osible rend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a ley establece el H° presumido a parti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H°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Es necesario probar el hecho cono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Acreditado el H° base se tiene por acreditado el hech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. Acreditado el H° base se excluye prueba respecto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1280" y="117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mplemente leg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tablecidas por la ley  y constitu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sí misma una prueba completa respecto del hec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mido, pero se admite la rendición de prueb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probar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rendir prueba con el fin de destruir el hecho presumido como sobre el hecho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ltera la carga de la prueba, la parte que desee valerse el hecho presumido no deberá rendir prueba para acreditar su existencia, sino que deberá ser la parte qu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e destruir su exist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6524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juez quien establece el hecho presumido partiendo del hecho base o prem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n distinto tratamiento: en el CC y CP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1712 inc.f.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constituir plena prueba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nciones  judiciales deben ser graves, precisas 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ordantes, es decir, deben ser  dos o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26 inc.2 CP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ermite que una sola presunción judici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a constituir plena prueba, cuando a juicio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bunal tenga caracteres de gravedad y  precisión  pa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252360"/>
            <a:ext cx="889308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bases de las pres.j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creadas por el propio juez, y hay  casos en que la propia ley es la que establece la base sobre la cual se ha de constituir la presunc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Ámbito de aplicación pres.ju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amplio, la mayoria de los hechos se pueden probar por pres.j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: no podrá probarse  por medio de pres.jud. los actos o contratos que NO puedan acreditarse por los hechos o  circunstancias que sirven de base a la presun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actos o ctos. solemnes se prueban por la solem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8000" y="1159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as pres.jud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CC exige que s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Grav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que la presunción sea ostensible; debe aparecer plenamente configurada de los H° base, que a partir de ellos exista un nexo causal que lleve como consecuencia lógica a la determinación del H° presum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ci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o debe ser vaga, difusa y susceptible de conducir a conclusiones  diver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orda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r armónicas, no contradictorias entre 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PC modifica el CC: una sola presunción puede constituir plena prueba, si para el tribunal, es grave y precisa para formar su conven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igue la idea de l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360" y="260280"/>
            <a:ext cx="882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427 CPC se encuentra 2 presunciones simplemente legales que constituyen medios específicos de prueba que señala el legisl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putan verdaderos, salvo prueba en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certificados en el proceso por un Ministro de 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hechos declarados por la parte en otro juicio entre las mism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50920"/>
            <a:ext cx="864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en que el tribunal realiza por sí mismo de hechos o circunstancias materiales controvertidas en el pleito para adquirir la convicción acerca de su verdad o exactit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configur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acreditan hechos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se utiliza para apreciar circunstancias o he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692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I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directo, los hechos son apreciados directamente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o de prueba circunstancial, se genera dentro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Plena Prueba, reuniéndose los requisitos que la ley establ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común a todos los procedimientos, se constituye en ciertos casos en una diligencia oblig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87480"/>
            <a:ext cx="903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 la manera como se pract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tra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fuera del proceso sin que exist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judicial alguna que la ordene. Ccarece de todo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lor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realiza por el tribunal previa resolución judicial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ficada a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acuerdo al sujeto que la origin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Iniciativa en l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De oficio por 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) Por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44280"/>
            <a:ext cx="8928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iciativa Leg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aso de los asuntos que se tramitan íntegramente a través de la inspección del Tribu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) Iniciativa de parte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oportun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.Prej. Probato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as causale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Peligro inminente de un daño o per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Hechos que puedan fácilmente desapa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1° insta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2° instancia, no es procede, salvo exce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) Iniciativa del tribun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dos casos gené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uando sea nece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476280"/>
            <a:ext cx="8642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Casos en que la ley lo establece expres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Casos en que sea necesario acreditar l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nstancias materiales mediante su examen directo por el tribunal: según la apreciación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-2700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s por iniciativa de partes, la solicitud debe seña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Los H° materiales que pretenden que sean consta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La razón por la cual es necesaria su rea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decretar que se lleve a cabo conjuntamente con oír informe de peritos en el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ibunal dicta resolución fijando día y hora para su pra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: por el solicitante solicitante, si se decreta de oficio o ella es ordenada por la ley, los gastos se depositan por mit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xcp. a la base orgánica de la territorialidad:  puede verificarse fuera del territorio jurisdiccional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solo una facultad, si no es por exho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1280" y="1033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ía y hora fijado el tribunal se constituye en el lugar de los hechos conjuntamente con  el secretario del tribunal. Si el tribunal es colegiado, podrá comisionar uno o más de sus miemb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concurrir las partes, los abogados y los per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diligencia se levanta Acta dejando constancia de todas las circunstancias o hechos materiales que el Tribunal obs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es pueden pedir que se consignen en el acta las circunstancias que estimen pertin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ta que se levante debe ser suscrita por el juez, las personas que asistieron, y autorizada por el Secretario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928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408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ser plena prueba, 3 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Que la inspección recaiga sobre hechos o circunstancia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Que esos hechos o circunstancias materiales sea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entados de acuerdo a las observaciones del tribu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Que se haya dejado constancia en el acta de dich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chos o circunstancias mate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8:45Z</dcterms:modified>
  <cp:revision>34</cp:revision>
  <dc:subject/>
  <dc:title>Diapositiva 1</dc:title>
</cp:coreProperties>
</file>