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A3E1-674F-4C11-AE49-48917C7D6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132C-0393-49C5-B40C-34AEFE05E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FED8-C859-44B0-A151-0A2395487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62F3-0AF0-4FD4-8720-93DC8DF39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323E-42C6-40C8-B787-A7F75DE13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E186-FFD9-40B8-B429-D1C020A95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7C41-EA65-4A3A-A717-32BB4026B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BD68-1AD2-4DEC-B552-4C626434B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CED5-687C-4E27-936C-B3A71DA6B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CF6B-13EF-4F44-9207-C147380CD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D6F5-2B57-4A1A-95D3-8608D380C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9DE6-AAC8-4E07-827F-BECE9F288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32239-9589-43BF-9052-E942048D06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844640"/>
            <a:ext cx="7777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"/>
              </a:rPr>
              <a:t>LA INSPECC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"/>
              </a:rPr>
              <a:t>PERSONAL DEL TRIBU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403280" y="2565360"/>
            <a:ext cx="6481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000000"/>
                </a:solidFill>
                <a:latin typeface="Arial"/>
              </a:rPr>
              <a:t>LAS PRESUNCION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08000" y="115920"/>
            <a:ext cx="88930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CONCEP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siste en el empleo por la ley o el tribunal de hechos o antecedentes conocidos para deducir o inferir de ellos hechos desconocidos sustanciales, pertinentes y contradictorios del proce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ELEMENTOS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1. H° o circunstancia conocida: la base o premisa de la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esun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2. El elemento lógico o actividad racional: se realiza a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artir del H° conocido para unirlo con el H° desconoci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3. H° presumido: que era desconocido y pasa a ser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termin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71280" y="-27000"/>
            <a:ext cx="896472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CLASIFICACION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Legale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el legislador det. el H° presumido partiendo del H° b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De derecho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establecida en la ley y acreditado el H° base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o es posible rendir prueba en contrar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aracterístic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1. La ley establece el H° presumido a partir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l H° b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2. Es necesario probar el hecho conoci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3. Acreditado el H° base se tiene por acreditado el hech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esumi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4. Acreditado el H° base se excluye prueba respecto del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hecho presumi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71280" y="117360"/>
            <a:ext cx="89647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Simplemente legales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establecidas por la ley  y constituy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or sí misma una prueba completa respecto del hech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esumido, pero se admite la rendición de prueba 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trar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aracterístic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 necesario probar el hecho b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 posible rendir prueba con el fin de destruir el hecho presumido como sobre el hecho b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altera la carga de la prueba, la parte que desee valerse el hecho presumido no deberá rendir prueba para acreditar su existencia, sino que deberá ser la parte que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see destruir su existenc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79280" y="165240"/>
            <a:ext cx="8748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JUDICIAL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es el juez quien establece el hecho presumido partiendo del hecho base o premis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ienen distinto tratamiento: en el CC y CP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1712 inc.f. CC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para constituir plena prueba las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esunciones  judiciales deben ser graves, precisas y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cordantes, es decir, deben ser  dos o má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426 inc.2 CPC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permite que una sola presunción judicial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ueda constituir plena prueba, cuando a juicio d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ribunal tenga caracteres de gravedad y  precisión  para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ormar su convencimi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42920" y="252360"/>
            <a:ext cx="8893080" cy="61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Las bases de las pres.ju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on creadas por el propio juez, y hay  casos en que la propia ley es la que establece la base sobre la cual se ha de constituir la presunción judi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Ámbito de aplicación pres.jud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.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 amplio, la mayoria de los hechos se pueden probar por pres.ju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imitación: no podrá probarse  por medio de pres.jud. los actos o contratos que NO puedan acreditarse por los hechos o  circunstancias que sirven de base a la presunción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Los actos o ctos. solemnes se prueban por la solemn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08000" y="115920"/>
            <a:ext cx="89647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Valor probatorio de las pres.jud.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el CC exige que sea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Grave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que la presunción sea ostensible; debe aparecer plenamente configurada de los H° base, que a partir de ellos exista un nexo causal que lleve como consecuencia lógica a la determinación del H° presumi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Precisa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no debe ser vaga, difusa y susceptible de conducir a conclusiones  divers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Concordante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ser armónicas, no contradictorias entre s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CPC modifica el CC: una sola presunción puede constituir plena prueba, si para el tribunal, es grave y precisa para formar su convencimi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sigue la idea de l CP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44360" y="260280"/>
            <a:ext cx="8820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el 427 CPC se encuentra 2 presunciones simplemente legales que constituyen medios específicos de prueba que señala el legislad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reputan verdaderos, salvo prueba en contrari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os hechos certificados en el proceso por un Ministro de F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os hechos declarados por la parte en otro juicio entre las mismas par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24000" y="250920"/>
            <a:ext cx="8640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CONCEPTO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xamen que el tribunal realiza por sí mismo de hechos o circunstancias materiales controvertidas en el pleito para adquirir la convicción acerca de su verdad o exactitu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ementos configurado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olo se acreditan hechos apreciados directamente por el tribu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olo se utiliza para apreciar circunstancias o hechos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ateri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68360" y="692280"/>
            <a:ext cx="8064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CARACTERISTIC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edio de prueba directo, los hechos son apreciados directamente por el tribu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edio de prueba circunstancial, se genera dentro del proce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stituye Plena Prueba, reuniéndose los requisitos que la ley estable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 común a todos los procedimientos, se constituye en ciertos casos en una diligencia obligato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06200" y="87480"/>
            <a:ext cx="90378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CLASIFICAC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De acuerdo a la manera como se practica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Extrajudicial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se realiza fuera del proceso sin que exista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solución judicial alguna que la ordene. Ccarece de todo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valor probator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Judicial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se realiza por el tribunal previa resolución judicial,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otificada a las par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De acuerdo al sujeto que la origina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) Iniciativa en la par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b) De oficio por el tribu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) Por la l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08000" y="44280"/>
            <a:ext cx="8928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INICIATIVA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Iniciativa Legal: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el caso de los asuntos que se tramitan íntegramente a través de la inspección del Tribuna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U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B) Iniciativa de parte: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dos oportunidad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Como Med.Prej. Probatoria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Las causales específic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) Peligro inminente de un daño o perjuic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b) Hechos que puedan fácilmente desapare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Durante el curso del juici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en 1° instanci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2° instancia, no es procede, salvo excepci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) Iniciativa del tribunal: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dos casos genéric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Durante el curso del Juici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cuando sea necesar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Medida para mejor resolver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50920" y="476280"/>
            <a:ext cx="864216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PROCEDENCI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) Casos en que la ley lo establece expresam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b) Casos en que sea necesario acreditar las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ircunstancias materiales mediante su examen directo por el tribunal: según la apreciación del tribu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08000" y="-27000"/>
            <a:ext cx="88930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PROCEDIMIENTO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i es por iniciativa de partes, la solicitud debe señal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1. Los H° materiales que pretenden que sean constat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2. La razón por la cual es necesaria su realiz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puede decretar que se lleve a cabo conjuntamente con oír informe de peritos en el reconocimi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tribunal dicta resolución fijando día y hora para su pract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Gastos: por el solicitante solicitante, si se decreta de oficio o ella es ordenada por la ley, los gastos se depositan por mitad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 excp. a la base orgánica de la territorialidad:  puede verificarse fuera del territorio jurisdiccional del tribu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 solo una facultad, si no es por exhor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1280" y="103320"/>
            <a:ext cx="89647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día y hora fijado el tribunal se constituye en el lugar de los hechos conjuntamente con  el secretario del tribunal. Si el tribunal es colegiado, podrá comisionar uno o más de sus miembr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ueden concurrir las partes, los abogados y los peri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 la diligencia se levanta Acta dejando constancia de todas las circunstancias o hechos materiales que el Tribunal observ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s partes pueden pedir que se consignen en el acta las circunstancias que estimen pertinent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Acta que se levante debe ser suscrita por el juez, las personas que asistieron, y autorizada por el Secretario del tribu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42920" y="179280"/>
            <a:ext cx="8893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VALOR PROBATORI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. 408 C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ara ser plena prueba, 3 requisi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1. Que la inspección recaiga sobre hechos o circunstancias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ateri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2. Que esos hechos o circunstancias materiales sean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sentados de acuerdo a las observaciones del tribu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3. Que se haya dejado constancia en el acta de dichos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hechos o circunstancias materi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03:55:56Z</dcterms:created>
  <dc:creator>Juan Esteban Pérez D.</dc:creator>
  <dc:description/>
  <dc:language>en-US</dc:language>
  <cp:lastModifiedBy>Juan Esteban Pérez Díaz</cp:lastModifiedBy>
  <dcterms:modified xsi:type="dcterms:W3CDTF">2005-06-11T22:48:45Z</dcterms:modified>
  <cp:revision>34</cp:revision>
  <dc:subject/>
  <dc:title>Diapositiva 1</dc:title>
</cp:coreProperties>
</file>