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0307-6BC2-4D8D-9C0C-B2AB10B8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8499-040B-4FC0-874B-18C969CC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D9A1-2908-471D-9644-0A8DC546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B789-2C0C-45A4-8AA6-3812A0AF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8091-38FE-440B-9BA0-FA36E26E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633E-69AF-485E-A794-CB983C57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963-DB29-4514-8485-C17E43EA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F90-FA58-4F54-88BA-4B9CB2AF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973-6C39-4BCA-B7E7-1AE9C481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F44-02C4-4FAD-B50C-85F00E1F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381B-089D-49C5-A44F-D151EA4C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471-5DF0-43EF-9788-7A59897D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1BAD-AE29-465F-AA3E-0C3B01327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981000"/>
            <a:ext cx="720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APITULO X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S ACTUACIONES JUDIC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26028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)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CON AUDIENCIA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69 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tribunal antes de decretarla confiere traslado por 3 días a la parte que no solicitó la actuación para que exponga lo que estime conven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genera de inmediato un inci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veída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"Traslado y autos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ctuación sólo se lleva a cabo una vez fallado el incidente y notificada esa resolución a l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229360"/>
            <a:ext cx="143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cit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229360"/>
            <a:ext cx="172728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sla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d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7640" y="5229360"/>
            <a:ext cx="1728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o del Inci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59640" y="5229360"/>
            <a:ext cx="208908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ción y cumpl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566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566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56360" y="566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2920" y="154080"/>
            <a:ext cx="8821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CON CITACIO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trib. acepta la solicitud y es notificada  a la contraria, pero se le da un plazo de 3 días, para que se oponga o deduzca observaciones, y se  suspende la diligencia hasta que se resuelva el incidente o vencido el plazo de 3 d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veida: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"Como se pide, con citación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N oposición ni observaciones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a actuación se  llevar a cabo inmediatamente de transcurrido el plazo desde  not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CON oposición u observaciones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origina a un incidente y se da traslado de la oposi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ctuación se cumple una vez notificada a las parte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resolución que falla el inci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765000"/>
            <a:ext cx="1428840" cy="7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cit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692280"/>
            <a:ext cx="2376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o se pide con cita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693720"/>
            <a:ext cx="31669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días para opon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2708280"/>
            <a:ext cx="1843200" cy="11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 o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4797360"/>
            <a:ext cx="16560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si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4797360"/>
            <a:ext cx="1584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Trasla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l solici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4724280"/>
            <a:ext cx="2663640" cy="12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llo del inci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oposición en 3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 en rebel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7080" y="4724280"/>
            <a:ext cx="20509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cumpl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528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3640" y="105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328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08360" y="5300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88000" y="5300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2708280"/>
            <a:ext cx="3167280" cy="12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mpli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encido el plazo de 3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623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CI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5364000" y="2781000"/>
            <a:ext cx="144360" cy="6624720"/>
          </a:xfrm>
          <a:custGeom>
            <a:avLst/>
            <a:gdLst>
              <a:gd name="textAreaLeft" fmla="*/ 0 w 144360"/>
              <a:gd name="textAreaRight" fmla="*/ 101160 w 144360"/>
              <a:gd name="textAreaTop" fmla="*/ 275760 h 6624720"/>
              <a:gd name="textAreaBottom" fmla="*/ 6348960 h 662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333360"/>
            <a:ext cx="86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CON CONOCIMIENTO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odrá llevar a cabo la actuación apenas sea notificada a las partes la resolución que la disp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"como se pid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” o "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como se pide con conocimien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4437000"/>
            <a:ext cx="15112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c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4437000"/>
            <a:ext cx="2835360" cy="12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ció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cumplimiento inmedi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4437000"/>
            <a:ext cx="316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o se pide, con conocimient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4941720"/>
            <a:ext cx="38880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64000" y="501336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1280" y="115920"/>
            <a:ext cx="89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E PLANO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está expresamente contemplada en el art. 69 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ctuación se decreta sin mayores formalidades ni espera de términos y notific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Se lleva a cabo de inmediato una vez ordenada por el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No necesita  notificación a las partes de la res. la ord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221000"/>
            <a:ext cx="22338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c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4221000"/>
            <a:ext cx="3960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o se p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mplimiento inmedi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465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6000" y="54100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ntemplada en el ordenamiento jurídico ya que las actuaciones deben ser ordenadas por resolución judicial, la que para producir efectos requiere ser notific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00000" y="620640"/>
            <a:ext cx="777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GLAM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s. 59 a 77 CCPC. Título VII del Libro 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tos jurídicos procesales, más o menos solemnes, realizados por o a través de tribunal, por las partes, los 3° o aux. adm. justicia, de las cuales se deja testimonio en el expediente y deben ser autorizadas por un ministro de 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549360"/>
            <a:ext cx="792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QUISITOS GENERALES DE VALI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-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ben realizarse ante o por orden del tribunal que conoce de la caus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actuaciones se efectúan previa orden o ante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orden del tribunal, por ej.: comparendo de discusión en el juicio sum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 el tribunal: por ej.: la rendición de una prueba de testig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8000" y="189000"/>
            <a:ext cx="885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ben realizarse en días y horas hábi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(59 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ías hábi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No feri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NO contemplados en el Feriado judicial: 1º de febrero hasta el 1° día hábil de Marzo inclusive. (313 C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ras hábi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08.00 - 20.00 h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“Habilitación de día u horas” (60 CPC): cuando haya causa urgente: Actuaciones cuya dilación pueda caus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 perjuicio a los interes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 perjuicio a la buena administración de justi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cer ilusoria una actuación jud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t. Pe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odos los días y horas son hábiles. (14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231840"/>
            <a:ext cx="856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be dejarse constancia escrita en el expedie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juez se pronuncia según el mérito del proceso, por lo que debe dejarse constancia de las actuaciones en el exped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toda actuación debe dejarse testimonio escrito en el proceso, con expresión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lug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día, mes y año en que se verifiqu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as formalidades con que se haya procedido,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ás indicaciones que la ley o el tribunal dispon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an todas las partes que hayan intervenido; y si alguna no sabe o se niega, se señalar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158760"/>
            <a:ext cx="8785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n practicarse por el funcionario que indica la ley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gla gr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todas las actuaciones necesarias del proceso se practicarán por el tribunal que conozca de la cau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xc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: casos que NO se realizarán ante el tribunal que cono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se encomienden expresamente por la ley a lo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retarios u otros ministros de 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se permita al tribunal delegar sus fu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la actuación haya de prestarse fuera del lugar e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se sigue el juicio. (exhor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n ser autorizadas por el Min.Fe o funcionario co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retario o rece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1280" y="4428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Q. ESPECIALES DE VALIDEZ DE ALGUNAS ACTUACIONES JU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demás de los requisitos generales, para determinadas actuaciones judiciales existen requisitos específicos de valide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EL JURAMENTO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la validez de la actuación judicial es necesario que uno de los intervinientes preste juramento, sea acerca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ir ver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) De desempeñar un cargo con fide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forma y la fórmula del juramento: art.62 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318960"/>
            <a:ext cx="856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INTERVENCION DE INTERPRETE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sea necesario se recurrirá al intérprete oficial, si lo hay; y en caso contrario, al que designe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n intérpretes oficiales: los del Departamento de Traductores e Interpretes de la dirección de los Servicios Centrales del Min. RRR.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intérpretes deben tener las condiciones requeridas para ser peritos y tienen el carácter de ministros de 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tan juramento para el fiel desempeño del c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119700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MAS EN QUE SE PUEDE ORDENAR UNA ACTUACION JUDICI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portan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ara determin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ocedimiento prev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instante a partir del cual puede llevarse ella a cab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00:06:26Z</dcterms:created>
  <dc:creator>Juan Esteban Pérez D.</dc:creator>
  <dc:description/>
  <dc:language>en-US</dc:language>
  <cp:lastModifiedBy>Juan Esteban Pérez D.</cp:lastModifiedBy>
  <dcterms:modified xsi:type="dcterms:W3CDTF">2005-05-26T02:01:18Z</dcterms:modified>
  <cp:revision>27</cp:revision>
  <dc:subject/>
  <dc:title>Diapositiva 1</dc:title>
</cp:coreProperties>
</file>