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75B0-880C-4DC4-9720-00CDD1BD4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61B1-A5C6-4F1D-8654-B92486BB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B64B-C17A-44B2-9333-A9F207AC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AB3D-C57A-4580-B327-CC9CD874C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4D2B-52DC-4461-A996-06343F6C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60B4-69BA-4476-ADBB-687A6B5C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AB95-E9BD-4BC6-8343-6CA66A9E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E63D-563F-4EBA-87BE-B0972344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D1D2-D525-42DF-8093-1E3F0F98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CD11-1E4B-441F-A041-88A09490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D568-CFAA-4F39-A886-FE832E24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E977-4911-43BD-B34D-3DACB391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FF1F-B5B0-41E7-9F61-4F4E4BEBA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981000"/>
            <a:ext cx="720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APITULO X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AS ACTUACIONES JUDICI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0920" y="260280"/>
            <a:ext cx="871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)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CON AUDIENCIA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69 C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tribunal antes de decretarla confiere traslado por 3 días a la parte que no solicitó la actuación para que exponga lo que estime conven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genera de inmediato un incid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veída: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"Traslado y autos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actuación sólo se lleva a cabo una vez fallado el incidente y notificada esa resolución a las par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5229360"/>
            <a:ext cx="143964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icitu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229360"/>
            <a:ext cx="172728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sla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d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27640" y="5229360"/>
            <a:ext cx="172872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o del Inci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59640" y="5229360"/>
            <a:ext cx="208908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ción y cumpl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5661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5661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56360" y="5661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42920" y="154080"/>
            <a:ext cx="8821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CON CITACION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trib. acepta la solicitud y es notificada  a la contraria, pero se le da un plazo de 3 días, para que se oponga o deduzca observaciones, y se  suspende la diligencia hasta que se resuelva el incidente o vencido el plazo de 3 d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veida: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"Como se pide, con citación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N oposición ni observaciones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la actuación se  llevar a cabo inmediatamente de transcurrido el plazo desde  notif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CON oposición u observaciones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origina a un incidente y se da traslado de la oposi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actuación se cumple una vez notificada a las parte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resolución que falla el incid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95280" y="765000"/>
            <a:ext cx="1428840" cy="7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icitu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692280"/>
            <a:ext cx="237636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o se pide con citaci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693720"/>
            <a:ext cx="31669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días para opone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2708280"/>
            <a:ext cx="1843200" cy="11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 opo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4797360"/>
            <a:ext cx="165600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osi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4797360"/>
            <a:ext cx="1584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Trasla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l solici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4360" y="4724280"/>
            <a:ext cx="2663640" cy="122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llo del inci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oposición en 3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 en rebeld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77080" y="4724280"/>
            <a:ext cx="20509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cumpl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3528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03640" y="1052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9640" y="328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08360" y="5300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88000" y="5300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68360" y="2708280"/>
            <a:ext cx="3167280" cy="12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umplimi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vencido el plazo de 3 dí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88000" y="6237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NCI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5364000" y="2781000"/>
            <a:ext cx="144360" cy="6624720"/>
          </a:xfrm>
          <a:custGeom>
            <a:avLst/>
            <a:gdLst>
              <a:gd name="textAreaLeft" fmla="*/ 0 w 144360"/>
              <a:gd name="textAreaRight" fmla="*/ 101160 w 144360"/>
              <a:gd name="textAreaTop" fmla="*/ 275760 h 6624720"/>
              <a:gd name="textAreaBottom" fmla="*/ 6348960 h 662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0920" y="333360"/>
            <a:ext cx="864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CON CONOCIMIENTO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podrá llevar a cabo la actuación apenas sea notificada a las partes la resolución que la dispu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"como se pid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” o "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como se pide con conocimient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4437000"/>
            <a:ext cx="151128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ic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4437000"/>
            <a:ext cx="2835360" cy="12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ció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cumplimiento inmedi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95640" y="4437000"/>
            <a:ext cx="3168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o se pide, con conocimient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35280" y="4941720"/>
            <a:ext cx="38880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64000" y="501336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1280" y="115920"/>
            <a:ext cx="89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DE PLANO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está expresamente contemplada en el art. 69 C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actuación se decreta sin mayores formalidades ni espera de términos y notific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Se lleva a cabo de inmediato una vez ordenada por el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No necesita  notificación a las partes de la res. la orde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4221000"/>
            <a:ext cx="2233800" cy="8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ic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4221000"/>
            <a:ext cx="3960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o se p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mplimiento inmedi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465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6000" y="541008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ntemplada en el ordenamiento jurídico ya que las actuaciones deben ser ordenadas por resolución judicial, la que para producir efectos requiere ser notific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00000" y="620640"/>
            <a:ext cx="7777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REGLAMEN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ts. 59 a 77 CCPC. Título VII del Libro 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NCEP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tos jurídicos procesales, más o menos solemnes, realizados por o a través de tribunal, por las partes, los 3° o aux. adm. justicia, de las cuales se deja testimonio en el expediente y deben ser autorizadas por un ministro de 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11280" y="549360"/>
            <a:ext cx="7921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QUISITOS GENERALES DE VALI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-D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ben realizarse ante o por orden del tribunal que conoce de la caus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actuaciones se efectúan previa orden o ante 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 orden del tribunal, por ej.: comparendo de discusión en el juicio sum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 el tribunal: por ej.: la rendición de una prueba de testig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8000" y="189000"/>
            <a:ext cx="8856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ben realizarse en días y horas hábi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(59 C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ías hábi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No feri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NO contemplados en el Feriado judicial: 1º de febrero hasta el 1° día hábil de Marzo inclusive. (313 C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ras hábi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08.00 - 20.00 h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“Habilitación de día u horas” (60 CPC): cuando haya causa urgente: Actuaciones cuya dilación pueda caus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ve perjuicio a los interesa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ve perjuicio a la buena administración de justi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cer ilusoria una actuación judi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t. Pe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odos los días y horas son hábiles. (14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231840"/>
            <a:ext cx="8569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-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be dejarse constancia escrita en el expedien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juez se pronuncia según el mérito del proceso, por lo que debe dejarse constancia de las actuaciones en el exped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toda actuación debe dejarse testimonio escrito en el proceso, con expresión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lug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día, mes y año en que se verifiqu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las formalidades con que se haya procedido,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ás indicaciones que la ley o el tribunal dispong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man todas las partes que hayan intervenido; y si alguna no sabe o se niega, se señalar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9280" y="158760"/>
            <a:ext cx="8785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eben practicarse por el funcionario que indica la ley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Regla gr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todas las actuaciones necesarias del proceso se practicarán por el tribunal que conozca de la cau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xc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: casos que NO se realizarán ante el tribunal que cono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ando se encomienden expresamente por la ley a lo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cretarios u otros ministros de 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ando se permita al tribunal delegar sus fun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ando la actuación haya de prestarse fuera del lugar en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se sigue el juicio. (exhor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eben ser autorizadas por el Min.Fe o funcionario co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cretario o recep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1280" y="4428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REQ. ESPECIALES DE VALIDEZ DE ALGUNAS ACTUACIONES JU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demás de los requisitos generales, para determinadas actuaciones judiciales existen requisitos específicos de valide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EL JURAMENTO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la validez de la actuación judicial es necesario que uno de los intervinientes preste juramento, sea acerca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cir ver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) De desempeñar un cargo con fide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forma y la fórmula del juramento: art.62 C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318960"/>
            <a:ext cx="856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INTERVENCION DE INTERPRETE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ando sea necesario se recurrirá al intérprete oficial, si lo hay; y en caso contrario, al que designe 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n intérpretes oficiales: los del Departamento de Traductores e Interpretes de la dirección de los Servicios Centrales del Min. RRR.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intérpretes deben tener las condiciones requeridas para ser peritos y tienen el carácter de ministros de 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tan juramento para el fiel desempeño del car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71640" y="119700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MAS EN QUE SE PUEDE ORDENAR UNA ACTUACION JUDICI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portanc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ara determin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procedimiento prev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instante a partir del cual puede llevarse ella a cab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00:06:26Z</dcterms:created>
  <dc:creator>Juan Esteban Pérez D.</dc:creator>
  <dc:description/>
  <dc:language>en-US</dc:language>
  <cp:lastModifiedBy>Juan Esteban Pérez D.</cp:lastModifiedBy>
  <dcterms:modified xsi:type="dcterms:W3CDTF">2005-05-26T02:01:18Z</dcterms:modified>
  <cp:revision>27</cp:revision>
  <dc:subject/>
  <dc:title>Diapositiva 1</dc:title>
</cp:coreProperties>
</file>