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486-3793-4A7F-A9BF-F8424AA5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ECB-9B8F-4A7C-9326-23B10B78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2E1-17C2-47A4-ACA3-A890A85C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B23-1BEA-4695-BEDE-91B0B9A6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DBE-E66A-44A8-A084-35056C52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13C-85C6-47B7-841F-5D2DACB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C18-02F4-4984-853B-1C12549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714-EF7B-4E78-864C-D5FF428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EEB-A14C-4227-93CB-54819017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BEE-C64E-4B0D-8463-9D1C766B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005-DBB5-45AB-A7F8-E43BE07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C66-EAFE-4884-B34D-C217C37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2143-A91E-4640-BB14-6AF5AD7B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98100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ULO X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 ACTUACIONES JUDI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AUDIENCI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6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unal antes de decretarla confiere traslado por 3 días a la parte que no solicitó la actuación para que exponga lo que estime conven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genera de inmediato un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íd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Traslado y auto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ólo se lleva a cabo una vez fallado el incidente y notificada esa resolución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143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229360"/>
            <a:ext cx="17272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5229360"/>
            <a:ext cx="1728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5229360"/>
            <a:ext cx="20890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566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2920" y="154080"/>
            <a:ext cx="8821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ITACI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. acepta la solicitud y es notificada  a la contraria, pero se le da un plazo de 3 días, para que se oponga o deduzca observaciones, y se  suspende la diligencia hasta que se resuelva el incidente o vencido el plazo de 3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ida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"Como se pide, con citación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N oposición ni observacione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actuación se  llevar a cabo inmediatamente de transcurrido el plazo desde  no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CON oposición u observacione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rigina a un incidente y se da traslado de la o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cumple una vez notificada a las part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resolución que falla el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765000"/>
            <a:ext cx="1428840" cy="7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69228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 con cit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693720"/>
            <a:ext cx="31669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ías para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708280"/>
            <a:ext cx="1843200" cy="11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o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4797360"/>
            <a:ext cx="1656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s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79736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solici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4724280"/>
            <a:ext cx="266364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oposición en 3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en rebel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724280"/>
            <a:ext cx="2050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105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2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5300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530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708280"/>
            <a:ext cx="3167280" cy="12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mpl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ncido el plazo de 3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CI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364000" y="2781000"/>
            <a:ext cx="144360" cy="6624720"/>
          </a:xfrm>
          <a:custGeom>
            <a:avLst/>
            <a:gdLst>
              <a:gd name="textAreaLeft" fmla="*/ 0 w 144360"/>
              <a:gd name="textAreaRight" fmla="*/ 101160 w 144360"/>
              <a:gd name="textAreaTop" fmla="*/ 275760 h 6624720"/>
              <a:gd name="textAreaBottom" fmla="*/ 6348960 h 66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33336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ONOCIMI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odrá llevar a cabo la actuación apenas sea notificada a las partes la resolución que la disp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como se pi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o "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o se pide con conocimien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437000"/>
            <a:ext cx="1511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437000"/>
            <a:ext cx="2835360" cy="12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4437000"/>
            <a:ext cx="316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, con conocimi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941720"/>
            <a:ext cx="3888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50133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1280" y="11592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E PLAN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expresamente contemplada en el art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decreta sin mayores formalidades ni espera de términos y notif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e lleva a cabo de inmediato una vez ordenada por el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o necesita  notificación a las partes de la res. la ord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221000"/>
            <a:ext cx="22338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396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limiento inmed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00" y="54100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emplada en el ordenamiento jurídico ya que las actuaciones deben ser ordenadas por resolución judicial, la que para producir efectos requiere ser not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620640"/>
            <a:ext cx="777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59 a 77 CCPC. Título VII del Libro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os jurídicos procesales, más o menos solemnes, realizados por o a través de tribunal, por las partes, los 3° o aux. adm. justicia, de las cuales se deja testimonio en el expediente y deben ser autorizadas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4936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SITOS GENERALES DE VAL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ben realizarse ante o por orden del tribunal que conoce de la cau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actuaciones se efectúan previa orden o ant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orden del tribunal, por ej.: comparendo de discusión en el juicio sum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 el tribunal: por ej.: la rendición de una prueba de test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89000"/>
            <a:ext cx="885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n realizarse en días y horas háb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(5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í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fer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contemplados en el Feriado judicial: 1º de febrero hasta el 1° día hábil de Marzo inclusive. (313 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8.00 - 20.00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Habilitación de día u horas” (60 CPC): cuando haya causa urgente: Actuaciones cuya dilación pueda cau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os interes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a buena administración de justi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r ilusoria una actuación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. Pe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dos los días y horas son hábiles. (1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3184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 dejarse constancia escrita en el expedi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juez se pronuncia según el mérito del proceso, por lo que debe dejarse constancia de las actuaciones en el expe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oda actuación debe dejarse testimonio escrito en el proceso, con expresió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l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día, mes y año en que se verif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s formalidades con que se haya procedido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ás indicaciones que la ley o el tribunal dispo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an todas las partes que hayan intervenido; y si alguna no sabe o se niega, se señal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5876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practicarse por el funcionario que indica la le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 gr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odas las actuaciones necesarias del proceso se practicarán por el tribunal que conozca de la ca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casos que NO se realizarán ante el tribunal que cono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encomienden expresamente por la ley a 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s u otros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permita al tribunal deleg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la actuación haya de prestarse fuera del lugar e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se sigue el juicio. (exhor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ser autorizadas por el Min.Fe o funcionario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 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Q. ESPECIALES DE VALIDEZ DE ALGUNAS ACTUACIONES JU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más de los requisitos generales, para determinadas actuaciones judiciales existen requisitos específicos de valid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EL JURAM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la validez de la actuación judicial es necesario que uno de los intervinientes preste juramento, sea acerc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r ver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De desempeñar un cargo con fide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orma y la fórmula del juramento: art.62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1896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INTERVENCION DE INTERPRET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a necesario se recurrirá al intérprete oficial, si lo hay; y en caso contrario, al que design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intérpretes oficiales: los del Departamento de Traductores e Interpretes de la dirección de los Servicios Centrales del Min. R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térpretes deben tener las condiciones requeridas para ser peritos y tienen el carácter de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tan juramento para el fiel desempeño del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197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S EN QUE SE PUEDE ORDENAR UNA ACTUACION JUDI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a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cedimiento pre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stante a partir del cual puede llevarse ella a ca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0:06:26Z</dcterms:created>
  <dc:creator>Juan Esteban Pérez D.</dc:creator>
  <dc:description/>
  <dc:language>en-US</dc:language>
  <cp:lastModifiedBy>Juan Esteban Pérez D.</cp:lastModifiedBy>
  <dcterms:modified xsi:type="dcterms:W3CDTF">2005-05-26T02:01:18Z</dcterms:modified>
  <cp:revision>27</cp:revision>
  <dc:subject/>
  <dc:title>Diapositiva 1</dc:title>
</cp:coreProperties>
</file>