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A999-4045-4377-AC18-B2CAD985AD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pueden ser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ES/COL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ES/SIMBOL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Individuales incluye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nero/servici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titución de prop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Colectivas incluy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lud/educacion/servicios habit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simbólicas individuales incluy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ciones o cartas formales de perd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taurar el nombre de las víct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colectivas incluye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acios públicos (parques/muesos/mem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B7EA-3F87-4102-8425-F471F4BF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FA9A-2E4F-41F1-A395-42D1B5C9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31E6-735E-4D6D-B2ED-8BEA9612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CF7E-6E49-4A29-84DF-DBEE9942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E0BB-6F03-40DA-AAFC-618A4326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B2FB-FB79-4800-9550-8904562A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8B54-DAFF-40C1-907A-A02B1B57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5E28-E08A-4617-BA78-AE477CD2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0E2F-A4E5-4606-A7CE-262AC36E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6814-069A-4DBF-BFEC-9DC5E1CC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3A00-9358-432B-BF16-CA496F0E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6DA3-A608-4AA7-8AE3-DAE4EDD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F48A-0404-4B0B-88D3-E2CF62E1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65A5-58C7-4A31-8E9E-A63310BA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CCD5-A0FA-4B0F-A0E0-C8692917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9F86-D0C3-4832-B540-84091A69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5BC2-0012-4992-A239-B71490EE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A07E-D65D-4BE0-80C4-DDE4C673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66BF-B0E6-448B-9BCA-C369737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D4D2-4E98-458E-89A3-3E91A89B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F690-9CC2-40BC-A0FB-E8EFABA2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276A-7ED8-47B9-8FEF-062FEF6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D243-7B03-484C-8896-141FC84F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FF30-2CEE-4EE0-B7AA-07EC1ED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B71-FF7D-4560-BA7B-697652B110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D6FB-5F57-42CB-80BD-C200B5F753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Evolución Históric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48392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eriores II Guerra Mundial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Nuremberg y Tok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eriors década de los ochen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ntecedente remoto: Gre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rgentina: transición post-guerra Malvin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hile/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entroamér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-guerra f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uropa ori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026000" y="685440"/>
            <a:ext cx="7020720" cy="5372640"/>
            <a:chOff x="1026000" y="685440"/>
            <a:chExt cx="7020720" cy="5372640"/>
          </a:xfrm>
        </p:grpSpPr>
        <p:sp>
          <p:nvSpPr>
            <p:cNvPr id="110" name=""/>
            <p:cNvSpPr/>
            <p:nvPr/>
          </p:nvSpPr>
          <p:spPr>
            <a:xfrm>
              <a:off x="3132000" y="2514600"/>
              <a:ext cx="2632680" cy="1714680"/>
            </a:xfrm>
            <a:prstGeom prst="donut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Justicia Transic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9360" y="4915080"/>
              <a:ext cx="245736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 Económic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demnizacione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360" y="685440"/>
              <a:ext cx="245736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taurativ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paracion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dad y Memo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6000" y="685440"/>
              <a:ext cx="245700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Justicia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riminal justice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etribu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Preven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ehabilitat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6000" y="4915080"/>
              <a:ext cx="245700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 soci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moria colectiva Rehabili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ncili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5" name=""/>
            <p:cNvCxnSpPr>
              <a:stCxn id="110" idx="5"/>
              <a:endCxn id="111" idx="0"/>
            </p:cNvCxnSpPr>
            <p:nvPr/>
          </p:nvCxnSpPr>
          <p:spPr>
            <a:xfrm>
              <a:off x="5379480" y="3987720"/>
              <a:ext cx="143856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0" idx="3"/>
              <a:endCxn id="114" idx="0"/>
            </p:cNvCxnSpPr>
            <p:nvPr/>
          </p:nvCxnSpPr>
          <p:spPr>
            <a:xfrm flipH="1">
              <a:off x="2253600" y="3987720"/>
              <a:ext cx="126324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0" idx="1"/>
              <a:endCxn id="113" idx="2"/>
            </p:cNvCxnSpPr>
            <p:nvPr/>
          </p:nvCxnSpPr>
          <p:spPr>
            <a:xfrm flipH="1" flipV="1">
              <a:off x="2253600" y="1842480"/>
              <a:ext cx="126324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0" idx="7"/>
              <a:endCxn id="112" idx="2"/>
            </p:cNvCxnSpPr>
            <p:nvPr/>
          </p:nvCxnSpPr>
          <p:spPr>
            <a:xfrm flipV="1">
              <a:off x="5379480" y="1842480"/>
              <a:ext cx="143856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r qué confrontar el pasado?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en-GB" sz="3000" spc="-1" strike="noStrike">
                <a:solidFill>
                  <a:srgbClr val="ffffcc"/>
                </a:solidFill>
                <a:latin typeface="Arial"/>
              </a:rPr>
              <a:t>Para fortalecer la democr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Imperativo mo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Terminar con la impun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vitar que los hechos se repitan en el futur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5e5ff"/>
                </a:solidFill>
                <a:latin typeface="Garamond"/>
              </a:rPr>
              <a:t>Mecanismos de la Justicia Transicional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canismos de búsqueda de la verdad y verificación de hech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didas de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formas institucion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moria colect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Mecanismos Judicial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Garamond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nacion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Internacionales y Tribunales Híbri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Corte Penal Interna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Jurisdicción Univers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canismos Regionales de Derechos Human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otivaciones de las Comisiones de Verda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68011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vestigación de crím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dentificación de los órganos y/o individuos represor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conocimiento de las Víct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segurar la memoria colect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roveer bases para la acción esta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vanzar en la reconciliación na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Formas de Reparació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pueden ser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DIVIDUALES/COLECTIV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ATERIALES/SIMBOL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Individuale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Colectiva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simbólicas individuale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colectiva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2:42:35Z</dcterms:created>
  <dc:creator>claudio</dc:creator>
  <dc:description/>
  <dc:language>en-US</dc:language>
  <cp:lastModifiedBy>claudio</cp:lastModifiedBy>
  <dcterms:modified xsi:type="dcterms:W3CDTF">2004-10-25T11:58:42Z</dcterms:modified>
  <cp:revision>2</cp:revision>
  <dc:subject/>
  <dc:title>Diapositiva 1</dc:title>
</cp:coreProperties>
</file>