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move the slide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E988-85AE-4E17-A04F-9295A94EEA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pueden ser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NDIVIDUALES/COLECTIV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ATERIALES/SIMBOLIC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Individuale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inero/servicios financier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itución de propie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Salud/educacion/servicios habitacion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simbólicas individuales incluyen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Declaraciones o cartas formales de perdó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Restaurar el nombre de las vícti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Reparaciones colectivas incluyen: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Espacios públicos (parques/muesos/memori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4719-7F0B-450A-BA40-CFC31C8A24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47A22-B83B-4EFA-A023-C7443B784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56E116-EF66-4225-86DD-4BB1DF690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991871-1838-4B8B-A00F-4F02397F6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D26CE-BD5A-4F2B-BB72-EE49BA4AE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91E79-7A3F-4AE1-81D0-CE49E68EF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5926C-9839-4D22-A8C5-2AE670F1F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5E268-55F0-493D-B85A-85D7B0E15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A221-F8A0-4F63-8CC3-F625F86E1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E01BF-C3D2-436F-95CB-A641B39AA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A056-79C1-4926-BA43-A2DE708E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3DDAC-2FF8-421A-8C3A-784C6166E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68EE-249D-400E-8772-5DFBF9A9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7AEF8-81AF-461C-B2B5-7FA57611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9BF67-AA47-41CB-8E79-4FF365A70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95483-F60C-4CA7-9FC5-64BE3CF98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04447-D5A7-45A9-9AE7-83750ECEC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FFB3C-A817-4FDF-8D59-DF538C81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EB1FC-4D47-4AE4-AEE3-34E0353D9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1C312-36F6-44B5-A807-ECFA09D6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5437B-EACE-4398-8DDD-D69E257CA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82A7B-28C2-4CCC-942F-90359F92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1746E5-220D-42C8-9DF1-99FF4E7AC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6EECFC-BB3E-4724-957B-77C940FD0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E9891-CA7D-4FB1-B599-200D9F90B4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F031-8FB0-49E4-B993-B1DCD9D828C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5e5ff"/>
                </a:solidFill>
                <a:latin typeface="Garamond"/>
              </a:rPr>
              <a:t>Evolución Histórica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1483920"/>
            <a:ext cx="6400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es II Guerra Mundial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Nuremberg y Tokio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eriors década de los ochent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ntecedente remoto: Greci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rgentina: transición post-guerra Malvin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hile/Uruguay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entroamé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Casos post-guerra frí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Europa orien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Sudáfric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"/>
          <p:cNvGrpSpPr/>
          <p:nvPr/>
        </p:nvGrpSpPr>
        <p:grpSpPr>
          <a:xfrm>
            <a:off x="1026000" y="685440"/>
            <a:ext cx="7020720" cy="5372640"/>
            <a:chOff x="1026000" y="685440"/>
            <a:chExt cx="7020720" cy="5372640"/>
          </a:xfrm>
        </p:grpSpPr>
        <p:sp>
          <p:nvSpPr>
            <p:cNvPr id="110" name=""/>
            <p:cNvSpPr/>
            <p:nvPr/>
          </p:nvSpPr>
          <p:spPr>
            <a:xfrm>
              <a:off x="3132000" y="2514600"/>
              <a:ext cx="2632680" cy="1714680"/>
            </a:xfrm>
            <a:prstGeom prst="donut">
              <a:avLst>
                <a:gd name="adj" fmla="val 25000"/>
              </a:avLst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ff"/>
                  </a:solidFill>
                  <a:latin typeface="Arial"/>
                </a:rPr>
                <a:t>Justicia Transiciona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89360" y="491508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Económic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Indemnizaciones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589360" y="685440"/>
              <a:ext cx="245736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taurativa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paracione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Verdad y Memoria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026000" y="68544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Arial"/>
                </a:rPr>
                <a:t>Justicia </a:t>
              </a: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Criminal justice: 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tribu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Preven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Arial"/>
                </a:rPr>
                <a:t>Rehabilitat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6000" y="4915080"/>
              <a:ext cx="2457000" cy="1143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usticia social: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Memoria colectiva Rehabilit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conciliació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115" name=""/>
            <p:cNvCxnSpPr>
              <a:stCxn id="110" idx="5"/>
              <a:endCxn id="111" idx="0"/>
            </p:cNvCxnSpPr>
            <p:nvPr/>
          </p:nvCxnSpPr>
          <p:spPr>
            <a:xfrm>
              <a:off x="5379480" y="398772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6" name=""/>
            <p:cNvCxnSpPr>
              <a:stCxn id="110" idx="3"/>
              <a:endCxn id="114" idx="0"/>
            </p:cNvCxnSpPr>
            <p:nvPr/>
          </p:nvCxnSpPr>
          <p:spPr>
            <a:xfrm flipH="1">
              <a:off x="2253600" y="398772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7" name=""/>
            <p:cNvCxnSpPr>
              <a:stCxn id="110" idx="1"/>
              <a:endCxn id="113" idx="2"/>
            </p:cNvCxnSpPr>
            <p:nvPr/>
          </p:nvCxnSpPr>
          <p:spPr>
            <a:xfrm flipH="1" flipV="1">
              <a:off x="2253600" y="1842480"/>
              <a:ext cx="126324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0" idx="7"/>
              <a:endCxn id="112" idx="2"/>
            </p:cNvCxnSpPr>
            <p:nvPr/>
          </p:nvCxnSpPr>
          <p:spPr>
            <a:xfrm flipV="1">
              <a:off x="5379480" y="1842480"/>
              <a:ext cx="1438560" cy="9136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Por qué confrontar el pasado?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1332000" y="1916280"/>
            <a:ext cx="6400800" cy="44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cc"/>
                </a:solidFill>
                <a:latin typeface="Garamond"/>
              </a:rPr>
              <a:t>  </a:t>
            </a: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Para fortalecer la democracia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Imperativo moral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Terminar con la impunida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1" lang="es-ES" sz="2800" spc="-1" strike="noStrike">
                <a:solidFill>
                  <a:srgbClr val="ffffcc"/>
                </a:solidFill>
                <a:latin typeface="Arial"/>
              </a:rPr>
              <a:t>Evitar que los hechos se repitan en el futuro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e5e5ff"/>
                </a:solidFill>
                <a:latin typeface="Garamond"/>
              </a:rPr>
              <a:t>Mecanismos de la Justicia Transicional 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1699920"/>
            <a:ext cx="64008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de búsqueda de la verdad y verificación de hecho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didas de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ó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formas institu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Mecanismos Judiciales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1628640"/>
            <a:ext cx="6400800" cy="41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Garamond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nacional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ribunales Internacionales y Tribunales Híbrid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La Corte Penal Inter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Jurisdicción Univers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ecanismos Regionales de Derechos Humano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5e5ff"/>
                </a:solidFill>
                <a:latin typeface="Garamond"/>
              </a:rPr>
              <a:t>Motivaciones de las Comisiones de Verdad</a:t>
            </a:r>
            <a:endParaRPr b="1" lang="en-US" sz="32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900000" y="1484280"/>
            <a:ext cx="68011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vestigación de crímene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s-ES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dentificación de los órganos y/o individuos represores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conocimiento de las Víctim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segurar la memoria colectiva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oveer bases para la acción estat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 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vanzar en la reconciliación naciona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e5e5ff"/>
                </a:solidFill>
                <a:latin typeface="Garamond"/>
              </a:rPr>
              <a:t>Formas de Reparación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1484280"/>
            <a:ext cx="64008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pueden ser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INDIVIDUALES/COLECTIV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>
              <a:lnSpc>
                <a:spcPct val="8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ATERIALES/SIMBOLICAS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simbólicas individuale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Reparaciones colectivas incluyen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2T12:42:35Z</dcterms:created>
  <dc:creator>claudio</dc:creator>
  <dc:description/>
  <dc:language>en-US</dc:language>
  <cp:lastModifiedBy>claudio</cp:lastModifiedBy>
  <dcterms:modified xsi:type="dcterms:W3CDTF">2004-10-25T11:58:42Z</dcterms:modified>
  <cp:revision>2</cp:revision>
  <dc:subject/>
  <dc:title>Diapositiva 1</dc:title>
</cp:coreProperties>
</file>