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1CAD-E601-4991-A5B8-B5D33DDCD8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pueden ser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ES/COL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ES/SIMBOL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Individuales incluye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nero/servici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titución de prop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Colectivas incluy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lud/educacion/servicios habit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simbólicas individuales incluy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ciones o cartas formales de perd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taurar el nombre de las víct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colectivas incluye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pacios públicos (parques/muesos/mem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A423-B733-476F-A4A2-771940F2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86BC-F65F-4C5C-BF8F-5F7759FB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CC7D-4263-48C8-9862-E6F46EFE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A747-EFF4-4CEA-B67D-92CC7280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EF69-7F0E-4589-BF1F-EFFE2531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63B1-01B6-44C8-9C77-C48939F8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0168-F826-4FF7-AAE5-E63CA3AE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9143-0B10-4938-8402-205DE8A8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471B-0201-40D4-915F-AA3D743D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5B87-2A48-4126-8659-6575CE82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1D1C-C455-4982-969B-7173C801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2F1E-2E34-4042-8AE1-BFF857A5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B282-BF1E-4475-9CD6-447DB8F8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EAD2-3BA7-461A-9860-7BCD5B55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0314-716A-4AE3-9228-12D736C6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644C-1127-449A-886D-5F1C62C3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6D82-0F22-4639-A42A-04078BF0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396E-D0BA-4120-A9CF-A2CDAC42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0FC6-40C4-4A48-9182-8487D1D3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A1D4-E664-4E47-9D99-FE2470F3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CD28-BFC5-4175-A638-95328BEF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2CC6-083E-4953-8637-16734B93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0BB6-BC0C-4BCF-9356-03B2DD22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4D60-9D5C-4F6D-85BC-4BBA385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89AD-D90F-4C33-9B66-948DFF9C20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6A69-1842-43C7-A8DC-A35C8853B2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Evolución Históric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483920"/>
            <a:ext cx="6400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eriores II Guerra Mundial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Nuremberg y Tok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eriors década de los ochen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ntecedente remoto: Gre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rgentina: transición post-guerra Malvin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hile/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entroamér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-guerra f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uropa orien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026000" y="685440"/>
            <a:ext cx="7020720" cy="5372640"/>
            <a:chOff x="1026000" y="685440"/>
            <a:chExt cx="7020720" cy="5372640"/>
          </a:xfrm>
        </p:grpSpPr>
        <p:sp>
          <p:nvSpPr>
            <p:cNvPr id="110" name=""/>
            <p:cNvSpPr/>
            <p:nvPr/>
          </p:nvSpPr>
          <p:spPr>
            <a:xfrm>
              <a:off x="3132000" y="2514600"/>
              <a:ext cx="2632680" cy="1714680"/>
            </a:xfrm>
            <a:prstGeom prst="donut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Justicia Transic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89360" y="4915080"/>
              <a:ext cx="245736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 Económic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demnizacione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360" y="685440"/>
              <a:ext cx="245736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taurativ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paracion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dad y Memo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6000" y="685440"/>
              <a:ext cx="245700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Justicia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riminal justice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etribu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Preven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ehabilitat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6000" y="4915080"/>
              <a:ext cx="245700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 soci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moria colectiva Rehabili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ncili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5" name=""/>
            <p:cNvCxnSpPr>
              <a:stCxn id="110" idx="5"/>
              <a:endCxn id="111" idx="0"/>
            </p:cNvCxnSpPr>
            <p:nvPr/>
          </p:nvCxnSpPr>
          <p:spPr>
            <a:xfrm>
              <a:off x="5379480" y="3987720"/>
              <a:ext cx="143856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0" idx="3"/>
              <a:endCxn id="114" idx="0"/>
            </p:cNvCxnSpPr>
            <p:nvPr/>
          </p:nvCxnSpPr>
          <p:spPr>
            <a:xfrm flipH="1">
              <a:off x="2253600" y="3987720"/>
              <a:ext cx="126324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0" idx="1"/>
              <a:endCxn id="113" idx="2"/>
            </p:cNvCxnSpPr>
            <p:nvPr/>
          </p:nvCxnSpPr>
          <p:spPr>
            <a:xfrm flipH="1" flipV="1">
              <a:off x="2253600" y="1842480"/>
              <a:ext cx="126324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10" idx="7"/>
              <a:endCxn id="112" idx="2"/>
            </p:cNvCxnSpPr>
            <p:nvPr/>
          </p:nvCxnSpPr>
          <p:spPr>
            <a:xfrm flipV="1">
              <a:off x="5379480" y="1842480"/>
              <a:ext cx="143856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r qué confrontar el pasado?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en-GB" sz="3000" spc="-1" strike="noStrike">
                <a:solidFill>
                  <a:srgbClr val="ffffcc"/>
                </a:solidFill>
                <a:latin typeface="Arial"/>
              </a:rPr>
              <a:t>Para fortalecer la democr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Imperativo mor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Terminar con la impun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Evitar que los hechos se repitan en el futur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5e5ff"/>
                </a:solidFill>
                <a:latin typeface="Garamond"/>
              </a:rPr>
              <a:t>Mecanismos de la Justicia Transicional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canismos de búsqueda de la verdad y verificación de hech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didas de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formas institucion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moria colect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Mecanismos Judicial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Garamond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nacion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Internacionales y Tribunales Híbri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Corte Penal Interna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Jurisdicción Univers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canismos Regionales de Derechos Human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otivaciones de las Comisiones de Verdad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68011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nvestigación de crím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dentificación de los órganos y/o individuos represor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conocimiento de las Víct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segurar la memoria colect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roveer bases para la acción esta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vanzar en la reconciliación na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Formas de Reparació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pueden ser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NDIVIDUALES/COLECTIV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ATERIALES/SIMBOL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Individuale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Colectiva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simbólicas individuale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colectiva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2:42:35Z</dcterms:created>
  <dc:creator>claudio</dc:creator>
  <dc:description/>
  <dc:language>en-US</dc:language>
  <cp:lastModifiedBy>claudio</cp:lastModifiedBy>
  <dcterms:modified xsi:type="dcterms:W3CDTF">2004-10-25T11:58:42Z</dcterms:modified>
  <cp:revision>2</cp:revision>
  <dc:subject/>
  <dc:title>Diapositiva 1</dc:title>
</cp:coreProperties>
</file>