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25BF-5C86-41CA-A951-37D7E7C0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5D2C-7C11-4E4E-97CD-BEC9566A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2BD6-60DE-4CA3-93F3-C61CA96E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331A-CB29-4FB4-9912-603CAC84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4AB7-7D37-42EA-81B5-37FDC14A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416A-AD38-4663-8DD7-DFD99113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86D9-65F1-48E0-A8BE-076D6AE3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30CB-1D2E-4EFD-9C23-6F9CCB1E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C11C-B815-45B9-88DA-F2BB584B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93BD-93E3-45C2-B120-439544AD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4190-6EED-4DDC-B982-5576E22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7585-6D4C-42B9-B215-6E562822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6143-57E1-404D-8818-80657AFA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4C5F-A70A-4E3E-AAF0-7C1D4922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EEA4-626B-4BE3-9B55-C7E457D3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B618-9632-4CA0-96AA-88829C6B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A4D8-CC93-4B15-BD7D-387E5ACC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1CF3-CE05-4346-8B83-DCF87C39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0751-70BB-43D4-A4D1-7CAE104B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50A3-8B7C-481A-9B73-F8F68372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BD2D-1BA5-4553-A529-BCABFD07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78BA-6D67-4D7A-B2A8-3067850A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07E2-DF8D-4FFE-A124-1FE1CD2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7B9A-5FEE-456A-8AB2-75021AFC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F577-818A-4B0C-BBB0-B3CE02FD27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926A-E801-4F2C-A1BA-6A714D4221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68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MENTOS DE ETICA POLITICA DEMOCRA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1989000"/>
            <a:ext cx="772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FUND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FUNCIONAMIENTO SOSTENIBLE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GRAVE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REFUND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2200" y="279360"/>
            <a:ext cx="62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GRAVE CRI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2200" y="1622520"/>
            <a:ext cx="68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RMAS SOBRE REGÍMENES DE EME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ECHO INTERNACIONAL HUMA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9360"/>
            <a:ext cx="92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REFUND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5120" y="1479600"/>
            <a:ext cx="56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557360"/>
            <a:ext cx="72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CIONANTES 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CRI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VIOL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TRAN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7400" y="2080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143000"/>
            <a:ext cx="869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MILITAR 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ASCO MILITAR SIN PÉRDIDA DE CONTROL DE MONOPOLIO DE LAS A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POLI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ERTURA GRA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ATE MIL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IANZAS CAMBIANTES EN COMFLICTO QUE CONTINÚ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74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276640"/>
            <a:ext cx="85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LAPSO DE SISTEMAS TOTALITARI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FLICTOS ET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DÁ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5:22:01Z</dcterms:created>
  <dc:creator>carolina</dc:creator>
  <dc:description/>
  <dc:language>en-US</dc:language>
  <cp:lastModifiedBy>claudio</cp:lastModifiedBy>
  <dcterms:modified xsi:type="dcterms:W3CDTF">2004-10-22T13:37:58Z</dcterms:modified>
  <cp:revision>7</cp:revision>
  <dc:subject/>
  <dc:title>Diapositiva 1</dc:title>
</cp:coreProperties>
</file>