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BF282-8707-4FA1-A974-AB209996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6A52-173B-4E0B-8E99-11FEDFBE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B4D7B-F63D-4F65-984A-4A60641A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72A30-CD7C-4BD7-A81B-788467CE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1B4A-4120-4F97-A9DD-F0E4201E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8EC5-0C06-4BB1-BD84-2A9E2674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2A67-E1F6-4648-8454-5AC97C2D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2C80-499C-406F-BB99-0766CCA4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BBC8-1B02-41FF-B82C-5C0C7181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00F7-4CD0-46FC-8EAF-864FC25E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6FC3-1379-475E-9288-110A884D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6050-4FAD-46CF-9DC5-144A1982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5254-CDC4-4382-A0F6-2083C9A3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DB27-D7E7-4924-BE4B-121A06CB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2CEA-692B-49E2-B487-04496273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B9DC-2163-48C0-B029-D33B5FD7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BF84-25F6-4B2B-884B-CE326CB8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FCBC-B90E-4356-872D-3AEEA3EA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4885A-CA02-4419-9F2D-38D0A21D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8010-644B-4DC6-9E57-EBEF4F82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B71B5-DD3C-417F-B6EF-D5917E47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BFCF-5992-46F1-8C8E-F63A8D5E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DDDB-DC13-4AF0-B246-A524FEE9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74CA-B046-4293-8E6E-8D792F41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7DC4-C4F3-4D93-BD08-0BA37DFFAF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A53C-0345-48A9-8A3A-8C051253C2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468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MENTOS DE ETICA POLITICA DEMOCRA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120" y="1989000"/>
            <a:ext cx="772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FUND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FUNCIONAMIENTO SOSTENIBLE DEL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GRAVE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REFUND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22200" y="279360"/>
            <a:ext cx="62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EMPO DE GRAVE CRI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2200" y="1622520"/>
            <a:ext cx="68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RMAS SOBRE REGÍMENES DE EMERG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ECHO INTERNACIONAL HUMA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79360"/>
            <a:ext cx="92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EMPO DE REFUND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5120" y="1479600"/>
            <a:ext cx="56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557360"/>
            <a:ext cx="72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DICIONANTES 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CRI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VIOL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TRAN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7400" y="2080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O TRANSI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840" y="1143000"/>
            <a:ext cx="869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ROTA MILITAR COMP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ASCO MILITAR SIN PÉRDIDA DE CONTROL DE MONOPOLIO DE LAS AR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ROTA POLI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ERTURA GRA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PATE MILI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IANZAS CAMBIANTES EN COMFLICTO QUE CONTINÚ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874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O TRANSI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276640"/>
            <a:ext cx="85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LAPSO DE SISTEMAS TOTALITARI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 DISOLUCION DE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N DISOLUCION DE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FLICTOS ETN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DÁ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5:22:01Z</dcterms:created>
  <dc:creator>carolina</dc:creator>
  <dc:description/>
  <dc:language>en-US</dc:language>
  <cp:lastModifiedBy>claudio</cp:lastModifiedBy>
  <dcterms:modified xsi:type="dcterms:W3CDTF">2004-10-22T13:37:58Z</dcterms:modified>
  <cp:revision>7</cp:revision>
  <dc:subject/>
  <dc:title>Diapositiva 1</dc:title>
</cp:coreProperties>
</file>