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7D9AC-8195-4AD5-886B-3BC736BB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BE2E-FA88-4F15-A808-692C4CD8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A25B7-A646-4939-992B-3F13B05E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D7D5D-1992-410E-84C8-C61364B6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E045-F028-4B42-B244-23773D76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8683-B188-438D-8216-22102267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3AAF-3B11-48BE-A908-DA888827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3C38-0C69-4AF0-8C53-AB8EBDD9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185B-E394-4DE8-B0AE-DD8B16E1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1DA6-0F86-4F79-B130-3B141F26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79AD-FC6F-4C71-95F1-FD569AAD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96BA-73C6-4F27-8C7A-FE3D2977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AE34-A7D7-487C-896C-39C1F7C7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1379-DB16-4AA9-AD4F-528FBD82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D85A-4CFD-485C-9468-D3371A66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3662-5CF4-45E0-9D35-A4614F96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D52C-0F70-4895-B479-1A3804EC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3310-3B38-44F4-AC08-9CB88E63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995E3-BDC2-4FE2-B1BA-4D694D4F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3F053-6F8F-4E7C-BFE1-09778180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1BB45-FBC1-434B-AC5C-F44D407A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FEA3-A3E1-4DB7-96B5-F1FF4499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43E2-6112-40DA-84FA-45FA0DDE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0B526-0B8C-4FB7-A312-04E3328D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3C76-B8A8-4AAA-9FF6-09105575E6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A56A-1EDB-431E-969D-4C42568689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468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MENTOS DE ETICA POLITICA DEMOCRA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5120" y="1989000"/>
            <a:ext cx="772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FUND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FUNCIONAMIENTO SOSTENIBLE DEL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GRAVE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EMPO DE REFUND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22200" y="279360"/>
            <a:ext cx="62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EMPO DE GRAVE CRI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2200" y="1622520"/>
            <a:ext cx="68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RMAS SOBRE REGÍMENES DE EMERG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ECHO INTERNACIONAL HUMA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79360"/>
            <a:ext cx="92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EMPO DE REFUND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5120" y="1479600"/>
            <a:ext cx="56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557360"/>
            <a:ext cx="72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DICIONANTES 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CRI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VIOL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 DE TRAN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7400" y="2080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O TRANSI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840" y="1143000"/>
            <a:ext cx="869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ROTA MILITAR COMP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ASCO MILITAR SIN PÉRDIDA DE CONTROL DE MONOPOLIO DE LAS AR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RROTA POLI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ERTURA GRA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PATE MILI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IANZAS CAMBIANTES EN COMFLICTO QUE CONTINÚ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874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O TRANSI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276640"/>
            <a:ext cx="85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LAPSO DE SISTEMAS TOTALITARI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 DISOLUCION DE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N DISOLUCION DE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FLICTOS ETN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DÁ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5:22:01Z</dcterms:created>
  <dc:creator>carolina</dc:creator>
  <dc:description/>
  <dc:language>en-US</dc:language>
  <cp:lastModifiedBy>claudio</cp:lastModifiedBy>
  <dcterms:modified xsi:type="dcterms:W3CDTF">2004-10-22T13:37:58Z</dcterms:modified>
  <cp:revision>7</cp:revision>
  <dc:subject/>
  <dc:title>Diapositiva 1</dc:title>
</cp:coreProperties>
</file>