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1390-60CF-434E-8F24-58BD29A5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3246-3C98-46B1-BE88-27C22151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44C2-C235-4C8F-9533-D72DCA0C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ECC87-CE7E-411C-9E9E-3ECABD9C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3BBD-DA54-424D-ABAB-3EC2B26B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D350-6226-4B6D-B017-31EBA6A3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0FE2-A162-4452-866F-9487386F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1747-0D7B-49D7-A77F-78FE0ADE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5F48-416B-4B69-A079-E4891B10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4225-77F5-4575-89CA-28D1F554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1C8C-3830-4DB6-8833-AC19BA3C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C4F62-29D4-40ED-B521-3C9C7C59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9B60-78C2-4BD9-B04B-849C97C5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2408-131B-43C9-88BF-4B884F34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211D-54E5-4B1E-BDEF-4C4C3203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2EF7-14C9-4C08-BDC2-7B29229A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693C-F3F1-4815-83E1-A5194015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C1B3-B6CA-4D4B-8F98-32C17FCE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0757-6FA6-45BB-A2FC-40584799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3092-A1A2-4315-9BE8-7EAB340A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5315B-7856-4745-BC2A-EB5EDA75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DC05-8518-41E5-BD85-3E631393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FDF62-A952-4106-8208-30F93DA6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1499-2A01-4297-9647-F57CB2B8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19DB-9343-4E9E-B740-060A541A62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E6D1-A739-4202-B2CF-77F35AFA11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468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MENTOS DE ETICA POLITICA DEMOCRA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120" y="1989000"/>
            <a:ext cx="772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FUND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FUNCIONAMIENTO SOSTENIBLE DEL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GRAVE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REFUND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22200" y="279360"/>
            <a:ext cx="62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EMPO DE GRAVE CRI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2200" y="1622520"/>
            <a:ext cx="68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RMAS SOBRE REGÍMENES DE EMERG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ECHO INTERNACIONAL HUMA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79360"/>
            <a:ext cx="92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EMPO DE REFUND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5120" y="1479600"/>
            <a:ext cx="56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557360"/>
            <a:ext cx="72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DICIONANTES 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CRI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VIOL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TRAN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7400" y="2080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O TRANSI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840" y="1143000"/>
            <a:ext cx="869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ROTA MILITAR COMP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ASCO MILITAR SIN PÉRDIDA DE CONTROL DE MONOPOLIO DE LAS AR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ROTA POLI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ERTURA GRA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PATE MILI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IANZAS CAMBIANTES EN COMFLICTO QUE CONTINÚ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874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O TRANSI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276640"/>
            <a:ext cx="85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LAPSO DE SISTEMAS TOTALITARI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 DISOLUCION DE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N DISOLUCION DE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FLICTOS ETN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DÁ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5:22:01Z</dcterms:created>
  <dc:creator>carolina</dc:creator>
  <dc:description/>
  <dc:language>en-US</dc:language>
  <cp:lastModifiedBy>claudio</cp:lastModifiedBy>
  <dcterms:modified xsi:type="dcterms:W3CDTF">2004-10-22T13:37:58Z</dcterms:modified>
  <cp:revision>7</cp:revision>
  <dc:subject/>
  <dc:title>Diapositiva 1</dc:title>
</cp:coreProperties>
</file>