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5185DEA-668F-48FF-BD29-B9513B0F0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26CE95-223F-45A4-B285-38C315FCA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E534461-818F-4BF1-964A-FA091EF16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9926430-3A01-46D6-9079-6EC69A173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ABED2-FC86-47DD-A437-3C78C0C78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C5B1E-B59E-487F-8DD1-937BD2547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2D3C1-1591-427B-A49D-2524C46C7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09F9E-3315-48B1-954F-F1FB86FDA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76BBE-ED13-44CF-845A-539229F4F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E36C2-99C0-4D81-8ECF-561CF72B0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7A4F7-A882-402A-A105-5354CBFDA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F549FF-3BAF-45A7-A0DD-5A861F719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7294D-3F80-44A3-BF26-7E874E3D5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2FBCB-F25A-47D6-AC75-B3B37058C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8968F-0D26-4125-BC19-260FF7AC3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E29B1-96E0-432A-8B7B-A93B311AA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72C78-CAF6-4E12-9646-6CB3DF0F3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CD5AE7-0C0F-4325-8960-E66A2971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3CAC41-AD4A-4706-91C9-6A4560966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2B36DA1-C34B-4DBE-9F39-A913ED149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D8B064-856C-4A89-9828-A52B24BD7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C4A84E-B795-4384-A141-3AC99EF9E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DE745F-8182-43FD-A6EB-F7CB0C99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4CF444-BDFE-4BE3-A741-8C532D8BA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B39F-624C-4A88-861D-93CF72BF390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9798-614D-4D18-8305-BFFF0D77225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ppalacio</cp:lastModifiedBy>
  <dcterms:modified xsi:type="dcterms:W3CDTF">2004-10-21T15:16:32Z</dcterms:modified>
  <cp:revision>6</cp:revision>
  <dc:subject/>
  <dc:title>Diapositiva 1</dc:title>
</cp:coreProperties>
</file>