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136-2DA6-4A4A-AEFE-18985D3D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CF6-11C4-4A48-9CEA-AE433430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4702-9E54-44AE-B855-4327CF1B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804-7127-44E4-B25A-27F7D9EF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8564-B5EB-4797-A3F1-1CFA4D6F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3B38-1ED4-4ECE-BE26-5DA480D4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7705-84B8-4CB0-BDE3-7987C080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7FF9-E50E-45C4-9553-C1A1FBC6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7101-23DC-42F6-84EB-92D89AEF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D2F0-1A2F-45A1-B902-5B8C610C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1055-6D5C-4D0A-8543-CFECCE96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FF1-488A-4769-993E-D09F55B5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97A2-0714-4DE9-99EA-45C22A2C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31A2-BF3B-4DDC-A365-F211F45C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625B-1E0B-4707-8897-92F41396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9B06-768E-46AB-899A-2217CE46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FDEB-48A1-4E35-9D52-508111D0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5E2-A2BF-4DCF-8C73-486E064A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95E-F000-4866-9C21-AD6EF6D0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899-738D-47FA-B5C5-0E2EDE90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A7C-23D6-49C3-8C19-F5DE796B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AA0-64CB-4FB6-A6F3-609DCD1F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77D-1E72-408C-848C-DA3D1600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95F-0BF4-42D3-B17B-E3195A91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3159-B6A8-4077-A9A4-80EE9F7A388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F0D0-EFBC-4450-9639-D693DDAE6CA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993400" y="47628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US AD BEL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200" y="1197000"/>
            <a:ext cx="8367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derecho a recurrir a la guerra o Teorías de la Guerra ju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ue materia generalmente ajena al derecho internacional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tada por filósofos, moralistas y publicis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incorpora al D. Internacional como un “Ius Contra Bellum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tado de París (Pacto Kellog-Briand, de 192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ta de ONU, Cap. V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leo de fuerza con fines defens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torización por parte del Consejo de Seguridad de la ONU pa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guardar o restablecer la pa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9640" y="907920"/>
            <a:ext cx="722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ATE ETICO-POLÍTICO SOBRE LEGITIM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INTERVENCION HUMANI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8240" y="2349360"/>
            <a:ext cx="3877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ridad legít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sa Ju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ta Inten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cesidad o “último recurs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cion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45320" y="614520"/>
            <a:ext cx="329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ción, por extensión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840" y="1406520"/>
            <a:ext cx="486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belión armada contra el gobier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la Fuerz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urso a la fuerza entre partic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4120" y="3495600"/>
            <a:ext cx="72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ción por analogía a medidas extremas que no supo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la fuerz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97400" y="404640"/>
            <a:ext cx="583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CIONES PARA DEBATE SOBR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ERRA ANTI-TERRORIST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3760" y="1989000"/>
            <a:ext cx="8368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EMENTOS DEL CONCEPTO DE “TERRORISM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so o amenaza de uso de la fuer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lanco:  civiles o uso de la fuerza de modo indiscrimi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jetivo político – ideoló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úsqueda de efecto político por medios indirectos que provoqu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ilitamiento o sobrerreacción del Est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pel esencial de la public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63240" y="974880"/>
            <a:ext cx="6547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RORISMO” COMO NOCIÓN APLICADA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o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upos u organizaciones o Estados (“terrorista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rategias o guer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702080" y="404640"/>
            <a:ext cx="55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TIVA ANTITERROR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7840" y="1406520"/>
            <a:ext cx="835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tratados internacionales, entre ell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estro de aeronaves (197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ímenes contra personas internacionalmente protegidas (197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a de rehenes (197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cción de material nuclear (198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bombas y explosivos en lugares públicos (199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miento del Terro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tados regionales (Europa, América, mundo árab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nción Interamericana Contra el Terrorismo (3.6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04640" y="13644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ANTES NORM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14040" y="836640"/>
            <a:ext cx="8818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umerar actos terr., no definir terro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blecer obligaciones de tipifi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ligación de adoptar medidas de prevención, castigo y errad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ligaciones especiales respecto de financiamiento y lavado de di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operación policial, fronteriza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egar al terrorismo carácter de crimen pol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permite invocar estatus de refugiado o asilado (extradición es siemp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si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urisdicción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699200" y="333360"/>
            <a:ext cx="43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NUEVO TERRORISM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800" y="1550880"/>
            <a:ext cx="4063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ertado dentro de es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es interna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bicu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n capacidad de devas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73720" y="476280"/>
            <a:ext cx="53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GUERRA ANTITERRORIST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7200" y="1479600"/>
            <a:ext cx="7189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efensa preventi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efensa anticipator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uración ilimitad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Redefinición de principios o reglas de Derecho Humanitari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6:07:14Z</dcterms:created>
  <dc:creator>carolina</dc:creator>
  <dc:description/>
  <dc:language>en-US</dc:language>
  <cp:lastModifiedBy>jzalaq</cp:lastModifiedBy>
  <dcterms:modified xsi:type="dcterms:W3CDTF">2004-10-06T20:01:53Z</dcterms:modified>
  <cp:revision>5</cp:revision>
  <dc:subject/>
  <dc:title>Diapositiva 1</dc:title>
</cp:coreProperties>
</file>