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B45-E29C-4CB8-B159-7B50E12D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0D2-176E-4E93-A6A4-95C54838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C06-4AF3-4AED-8E6B-FC6EE99D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8F4-0ACD-4E0C-8475-C123AFAB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1FEA-9E24-4188-B3AF-29DFB73C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2A92-AFCF-43F5-ACEC-A5B9AE6A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1FAB-1FAE-4918-BB78-41D59212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E4FE-329F-4209-8966-E28D0A3A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DD84-A7FA-44F8-9E41-C446D272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E70A-A44B-4727-9D77-9503CC06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32DD-46A6-4839-AC94-E5B9393E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185-EF15-45DD-B6C2-5521AF9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19D2-DB62-4D23-947F-5737300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62A1-6782-4821-853A-F2656FF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876C-12F4-4B73-AF55-AA96B96A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EE20-2609-4D8F-BFA5-C7EBA2F2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8801-B0FD-4059-B48B-35141360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7DC-F596-44DE-A778-37B93E91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F27-5A2F-49C5-B2E4-EDCDCFC0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385-FD7B-40F4-904C-E8DA8EB4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D03-8C53-4A8E-930B-446CC83D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2DF-233C-4154-B099-F52A2937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00F-8469-4572-B71F-079ACD05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5D8-5D60-44EB-9144-FA452C79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E54C-9661-4BFB-992D-4703B41BBD1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3A58-72F5-474F-A5F0-B9863DD8184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93400" y="47628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US AD BEL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200" y="1197000"/>
            <a:ext cx="8367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derecho a recurrir a la guerra o Teorías de la Guerr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materia generalmente ajena al derecho internacion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a por filósofos, moralistas y publicis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incorpora al D. Internacional como un “Ius Contra Bellu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o de París (Pacto Kellog-Briand, de 192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ta de ONU, Cap. V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leo de fuerza con fines defens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torización por parte del Consejo de Seguridad de la ONU pa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guardar o restablecer la pa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907920"/>
            <a:ext cx="72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ATE ETICO-POLÍTICO SOBRE LEGITIM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INTERVENCION HUMANI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8240" y="2349360"/>
            <a:ext cx="3877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ridad legí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a Inten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cesidad o “último recurs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45320" y="614520"/>
            <a:ext cx="32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, por extensión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840" y="1406520"/>
            <a:ext cx="486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belión armada contra el gobie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so a la fuerza entre parti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4120" y="3495600"/>
            <a:ext cx="72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 por analogía a medidas extremas que no supo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97400" y="404640"/>
            <a:ext cx="583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ONES PARA DEBATE SOBR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ERRA ANTI-TERRORIST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3760" y="1989000"/>
            <a:ext cx="8368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EMENTOS DEL CONCEPTO DE “TERRORISM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so o amenaza de uso de la fuer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lanco:  civiles o uso de la fuerza de modo indiscri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jetivo político – ideo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úsqueda de efecto político por medios indirectos que provoqu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ilitamiento o sobrerreacción del Est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pel esencial de la publ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63240" y="974880"/>
            <a:ext cx="654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ORISMO” COMO NOCIÓN APLICADA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o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os u organizaciones o Estados (“terrorista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rategias o guer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02080" y="404640"/>
            <a:ext cx="55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TIVA ANTITERROR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7840" y="1406520"/>
            <a:ext cx="835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tratados internacionales, entre ell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estro de aeronaves (19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ímenes contra personas internacionalmente protegidas (197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a de rehenes (197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ción de material nuclear (19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bombas y explosivos en lugares públicos (199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miento del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dos regionales (Europa, América, mundo árab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nción Interamericana Contra el Terrorismo (3.6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04640" y="1364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ANTES NORM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4040" y="836640"/>
            <a:ext cx="8818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umerar actos terr., no definir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blecer obligaciones de tipifi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ón de adoptar medidas de prevención, castigo y errad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ones especiales respecto de financiamiento y lavado de 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policial, fronteriza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gar al terrorismo carácter de crimen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permite invocar estatus de refugiado o asilado (extradición es siemp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99200" y="333360"/>
            <a:ext cx="43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NUEVO TERRORISM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800" y="1550880"/>
            <a:ext cx="4063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ertado dentro de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es intern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bicu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 capacidad de devas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73720" y="476280"/>
            <a:ext cx="53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GUERRA ANTITERRORIS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7200" y="1479600"/>
            <a:ext cx="7189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preventi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anticipator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uración ilimitad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Redefinición de principios o reglas de Derecho Humanitari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6:07:14Z</dcterms:created>
  <dc:creator>carolina</dc:creator>
  <dc:description/>
  <dc:language>en-US</dc:language>
  <cp:lastModifiedBy>jzalaq</cp:lastModifiedBy>
  <dcterms:modified xsi:type="dcterms:W3CDTF">2004-10-06T20:01:53Z</dcterms:modified>
  <cp:revision>5</cp:revision>
  <dc:subject/>
  <dc:title>Diapositiva 1</dc:title>
</cp:coreProperties>
</file>