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7C1-1FAD-4390-A226-B41F8AA3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B93-ADF8-402C-8EDB-454A9126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50E-7C55-4A54-930A-3C0A958F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201-412C-4709-AE31-A16ACCDC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C3F5-53C6-4F7D-BD03-B9DC7C17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EBDC-0477-4E4C-AD9D-35EDD6D7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EFFF-E66F-4F51-BAF7-68B425B1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C8BF-CE88-42EC-A673-EE9DE9BC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F1B4-9B0C-4B66-8761-061799F9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6F91-F73F-45E6-9E99-3AE6C72D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9E1C-D54C-48BB-9FB4-AC4DC874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FC8-6311-42EA-B373-C0A1F4B3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88B3-D90A-4AC4-94DC-7CD5047C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EB47-A08C-44EB-A41B-02E9ACD2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24B9-572A-4E18-8E11-9E3800AD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FCEE-7AB9-435B-A7BC-3274AC2B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918D-5206-4340-91FE-AB83A0D3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03C-9717-43AF-88A2-A227B53E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49A-6B5A-4676-A1E7-59BFC597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7BA-5701-4F03-BC52-95494CC0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A01-14D4-4B8E-AB89-09EC6D34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E43-BB4E-4963-91BC-62599067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2FD-A187-4261-B854-234D58AE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95D-872E-423F-AE30-618A03A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6560-0377-43B0-90EC-461DD6CCF5D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EA91-CCFB-4977-95B4-87B24AF402F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93400" y="47628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US AD BEL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200" y="1197000"/>
            <a:ext cx="8367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derecho a recurrir a la guerra o Teorías de la Guerr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materia generalmente ajena al derecho internacion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a por filósofos, moralistas y publicis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incorpora al D. Internacional como un “Ius Contra Bellu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o de París (Pacto Kellog-Briand, de 192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ta de ONU, Cap. V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leo de fuerza con fines defens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torización por parte del Consejo de Seguridad de la ONU pa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guardar o restablecer la pa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907920"/>
            <a:ext cx="72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ATE ETICO-POLÍTICO SOBRE LEGITIM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INTERVENCION HUMANI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8240" y="2349360"/>
            <a:ext cx="3877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ridad legí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a Inten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cesidad o “último recurs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45320" y="614520"/>
            <a:ext cx="32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, por extensión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840" y="1406520"/>
            <a:ext cx="486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belión armada contra el gobie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so a la fuerza entre parti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4120" y="3495600"/>
            <a:ext cx="72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 por analogía a medidas extremas que no supo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97400" y="404640"/>
            <a:ext cx="583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ONES PARA DEBATE SOBR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ERRA ANTI-TERRORIST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3760" y="1989000"/>
            <a:ext cx="8368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EMENTOS DEL CONCEPTO DE “TERRORISM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so o amenaza de uso de la fuer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lanco:  civiles o uso de la fuerza de modo indiscri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jetivo político – ideo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úsqueda de efecto político por medios indirectos que provoqu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ilitamiento o sobrerreacción del Est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pel esencial de la publ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63240" y="974880"/>
            <a:ext cx="654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ORISMO” COMO NOCIÓN APLICADA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o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os u organizaciones o Estados (“terrorista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rategias o guer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02080" y="404640"/>
            <a:ext cx="55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TIVA ANTITERROR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7840" y="1406520"/>
            <a:ext cx="835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tratados internacionales, entre ell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estro de aeronaves (19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ímenes contra personas internacionalmente protegidas (197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a de rehenes (197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ción de material nuclear (19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bombas y explosivos en lugares públicos (199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miento del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dos regionales (Europa, América, mundo árab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nción Interamericana Contra el Terrorismo (3.6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04640" y="1364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ANTES NORM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4040" y="836640"/>
            <a:ext cx="8818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umerar actos terr., no definir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blecer obligaciones de tipifi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ón de adoptar medidas de prevención, castigo y errad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ones especiales respecto de financiamiento y lavado de 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policial, fronteriza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gar al terrorismo carácter de crimen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permite invocar estatus de refugiado o asilado (extradición es siemp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99200" y="333360"/>
            <a:ext cx="43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NUEVO TERRORISM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800" y="1550880"/>
            <a:ext cx="4063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ertado dentro de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es intern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bicu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 capacidad de devas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73720" y="476280"/>
            <a:ext cx="53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GUERRA ANTITERRORIS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7200" y="1479600"/>
            <a:ext cx="7189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preventi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anticipator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uración ilimitad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Redefinición de principios o reglas de Derecho Humanitari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6:07:14Z</dcterms:created>
  <dc:creator>carolina</dc:creator>
  <dc:description/>
  <dc:language>en-US</dc:language>
  <cp:lastModifiedBy>jzalaq</cp:lastModifiedBy>
  <dcterms:modified xsi:type="dcterms:W3CDTF">2004-10-06T20:01:53Z</dcterms:modified>
  <cp:revision>5</cp:revision>
  <dc:subject/>
  <dc:title>Diapositiva 1</dc:title>
</cp:coreProperties>
</file>