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49B-6625-40AA-A684-D16620C9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40BA-6019-44F1-A36E-DA1AD753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C656-7782-408A-B5AD-E2D821E4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FCE-0D3A-49B8-B786-7D20D499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80BA-E17C-490E-BBEC-D6B22D13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2C8C-8D62-4F82-BAD8-628363EA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1DFC-7567-4DEA-93C4-69C6A78A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4FE8-FA54-41D1-85B1-3AD4C1D8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CD22-C2F3-4CD5-899F-AD826754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C13B-C3F5-49B0-AAE3-4323DE62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3381-B0C2-404D-B29A-444CE460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CE04-D23E-4BDA-AFAC-F6D42D25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3A04-4107-45AA-B5ED-87FFB9A5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0B52-33FB-45BD-8EA1-AA555E93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C21D-9401-492F-AF97-7D1E05C4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64B1-D804-424B-A128-76DA0F72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551E-CAAE-40C2-A38C-5CAA45E0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D961-4F2F-4FDA-B379-FFB238B3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BD89-FAA0-47DD-ADD0-008E5746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FD6-55F6-4900-97B0-84CFF520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4DF-CF23-4706-A084-81D70E06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DC1-F095-4E03-B3ED-9F3EC09D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A0F-4F39-4BB3-B7B0-A75F16B1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6DA-D7A2-472E-B0A5-8DB22188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894A-E4BF-42D5-9B77-609EDBFBEF9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8721-013C-4A00-9068-6D0483C0D4D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993400" y="47628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US AD BEL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5200" y="1197000"/>
            <a:ext cx="8367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derecho a recurrir a la guerra o Teorías de la Guerra ju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ue materia generalmente ajena al derecho internacional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tada por filósofos, moralistas y publicis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incorpora al D. Internacional como un “Ius Contra Bellum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tado de París (Pacto Kellog-Briand, de 192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ta de ONU, Cap. V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leo de fuerza con fines defens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torización por parte del Consejo de Seguridad de la ONU pa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guardar o restablecer la pa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9640" y="907920"/>
            <a:ext cx="722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BATE ETICO-POLÍTICO SOBRE LEGITIM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INTERVENCION HUMANI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8240" y="2349360"/>
            <a:ext cx="3877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ridad legít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usa Ju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ta Inten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cesidad o “último recurs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rcion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45320" y="614520"/>
            <a:ext cx="329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licación, por extensión 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0840" y="1406520"/>
            <a:ext cx="486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belión armada contra el gobier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de la Fuerza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urso a la fuerza entre particu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4120" y="3495600"/>
            <a:ext cx="72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licación por analogía a medidas extremas que no supon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de la fuerz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97400" y="404640"/>
            <a:ext cx="583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CIONES PARA DEBATE SOBRE 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ERRA ANTI-TERRORIST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3760" y="1989000"/>
            <a:ext cx="8368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EMENTOS DEL CONCEPTO DE “TERRORISM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so o amenaza de uso de la fuer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lanco:  civiles o uso de la fuerza de modo indiscrimi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jetivo político – ideológ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úsqueda de efecto político por medios indirectos que provoqu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ilitamiento o sobrerreacción del Esta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pel esencial de la public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63240" y="974880"/>
            <a:ext cx="6547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RORISMO” COMO NOCIÓN APLICADA 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o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upos u organizaciones o Estados (“terroristas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rategias o guer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702080" y="404640"/>
            <a:ext cx="55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ATIVA ANTITERROR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7840" y="1406520"/>
            <a:ext cx="835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tratados internacionales, entre ell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estro de aeronaves (197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ímenes contra personas internacionalmente protegidas (197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ma de rehenes (197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cción de material nuclear (198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de bombas y explosivos en lugares públicos (199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nciamiento del Terro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tados regionales (Europa, América, mundo árab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nción Interamericana Contra el Terrorismo (3.6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04640" y="13644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ANTES NORM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14040" y="836640"/>
            <a:ext cx="8818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umerar actos terr., no definir terro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ablecer obligaciones de tipifi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ligación de adoptar medidas de prevención, castigo y erradi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ligaciones especiales respecto de financiamiento y lavado de din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operación policial, fronteriza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egar al terrorismo carácter de crimen polí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permite invocar estatus de refugiado o asilado (extradición es siemp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sib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urisdicción univer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699200" y="333360"/>
            <a:ext cx="43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NUEVO TERRORISM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800" y="1550880"/>
            <a:ext cx="4063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ertado dentro de es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es interna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bicu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i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n capacidad de devas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73720" y="476280"/>
            <a:ext cx="53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GUERRA ANTITERRORIST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7200" y="1479600"/>
            <a:ext cx="7189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Defensa preventi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Defensa anticipator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Duración ilimitad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Redefinición de principios o reglas de Derecho Humanitari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6:07:14Z</dcterms:created>
  <dc:creator>carolina</dc:creator>
  <dc:description/>
  <dc:language>en-US</dc:language>
  <cp:lastModifiedBy>jzalaq</cp:lastModifiedBy>
  <dcterms:modified xsi:type="dcterms:W3CDTF">2004-10-06T20:01:53Z</dcterms:modified>
  <cp:revision>5</cp:revision>
  <dc:subject/>
  <dc:title>Diapositiva 1</dc:title>
</cp:coreProperties>
</file>