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B00-D46C-4013-856A-E9C8E359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7C1-21F6-444B-A2E1-1663C037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2FE-3A3D-44D2-9832-7E129C5E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D3A-712D-491A-853E-1D4E7B59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2923-9C57-4918-A9AA-CDD34DE3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C7CF-F180-4D1F-A1A3-4A7C97AB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1CBE-0883-42AE-9873-9F007F42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AD56-89A6-4FC2-A6CD-F0168BC2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7826-1A6B-4A5F-8FF3-C87AAF9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DD44-042E-4875-B87D-769D74CD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2331-1666-48F9-83D9-742CE1C3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0FE-4C5C-4E2D-84A0-8C10FA74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B8AB-984B-45ED-AB71-0BD178A6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78CF-6DE8-4BA2-802D-4E706D6B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CB76-CD8B-4213-A102-8CBDE584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6C58-4AC8-4045-B70C-8752AC63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FBFB-AEBA-445F-9672-3D36D0DA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315-3525-44C9-A0A8-63972B7D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AA0-03DE-44EA-9650-E26AE29B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51F-A5F2-4D03-BE7D-8B7EBEE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F84-BF73-4F6F-8815-F7FD2CEF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84D-2471-44D0-A89D-403315B1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F84-3916-461E-A370-84D980F4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1F5-4B38-4D3B-B561-F87DD58E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4F4A-E913-4B4D-BF84-2F4F1F21F2A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EC54-D622-4D35-A574-E6D57B60A43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93400" y="47628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US AD BEL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200" y="1197000"/>
            <a:ext cx="8367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derecho a recurrir a la guerra o Teorías de la Guerr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materia generalmente ajena al derecho internacion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a por filósofos, moralistas y publicis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incorpora al D. Internacional como un “Ius Contra Bellu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o de París (Pacto Kellog-Briand, de 192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ta de ONU, Cap. V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leo de fuerza con fines defens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torización por parte del Consejo de Seguridad de la ONU pa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guardar o restablecer la pa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907920"/>
            <a:ext cx="72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ETICO-POLÍTICO SOBRE LEGITIM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INTERVENCION HUMA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8240" y="2349360"/>
            <a:ext cx="3877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ridad legí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 Int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idad o “último recurs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45320" y="614520"/>
            <a:ext cx="32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, por extensión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840" y="1406520"/>
            <a:ext cx="486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belión armada contra el gobie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o a la fuerza entre parti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4120" y="3495600"/>
            <a:ext cx="72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 por analogía a medidas extremas que no supo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97400" y="40464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ONES PARA DEBATE SOBR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ERRA ANTI-TERRORIS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3760" y="1989000"/>
            <a:ext cx="836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EMENTOS DEL CONCEPTO DE “TERROR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so o amenaza de uso de la fuer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lanco:  civiles o uso de la fuerza de modo indiscri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jetivo político – ideo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úsqueda de efecto político por medios indirectos que provoqu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ilitamiento o sobrerreacción del Est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pel esencial de la 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63240" y="974880"/>
            <a:ext cx="654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ORISMO” COMO NOCIÓN APLICADA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o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u organizaciones o Estados (“terrorista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rategias o guer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02080" y="404640"/>
            <a:ext cx="55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TIVA ANTITERROR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840" y="1406520"/>
            <a:ext cx="835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tratados internacionales, entre ell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estro de aeronaves (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ímenes contra personas internacionalmente protegidas (197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a de rehenes (197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ción de material nuclear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bombas y explosivos en lugares públicos (19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miento del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dos regionales (Europa, América, mundo árab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ción Interamericana Contra el Terrorismo (3.6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04640" y="136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ANTES NORM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4040" y="836640"/>
            <a:ext cx="881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umerar actos terr., no definir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blecer obligaciones de tipifi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ón de adoptar medidas de prevención, castigo y errad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ones especiales respecto de financiamiento y lavado de 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policial, fronteriz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gar al terrorismo carácter de crimen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permite invocar estatus de refugiado o asilado (extradición es siemp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99200" y="333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NUEVO TERRORISM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800" y="1550880"/>
            <a:ext cx="406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rtado dentro de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es intern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ic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 capacidad de devas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73720" y="476280"/>
            <a:ext cx="53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GUERRA ANTITERRORIS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7200" y="1479600"/>
            <a:ext cx="7189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preventi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anticipator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uración ilimitad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Redefinición de principios o reglas de Derecho Humanitar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6:07:14Z</dcterms:created>
  <dc:creator>carolina</dc:creator>
  <dc:description/>
  <dc:language>en-US</dc:language>
  <cp:lastModifiedBy>jzalaq</cp:lastModifiedBy>
  <dcterms:modified xsi:type="dcterms:W3CDTF">2004-10-06T20:01:53Z</dcterms:modified>
  <cp:revision>5</cp:revision>
  <dc:subject/>
  <dc:title>Diapositiva 1</dc:title>
</cp:coreProperties>
</file>