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5685-46C3-4720-A316-99D02E09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2F2-4954-4C25-8F42-DEA7CC57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4EC-D236-4123-A473-566190CF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D43-41A2-4A5D-A6F0-F12C6283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6AB7-700A-4EC3-9C0E-7EE50314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917D-7F3D-4BC3-9DF9-5CF85177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9E17-08E4-4204-B8AE-48C7A947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93F0-3C73-4B39-995B-F0975BCF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DE20-8FE6-4035-985C-CE03B2D4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AA64-C918-49AD-BB47-81373FEB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C5A8-88FF-4CE9-B717-AC604014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573D-AC03-4A8F-A2EE-B52D132E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EB10-6E0B-40CB-89C2-E694BCCB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6AF2-693F-4AEA-A5A3-444B7531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11E8-9F0D-43DD-B186-E155C0D1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3BD1-46FB-4D9A-9CDC-4C806019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BBD2-D351-4952-9A34-CBC01853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3FC-F0A1-48D6-A305-D5C31E70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02C-B609-4AE5-926A-B5F053EE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321-F15D-47C7-94E4-0816AF83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CAF-7462-43AA-9A3A-C8623062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4E8-2DA2-4BDA-B1D5-B0DFE6C4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52BE-0417-4213-A808-9D4B1CB2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5AB-15EB-418E-A8CA-38005AF8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31DF-2EB8-4E23-826D-AF73CFBA1F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6D60-D076-44D6-87CA-D51115DD1F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40000" y="404640"/>
            <a:ext cx="837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E POST GUERRA F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ANSIÓN AGENDA DE DERECHOS HUMANOS Y TEMAS AF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72640" y="1719360"/>
            <a:ext cx="4709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ición a la democra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sticia Penal Inter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evo Impulso a temas especí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84800" y="3548160"/>
            <a:ext cx="556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rechos de la mujer, de pueblos indígen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 niño, de discapacitados, etc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rechos económicos, sociales y cultu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4320" y="5157720"/>
            <a:ext cx="79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encia de movimiento pro transparencia y probidad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contra  la corru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843280" y="692280"/>
            <a:ext cx="496872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20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3280" y="2060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03280" y="2708280"/>
            <a:ext cx="64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270828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0920" y="33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71640" y="335772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71640" y="4005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400536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4653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4653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40360" y="522936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88000" y="522936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580536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35640" y="5805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5640" y="645336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26920" y="2060640"/>
            <a:ext cx="7207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-36360" y="5157720"/>
            <a:ext cx="92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5516640"/>
            <a:ext cx="2160360" cy="79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8000" y="5516640"/>
            <a:ext cx="208764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32000" y="5373720"/>
            <a:ext cx="2232000" cy="79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50920" y="2205000"/>
            <a:ext cx="576000" cy="374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47640" y="2276640"/>
            <a:ext cx="863640" cy="36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40000" y="2060640"/>
            <a:ext cx="71928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908000" y="2276640"/>
            <a:ext cx="432000" cy="36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59280" y="2276640"/>
            <a:ext cx="936360" cy="36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2060640"/>
            <a:ext cx="93636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132000" y="2349360"/>
            <a:ext cx="648000" cy="34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16360" y="2276640"/>
            <a:ext cx="647640" cy="35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80000" y="2060640"/>
            <a:ext cx="93672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32360" y="5661000"/>
            <a:ext cx="2160720" cy="792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932000" y="2276640"/>
            <a:ext cx="647640" cy="37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16720" y="2349360"/>
            <a:ext cx="576360" cy="374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4360" y="5300640"/>
            <a:ext cx="16574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1640" y="2133720"/>
            <a:ext cx="865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164360" y="2349360"/>
            <a:ext cx="287280" cy="331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17080" y="2276640"/>
            <a:ext cx="502920" cy="33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6524640"/>
            <a:ext cx="1565280" cy="318960"/>
          </a:xfrm>
          <a:custGeom>
            <a:avLst/>
            <a:gdLst/>
            <a:ahLst/>
            <a:rect l="l" t="t" r="r" b="b"/>
            <a:pathLst>
              <a:path w="986" h="201">
                <a:moveTo>
                  <a:pt x="0" y="201"/>
                </a:moveTo>
                <a:cubicBezTo>
                  <a:pt x="67" y="103"/>
                  <a:pt x="221" y="82"/>
                  <a:pt x="333" y="61"/>
                </a:cubicBezTo>
                <a:cubicBezTo>
                  <a:pt x="459" y="65"/>
                  <a:pt x="881" y="0"/>
                  <a:pt x="986" y="20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41400" y="5405400"/>
            <a:ext cx="549360" cy="1289160"/>
          </a:xfrm>
          <a:custGeom>
            <a:avLst/>
            <a:gdLst/>
            <a:ahLst/>
            <a:rect l="l" t="t" r="r" b="b"/>
            <a:pathLst>
              <a:path w="346" h="812">
                <a:moveTo>
                  <a:pt x="0" y="0"/>
                </a:moveTo>
                <a:cubicBezTo>
                  <a:pt x="73" y="12"/>
                  <a:pt x="131" y="35"/>
                  <a:pt x="192" y="77"/>
                </a:cubicBezTo>
                <a:cubicBezTo>
                  <a:pt x="229" y="131"/>
                  <a:pt x="271" y="176"/>
                  <a:pt x="308" y="230"/>
                </a:cubicBezTo>
                <a:cubicBezTo>
                  <a:pt x="312" y="243"/>
                  <a:pt x="316" y="256"/>
                  <a:pt x="320" y="269"/>
                </a:cubicBezTo>
                <a:cubicBezTo>
                  <a:pt x="328" y="294"/>
                  <a:pt x="346" y="345"/>
                  <a:pt x="346" y="345"/>
                </a:cubicBezTo>
                <a:cubicBezTo>
                  <a:pt x="336" y="497"/>
                  <a:pt x="339" y="675"/>
                  <a:pt x="167" y="729"/>
                </a:cubicBezTo>
                <a:cubicBezTo>
                  <a:pt x="105" y="770"/>
                  <a:pt x="83" y="812"/>
                  <a:pt x="26" y="75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24360" y="1052640"/>
            <a:ext cx="1727280" cy="57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51280" y="5950080"/>
            <a:ext cx="50418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850920" y="1341360"/>
            <a:ext cx="1873080" cy="489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451640" y="1413000"/>
            <a:ext cx="1441440" cy="48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79640" y="765000"/>
            <a:ext cx="3024000" cy="503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5445000"/>
            <a:ext cx="5689440" cy="115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35280" y="112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331640" y="1125360"/>
            <a:ext cx="647640" cy="475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03640" y="1125360"/>
            <a:ext cx="1944720" cy="496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834200" y="333360"/>
            <a:ext cx="58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ÉTICA POLÍTICA: DISTINTOS TIEM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5400" y="1119240"/>
            <a:ext cx="69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uestos: Estado – nación moderno, sistema democr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1320" y="2127240"/>
            <a:ext cx="578448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IEMPO FUNDACIONAL O CONSTITU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iempo históricamente concentr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ceso histórico y momento mí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incipios fund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titución Polí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67640" y="404640"/>
            <a:ext cx="803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EMPO DE FUNCIONAMIENTO SUSTENTABLE DEL OR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RÍDICO - POLÍ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4200" y="1622520"/>
            <a:ext cx="645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ES CUESTIONES DE ÉTICA POLÍTI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25880" y="2108160"/>
            <a:ext cx="720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– abuso de la fuerza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idad vs. Corru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idad de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íticas públicas de largo alcance: justicia social, igual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oport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4360" y="494172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05440" y="5373720"/>
            <a:ext cx="259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do de Der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ech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89080" y="333360"/>
            <a:ext cx="85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EMPO DE CRISIS QUE PONEN EN PELIGRO LA SUBSIS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 OR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6200" y="1413000"/>
            <a:ext cx="580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isis polít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isis Econó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16000" y="2133720"/>
            <a:ext cx="13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9320" y="2708280"/>
            <a:ext cx="335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ímenes de Exce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yes de Guerra (DI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4760" y="4221000"/>
            <a:ext cx="67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.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EMPO DE RECONSTRUCCIÓN O REFUND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93400" y="4797360"/>
            <a:ext cx="427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aboración ético – jurídica en ges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ado – presente – futu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57200" y="47628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O POST 11/9/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15760" y="1576440"/>
            <a:ext cx="7864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ual reordenamiento orden m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dencia unip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efiniciones de concepto de seguridad y de amenazas a la segu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tos de redefinición de conflicto armado y de derecho humanit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tricciones adicionales a ciertos derech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47440" y="307800"/>
            <a:ext cx="75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OLUCION HISTORICA DE LA NORMATIVA DE DERECH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91960" y="1268280"/>
            <a:ext cx="6248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tecedentes históricos remotos (pres S. XV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undamentación filosófica (a partir S. XV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sitivación (a partir fines s. XV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tensión o generalización (a partir siglo X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ansión (a partir mediados siglo X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rnacionalización (decididamente, a partir 194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pecificación (a partir aprox. Años ’7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puestos derechos colectivos (a partir aprox. Años ’7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ulso a justicia internacional ( a partir años 8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77080" y="404640"/>
            <a:ext cx="61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TROS CRITERIOS SOBRE EVOLU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ÓRICA DE LOS DD.H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8280" y="1766880"/>
            <a:ext cx="49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pos de documentos en que const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30720" y="2440080"/>
            <a:ext cx="5069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uerdos histór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claraciones fund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stituciones y le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tados y otros instrumentos interna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32600" y="495360"/>
            <a:ext cx="52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quién se exige cumpl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98040" y="1360440"/>
            <a:ext cx="7240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monar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Estado – Nación mod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Estado – Nación moderno y de la comunidad intern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entes no esta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79640" y="620640"/>
            <a:ext cx="47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¿”GENERACIONES” DE DERECHO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1480" y="1484280"/>
            <a:ext cx="853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ª. Civiles y políticos  (incluidos derechos políticos propiamente ta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2ª. Derechos Económicos Sociales y Culturales, DESC (par algunos, la 2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en. = derechos políticos propiamente ta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ª.   - Derechos de especificación, o b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 Derechos cole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Para algunos, los DESC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77280" y="4716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1320" y="1073160"/>
            <a:ext cx="1863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DER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ER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ormativ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141720"/>
            <a:ext cx="712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20000" y="335772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AL VS, E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414972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441180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MENSIONES DE LA M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5120" y="4941720"/>
            <a:ext cx="466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 SOCIAL, POSITIVA O VIG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 NORM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 AUTÓNO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835280" y="1844640"/>
            <a:ext cx="3024000" cy="3168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95640" y="1989000"/>
            <a:ext cx="3240360" cy="302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11280" y="2997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94000" y="2984400"/>
            <a:ext cx="6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55640" y="476280"/>
            <a:ext cx="41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ORÍAS DE ÉTICA NORM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03280" y="1125360"/>
            <a:ext cx="251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ONT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E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08560" y="2440080"/>
            <a:ext cx="57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JUSTO – CORRECTO, VS. ÚLTIMAMENTE BUE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3141720"/>
            <a:ext cx="64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50760" y="352116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ES POSIBLE JUSTIFICAR RACIONALMENTE LOS JUIC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653000"/>
            <a:ext cx="64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6200" y="4960800"/>
            <a:ext cx="67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UNAS LIMITACIONES DE LAS NORMAS PRESCRIP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59280" y="5445000"/>
            <a:ext cx="177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N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22:15:48Z</dcterms:created>
  <dc:creator>carolina</dc:creator>
  <dc:description/>
  <dc:language>en-US</dc:language>
  <cp:lastModifiedBy>carolina</cp:lastModifiedBy>
  <dcterms:modified xsi:type="dcterms:W3CDTF">2004-08-10T16:22:26Z</dcterms:modified>
  <cp:revision>20</cp:revision>
  <dc:subject/>
  <dc:title>Diapositiva 1</dc:title>
</cp:coreProperties>
</file>